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CA4E-E312-40C7-98AD-6015E29CB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C16D-C5A9-4C86-AE0A-ABBFF57F6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F77F-84BA-4B29-BCDD-4F8AEE4D5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4CE3-793A-45E5-9F08-CD1F88D2B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B58D-00E6-4994-8671-5E5B9F218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28C1-4B8E-4693-9F99-D3D2C235D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AE1D-A680-4AE2-9674-0CF79DEBD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21D6-660D-42C8-9507-761F72478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6486-23B4-4DFA-9B3D-683B81E2A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0B77-7057-43CE-9269-7AC45EC3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584C-A589-41E2-BFC7-8AAF5981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2A0B-17FC-4B28-B829-C6B7BAA6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26C5E-1A2D-4EA7-AB4E-C92DAECC4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m-up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with your group to find the area of the compound figure on your des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urface Area of Rectangular Prism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face Area of Rectangular Pr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surface area of a solid is the sum of the areas of its outside surfac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 two-dimensional representation of a solid, such as the rectangular prism below, is called a net.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surface area of a rectangular prism is equal to the area of the ne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45720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505320" y="3505320"/>
            <a:ext cx="4572000" cy="2895480"/>
            <a:chOff x="3505320" y="3505320"/>
            <a:chExt cx="4572000" cy="2895480"/>
          </a:xfrm>
        </p:grpSpPr>
        <p:sp>
          <p:nvSpPr>
            <p:cNvPr id="49" name=""/>
            <p:cNvSpPr/>
            <p:nvPr/>
          </p:nvSpPr>
          <p:spPr>
            <a:xfrm>
              <a:off x="3505320" y="4419720"/>
              <a:ext cx="1447560" cy="9903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952880" y="4419720"/>
              <a:ext cx="762120" cy="9903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715000" y="4419720"/>
              <a:ext cx="1600200" cy="9903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315200" y="4419720"/>
              <a:ext cx="762120" cy="9903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715000" y="3505320"/>
              <a:ext cx="1600200" cy="914400"/>
            </a:xfrm>
            <a:prstGeom prst="rect">
              <a:avLst/>
            </a:prstGeom>
            <a:solidFill>
              <a:srgbClr val="82c7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410080"/>
              <a:ext cx="1600200" cy="990720"/>
            </a:xfrm>
            <a:prstGeom prst="rect">
              <a:avLst/>
            </a:prstGeom>
            <a:solidFill>
              <a:srgbClr val="82c7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928800" y="1911240"/>
            <a:ext cx="6742080" cy="303480"/>
          </a:xfrm>
          <a:custGeom>
            <a:avLst/>
            <a:gdLst/>
            <a:ahLst/>
            <a:rect l="l" t="t" r="r" b="b"/>
            <a:pathLst>
              <a:path w="18728" h="845">
                <a:moveTo>
                  <a:pt x="12378" y="5457"/>
                </a:moveTo>
                <a:cubicBezTo>
                  <a:pt x="12411" y="5457"/>
                  <a:pt x="12394" y="5457"/>
                  <a:pt x="12427" y="5457"/>
                </a:cubicBezTo>
                <a:cubicBezTo>
                  <a:pt x="12545" y="5457"/>
                  <a:pt x="12664" y="5438"/>
                  <a:pt x="12774" y="5432"/>
                </a:cubicBezTo>
                <a:cubicBezTo>
                  <a:pt x="13141" y="5413"/>
                  <a:pt x="13546" y="5468"/>
                  <a:pt x="13891" y="5457"/>
                </a:cubicBezTo>
                <a:cubicBezTo>
                  <a:pt x="14039" y="5452"/>
                  <a:pt x="14186" y="5453"/>
                  <a:pt x="14337" y="5457"/>
                </a:cubicBezTo>
                <a:cubicBezTo>
                  <a:pt x="14978" y="5474"/>
                  <a:pt x="15614" y="5432"/>
                  <a:pt x="16247" y="5407"/>
                </a:cubicBezTo>
                <a:cubicBezTo>
                  <a:pt x="16462" y="5399"/>
                  <a:pt x="16680" y="5393"/>
                  <a:pt x="16892" y="5383"/>
                </a:cubicBezTo>
                <a:cubicBezTo>
                  <a:pt x="17062" y="5375"/>
                  <a:pt x="17261" y="5412"/>
                  <a:pt x="17413" y="5407"/>
                </a:cubicBezTo>
                <a:cubicBezTo>
                  <a:pt x="17454" y="5406"/>
                  <a:pt x="17503" y="5381"/>
                  <a:pt x="17562" y="5383"/>
                </a:cubicBezTo>
                <a:cubicBezTo>
                  <a:pt x="17734" y="5390"/>
                  <a:pt x="17907" y="5407"/>
                  <a:pt x="18083" y="5407"/>
                </a:cubicBezTo>
                <a:cubicBezTo>
                  <a:pt x="18203" y="5407"/>
                  <a:pt x="18312" y="5389"/>
                  <a:pt x="18430" y="5383"/>
                </a:cubicBezTo>
                <a:cubicBezTo>
                  <a:pt x="18569" y="5376"/>
                  <a:pt x="18721" y="5365"/>
                  <a:pt x="18852" y="5358"/>
                </a:cubicBezTo>
                <a:cubicBezTo>
                  <a:pt x="19562" y="5321"/>
                  <a:pt x="20279" y="5339"/>
                  <a:pt x="20985" y="5308"/>
                </a:cubicBezTo>
                <a:cubicBezTo>
                  <a:pt x="21092" y="5303"/>
                  <a:pt x="21200" y="5308"/>
                  <a:pt x="21307" y="5308"/>
                </a:cubicBezTo>
              </a:path>
              <a:path w="18728" h="845">
                <a:moveTo>
                  <a:pt x="2580" y="6152"/>
                </a:moveTo>
                <a:cubicBezTo>
                  <a:pt x="2789" y="6152"/>
                  <a:pt x="2993" y="6138"/>
                  <a:pt x="3200" y="6127"/>
                </a:cubicBezTo>
                <a:cubicBezTo>
                  <a:pt x="3416" y="6116"/>
                  <a:pt x="3634" y="6136"/>
                  <a:pt x="3845" y="6127"/>
                </a:cubicBezTo>
                <a:cubicBezTo>
                  <a:pt x="4002" y="6121"/>
                  <a:pt x="4155" y="6127"/>
                  <a:pt x="4316" y="6127"/>
                </a:cubicBezTo>
                <a:cubicBezTo>
                  <a:pt x="4596" y="6127"/>
                  <a:pt x="4916" y="6079"/>
                  <a:pt x="5184" y="6102"/>
                </a:cubicBezTo>
                <a:cubicBezTo>
                  <a:pt x="5206" y="6104"/>
                  <a:pt x="5225" y="6127"/>
                  <a:pt x="5259" y="612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71800" y="291132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5755" y="8086"/>
                </a:moveTo>
                <a:lnTo>
                  <a:pt x="5755" y="8086"/>
                </a:lnTo>
              </a:path>
              <a:path w="1" h="1">
                <a:moveTo>
                  <a:pt x="5755" y="8086"/>
                </a:moveTo>
                <a:lnTo>
                  <a:pt x="5755" y="8086"/>
                </a:lnTo>
                <a:lnTo>
                  <a:pt x="5755" y="8086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18000" y="3411360"/>
            <a:ext cx="277920" cy="125640"/>
          </a:xfrm>
          <a:custGeom>
            <a:avLst/>
            <a:gdLst/>
            <a:ahLst/>
            <a:rect l="l" t="t" r="r" b="b"/>
            <a:pathLst>
              <a:path w="770" h="349">
                <a:moveTo>
                  <a:pt x="12898" y="9599"/>
                </a:moveTo>
                <a:cubicBezTo>
                  <a:pt x="12990" y="9559"/>
                  <a:pt x="13391" y="9330"/>
                  <a:pt x="13246" y="9550"/>
                </a:cubicBezTo>
              </a:path>
              <a:path w="770" h="349">
                <a:moveTo>
                  <a:pt x="12551" y="9823"/>
                </a:moveTo>
                <a:cubicBezTo>
                  <a:pt x="12568" y="9815"/>
                  <a:pt x="12584" y="9806"/>
                  <a:pt x="12601" y="979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24160" y="2894040"/>
            <a:ext cx="642960" cy="34920"/>
          </a:xfrm>
          <a:custGeom>
            <a:avLst/>
            <a:gdLst/>
            <a:ahLst/>
            <a:rect l="l" t="t" r="r" b="b"/>
            <a:pathLst>
              <a:path w="1787" h="100">
                <a:moveTo>
                  <a:pt x="8954" y="8062"/>
                </a:moveTo>
                <a:cubicBezTo>
                  <a:pt x="9007" y="8030"/>
                  <a:pt x="9068" y="8037"/>
                  <a:pt x="9178" y="8037"/>
                </a:cubicBezTo>
                <a:cubicBezTo>
                  <a:pt x="9445" y="8037"/>
                  <a:pt x="9707" y="8072"/>
                  <a:pt x="9971" y="8111"/>
                </a:cubicBezTo>
                <a:cubicBezTo>
                  <a:pt x="10146" y="8137"/>
                  <a:pt x="10315" y="8136"/>
                  <a:pt x="10492" y="8136"/>
                </a:cubicBezTo>
                <a:cubicBezTo>
                  <a:pt x="10575" y="8136"/>
                  <a:pt x="10657" y="8136"/>
                  <a:pt x="10740" y="813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152960" y="3303720"/>
            <a:ext cx="938160" cy="947520"/>
          </a:xfrm>
          <a:custGeom>
            <a:avLst/>
            <a:gdLst/>
            <a:ahLst/>
            <a:rect l="l" t="t" r="r" b="b"/>
            <a:pathLst>
              <a:path w="2606" h="2630">
                <a:moveTo>
                  <a:pt x="12650" y="10319"/>
                </a:moveTo>
                <a:cubicBezTo>
                  <a:pt x="12731" y="10479"/>
                  <a:pt x="12809" y="10695"/>
                  <a:pt x="12923" y="10840"/>
                </a:cubicBezTo>
                <a:cubicBezTo>
                  <a:pt x="13135" y="11109"/>
                  <a:pt x="13403" y="11326"/>
                  <a:pt x="13667" y="11534"/>
                </a:cubicBezTo>
                <a:cubicBezTo>
                  <a:pt x="13732" y="11585"/>
                  <a:pt x="13779" y="11623"/>
                  <a:pt x="13841" y="11658"/>
                </a:cubicBezTo>
                <a:cubicBezTo>
                  <a:pt x="13890" y="11686"/>
                  <a:pt x="13908" y="11704"/>
                  <a:pt x="13965" y="11708"/>
                </a:cubicBezTo>
                <a:cubicBezTo>
                  <a:pt x="13973" y="11708"/>
                  <a:pt x="13982" y="11708"/>
                  <a:pt x="13990" y="11708"/>
                </a:cubicBezTo>
              </a:path>
              <a:path w="2606" h="2630">
                <a:moveTo>
                  <a:pt x="13940" y="11088"/>
                </a:moveTo>
                <a:cubicBezTo>
                  <a:pt x="13940" y="11246"/>
                  <a:pt x="14020" y="11362"/>
                  <a:pt x="14064" y="11509"/>
                </a:cubicBezTo>
                <a:cubicBezTo>
                  <a:pt x="14092" y="11602"/>
                  <a:pt x="14119" y="11652"/>
                  <a:pt x="14139" y="11733"/>
                </a:cubicBezTo>
                <a:cubicBezTo>
                  <a:pt x="14109" y="11819"/>
                  <a:pt x="13712" y="11779"/>
                  <a:pt x="13667" y="11782"/>
                </a:cubicBezTo>
                <a:cubicBezTo>
                  <a:pt x="13629" y="11785"/>
                  <a:pt x="13369" y="11853"/>
                  <a:pt x="13345" y="11782"/>
                </a:cubicBezTo>
              </a:path>
              <a:path w="2606" h="2630">
                <a:moveTo>
                  <a:pt x="11534" y="9624"/>
                </a:moveTo>
                <a:cubicBezTo>
                  <a:pt x="11545" y="9840"/>
                  <a:pt x="11584" y="10052"/>
                  <a:pt x="11584" y="10269"/>
                </a:cubicBezTo>
                <a:cubicBezTo>
                  <a:pt x="11584" y="10066"/>
                  <a:pt x="11567" y="9931"/>
                  <a:pt x="11609" y="9723"/>
                </a:cubicBezTo>
                <a:cubicBezTo>
                  <a:pt x="11646" y="9543"/>
                  <a:pt x="11664" y="9522"/>
                  <a:pt x="11807" y="9451"/>
                </a:cubicBezTo>
                <a:cubicBezTo>
                  <a:pt x="12033" y="9632"/>
                  <a:pt x="12099" y="9776"/>
                  <a:pt x="12129" y="10071"/>
                </a:cubicBezTo>
                <a:cubicBezTo>
                  <a:pt x="12136" y="10143"/>
                  <a:pt x="12107" y="10197"/>
                  <a:pt x="12129" y="10220"/>
                </a:cubicBezTo>
              </a:path>
              <a:path w="2606" h="2630">
                <a:moveTo>
                  <a:pt x="12502" y="9823"/>
                </a:moveTo>
                <a:cubicBezTo>
                  <a:pt x="12596" y="9782"/>
                  <a:pt x="12636" y="9748"/>
                  <a:pt x="12725" y="9773"/>
                </a:cubicBezTo>
                <a:cubicBezTo>
                  <a:pt x="12687" y="9698"/>
                  <a:pt x="12587" y="9563"/>
                  <a:pt x="12477" y="9575"/>
                </a:cubicBezTo>
                <a:cubicBezTo>
                  <a:pt x="12267" y="9599"/>
                  <a:pt x="12250" y="9902"/>
                  <a:pt x="12378" y="10021"/>
                </a:cubicBezTo>
                <a:cubicBezTo>
                  <a:pt x="12615" y="10241"/>
                  <a:pt x="12836" y="10034"/>
                  <a:pt x="12998" y="9872"/>
                </a:cubicBezTo>
              </a:path>
              <a:path w="2606" h="2630">
                <a:moveTo>
                  <a:pt x="12948" y="9178"/>
                </a:moveTo>
                <a:cubicBezTo>
                  <a:pt x="12948" y="9326"/>
                  <a:pt x="12958" y="9508"/>
                  <a:pt x="12998" y="9649"/>
                </a:cubicBezTo>
                <a:cubicBezTo>
                  <a:pt x="13050" y="9831"/>
                  <a:pt x="13106" y="10012"/>
                  <a:pt x="13320" y="9996"/>
                </a:cubicBezTo>
                <a:cubicBezTo>
                  <a:pt x="13437" y="9972"/>
                  <a:pt x="13473" y="9969"/>
                  <a:pt x="13519" y="989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64080" y="4446720"/>
            <a:ext cx="206640" cy="188640"/>
          </a:xfrm>
          <a:custGeom>
            <a:avLst/>
            <a:gdLst/>
            <a:ahLst/>
            <a:rect l="l" t="t" r="r" b="b"/>
            <a:pathLst>
              <a:path w="572" h="522">
                <a:moveTo>
                  <a:pt x="15304" y="12576"/>
                </a:moveTo>
                <a:cubicBezTo>
                  <a:pt x="15139" y="12621"/>
                  <a:pt x="15172" y="12710"/>
                  <a:pt x="15205" y="12874"/>
                </a:cubicBezTo>
                <a:cubicBezTo>
                  <a:pt x="15385" y="12814"/>
                  <a:pt x="15383" y="12708"/>
                  <a:pt x="15304" y="12526"/>
                </a:cubicBezTo>
                <a:cubicBezTo>
                  <a:pt x="15267" y="12470"/>
                  <a:pt x="15250" y="12466"/>
                  <a:pt x="15255" y="12427"/>
                </a:cubicBezTo>
                <a:cubicBezTo>
                  <a:pt x="15307" y="12552"/>
                  <a:pt x="15374" y="12662"/>
                  <a:pt x="15453" y="12774"/>
                </a:cubicBezTo>
              </a:path>
              <a:path w="572" h="522">
                <a:moveTo>
                  <a:pt x="15478" y="12502"/>
                </a:moveTo>
                <a:cubicBezTo>
                  <a:pt x="15501" y="12451"/>
                  <a:pt x="15581" y="12371"/>
                  <a:pt x="15528" y="12353"/>
                </a:cubicBezTo>
                <a:cubicBezTo>
                  <a:pt x="15377" y="12413"/>
                  <a:pt x="15419" y="12562"/>
                  <a:pt x="15577" y="12650"/>
                </a:cubicBezTo>
                <a:cubicBezTo>
                  <a:pt x="15690" y="12678"/>
                  <a:pt x="15731" y="12675"/>
                  <a:pt x="15751" y="12551"/>
                </a:cubicBez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01840" y="3446640"/>
            <a:ext cx="617400" cy="260280"/>
          </a:xfrm>
          <a:custGeom>
            <a:avLst/>
            <a:gdLst/>
            <a:ahLst/>
            <a:rect l="l" t="t" r="r" b="b"/>
            <a:pathLst>
              <a:path w="1713" h="720">
                <a:moveTo>
                  <a:pt x="3894" y="9823"/>
                </a:moveTo>
                <a:cubicBezTo>
                  <a:pt x="4142" y="9710"/>
                  <a:pt x="4201" y="9678"/>
                  <a:pt x="4465" y="9699"/>
                </a:cubicBezTo>
              </a:path>
              <a:path w="1713" h="720">
                <a:moveTo>
                  <a:pt x="5358" y="9575"/>
                </a:moveTo>
                <a:cubicBezTo>
                  <a:pt x="5450" y="9811"/>
                  <a:pt x="5556" y="10045"/>
                  <a:pt x="5606" y="1029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95240" y="3357720"/>
            <a:ext cx="1482840" cy="741240"/>
          </a:xfrm>
          <a:custGeom>
            <a:avLst/>
            <a:gdLst/>
            <a:ahLst/>
            <a:rect l="l" t="t" r="r" b="b"/>
            <a:pathLst>
              <a:path w="4118" h="2059">
                <a:moveTo>
                  <a:pt x="4887" y="10418"/>
                </a:moveTo>
                <a:cubicBezTo>
                  <a:pt x="4850" y="10674"/>
                  <a:pt x="4781" y="10931"/>
                  <a:pt x="4738" y="11187"/>
                </a:cubicBezTo>
                <a:cubicBezTo>
                  <a:pt x="4731" y="11231"/>
                  <a:pt x="4747" y="11297"/>
                  <a:pt x="4713" y="11261"/>
                </a:cubicBezTo>
              </a:path>
              <a:path w="4118" h="2059">
                <a:moveTo>
                  <a:pt x="4564" y="10864"/>
                </a:moveTo>
                <a:cubicBezTo>
                  <a:pt x="4620" y="11039"/>
                  <a:pt x="4667" y="11216"/>
                  <a:pt x="4738" y="11385"/>
                </a:cubicBezTo>
                <a:cubicBezTo>
                  <a:pt x="4965" y="11266"/>
                  <a:pt x="5181" y="11102"/>
                  <a:pt x="5383" y="10939"/>
                </a:cubicBezTo>
                <a:cubicBezTo>
                  <a:pt x="5412" y="10909"/>
                  <a:pt x="5414" y="10904"/>
                  <a:pt x="5358" y="10939"/>
                </a:cubicBezTo>
              </a:path>
              <a:path w="4118" h="2059">
                <a:moveTo>
                  <a:pt x="2208" y="10021"/>
                </a:moveTo>
                <a:cubicBezTo>
                  <a:pt x="2322" y="10272"/>
                  <a:pt x="2358" y="10340"/>
                  <a:pt x="2381" y="10517"/>
                </a:cubicBezTo>
                <a:cubicBezTo>
                  <a:pt x="2321" y="10758"/>
                  <a:pt x="2202" y="10145"/>
                  <a:pt x="2208" y="9897"/>
                </a:cubicBezTo>
                <a:cubicBezTo>
                  <a:pt x="2271" y="9579"/>
                  <a:pt x="2251" y="9487"/>
                  <a:pt x="2456" y="9401"/>
                </a:cubicBezTo>
                <a:cubicBezTo>
                  <a:pt x="2647" y="9607"/>
                  <a:pt x="2907" y="9989"/>
                  <a:pt x="2456" y="10145"/>
                </a:cubicBezTo>
                <a:cubicBezTo>
                  <a:pt x="2415" y="10137"/>
                  <a:pt x="2373" y="10128"/>
                  <a:pt x="2332" y="10120"/>
                </a:cubicBezTo>
                <a:cubicBezTo>
                  <a:pt x="2393" y="9936"/>
                  <a:pt x="2611" y="10181"/>
                  <a:pt x="2729" y="10269"/>
                </a:cubicBezTo>
                <a:cubicBezTo>
                  <a:pt x="2838" y="10356"/>
                  <a:pt x="2861" y="10385"/>
                  <a:pt x="2952" y="10393"/>
                </a:cubicBezTo>
              </a:path>
              <a:path w="4118" h="2059">
                <a:moveTo>
                  <a:pt x="3076" y="9947"/>
                </a:moveTo>
                <a:cubicBezTo>
                  <a:pt x="3177" y="9969"/>
                  <a:pt x="3186" y="9963"/>
                  <a:pt x="3225" y="9872"/>
                </a:cubicBezTo>
                <a:cubicBezTo>
                  <a:pt x="3096" y="9744"/>
                  <a:pt x="2906" y="9733"/>
                  <a:pt x="2902" y="9996"/>
                </a:cubicBezTo>
                <a:cubicBezTo>
                  <a:pt x="2899" y="10216"/>
                  <a:pt x="3181" y="10464"/>
                  <a:pt x="3373" y="10244"/>
                </a:cubicBezTo>
                <a:cubicBezTo>
                  <a:pt x="3398" y="10178"/>
                  <a:pt x="3423" y="10112"/>
                  <a:pt x="3448" y="10046"/>
                </a:cubicBezTo>
              </a:path>
              <a:path w="4118" h="2059">
                <a:moveTo>
                  <a:pt x="3696" y="9723"/>
                </a:moveTo>
                <a:cubicBezTo>
                  <a:pt x="3725" y="9766"/>
                  <a:pt x="3729" y="9800"/>
                  <a:pt x="3746" y="9748"/>
                </a:cubicBezTo>
                <a:cubicBezTo>
                  <a:pt x="3584" y="9657"/>
                  <a:pt x="3524" y="9734"/>
                  <a:pt x="3497" y="9922"/>
                </a:cubicBezTo>
                <a:cubicBezTo>
                  <a:pt x="3449" y="10259"/>
                  <a:pt x="3699" y="10333"/>
                  <a:pt x="3944" y="10145"/>
                </a:cubicBezTo>
                <a:cubicBezTo>
                  <a:pt x="3977" y="10104"/>
                  <a:pt x="4010" y="10062"/>
                  <a:pt x="4043" y="10021"/>
                </a:cubicBezTo>
              </a:path>
              <a:path w="4118" h="2059">
                <a:moveTo>
                  <a:pt x="3919" y="9327"/>
                </a:moveTo>
                <a:cubicBezTo>
                  <a:pt x="4007" y="9580"/>
                  <a:pt x="4071" y="9922"/>
                  <a:pt x="4217" y="10145"/>
                </a:cubicBezTo>
                <a:cubicBezTo>
                  <a:pt x="4322" y="10305"/>
                  <a:pt x="4569" y="10040"/>
                  <a:pt x="4638" y="9971"/>
                </a:cubicBezTo>
              </a:path>
              <a:path w="4118" h="2059">
                <a:moveTo>
                  <a:pt x="4887" y="9872"/>
                </a:moveTo>
                <a:cubicBezTo>
                  <a:pt x="4887" y="9914"/>
                  <a:pt x="4887" y="9922"/>
                  <a:pt x="4887" y="9947"/>
                </a:cubicBezTo>
              </a:path>
              <a:path w="4118" h="2059">
                <a:moveTo>
                  <a:pt x="5308" y="9426"/>
                </a:moveTo>
                <a:cubicBezTo>
                  <a:pt x="5488" y="9386"/>
                  <a:pt x="6085" y="9302"/>
                  <a:pt x="5953" y="9699"/>
                </a:cubicBezTo>
                <a:cubicBezTo>
                  <a:pt x="5917" y="9808"/>
                  <a:pt x="5457" y="10017"/>
                  <a:pt x="5680" y="9823"/>
                </a:cubicBezTo>
              </a:path>
              <a:path w="4118" h="2059">
                <a:moveTo>
                  <a:pt x="6052" y="9971"/>
                </a:moveTo>
                <a:cubicBezTo>
                  <a:pt x="6093" y="10093"/>
                  <a:pt x="6089" y="10122"/>
                  <a:pt x="6152" y="10170"/>
                </a:cubicBezTo>
                <a:cubicBezTo>
                  <a:pt x="6152" y="10194"/>
                  <a:pt x="6135" y="9891"/>
                  <a:pt x="6152" y="9823"/>
                </a:cubicBezTo>
                <a:cubicBezTo>
                  <a:pt x="6204" y="9716"/>
                  <a:pt x="6227" y="9680"/>
                  <a:pt x="6325" y="967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55920" y="3348000"/>
            <a:ext cx="455400" cy="250920"/>
          </a:xfrm>
          <a:custGeom>
            <a:avLst/>
            <a:gdLst/>
            <a:ahLst/>
            <a:rect l="l" t="t" r="r" b="b"/>
            <a:pathLst>
              <a:path w="1266" h="695">
                <a:moveTo>
                  <a:pt x="6995" y="9525"/>
                </a:moveTo>
                <a:cubicBezTo>
                  <a:pt x="6883" y="9614"/>
                  <a:pt x="6849" y="9633"/>
                  <a:pt x="6821" y="9723"/>
                </a:cubicBezTo>
                <a:cubicBezTo>
                  <a:pt x="7000" y="9783"/>
                  <a:pt x="7078" y="9750"/>
                  <a:pt x="7169" y="9897"/>
                </a:cubicBezTo>
                <a:cubicBezTo>
                  <a:pt x="6968" y="10014"/>
                  <a:pt x="7012" y="10043"/>
                  <a:pt x="6921" y="9847"/>
                </a:cubicBezTo>
              </a:path>
              <a:path w="1266" h="695">
                <a:moveTo>
                  <a:pt x="7243" y="9550"/>
                </a:moveTo>
                <a:cubicBezTo>
                  <a:pt x="7276" y="9672"/>
                  <a:pt x="7336" y="9799"/>
                  <a:pt x="7367" y="9922"/>
                </a:cubicBezTo>
                <a:cubicBezTo>
                  <a:pt x="7367" y="9846"/>
                  <a:pt x="7319" y="9472"/>
                  <a:pt x="7491" y="9550"/>
                </a:cubicBezTo>
                <a:cubicBezTo>
                  <a:pt x="7575" y="9588"/>
                  <a:pt x="7647" y="9769"/>
                  <a:pt x="7689" y="9847"/>
                </a:cubicBezTo>
                <a:cubicBezTo>
                  <a:pt x="7592" y="9593"/>
                  <a:pt x="7638" y="9512"/>
                  <a:pt x="7789" y="9302"/>
                </a:cubicBezTo>
                <a:cubicBezTo>
                  <a:pt x="8016" y="9511"/>
                  <a:pt x="8173" y="9632"/>
                  <a:pt x="7962" y="987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77920" y="4759200"/>
            <a:ext cx="563400" cy="500040"/>
          </a:xfrm>
          <a:custGeom>
            <a:avLst/>
            <a:gdLst/>
            <a:ahLst/>
            <a:rect l="l" t="t" r="r" b="b"/>
            <a:pathLst>
              <a:path w="1564" h="1390">
                <a:moveTo>
                  <a:pt x="3522" y="14263"/>
                </a:moveTo>
                <a:cubicBezTo>
                  <a:pt x="3562" y="14362"/>
                  <a:pt x="3637" y="14454"/>
                  <a:pt x="3746" y="14511"/>
                </a:cubicBezTo>
                <a:cubicBezTo>
                  <a:pt x="3975" y="14632"/>
                  <a:pt x="4239" y="14540"/>
                  <a:pt x="4440" y="14412"/>
                </a:cubicBezTo>
                <a:cubicBezTo>
                  <a:pt x="4646" y="14280"/>
                  <a:pt x="4851" y="14155"/>
                  <a:pt x="4837" y="13891"/>
                </a:cubicBezTo>
                <a:cubicBezTo>
                  <a:pt x="4827" y="13702"/>
                  <a:pt x="4749" y="13462"/>
                  <a:pt x="4589" y="13345"/>
                </a:cubicBezTo>
                <a:cubicBezTo>
                  <a:pt x="4410" y="13214"/>
                  <a:pt x="4178" y="13196"/>
                  <a:pt x="3969" y="13246"/>
                </a:cubicBezTo>
                <a:cubicBezTo>
                  <a:pt x="3764" y="13295"/>
                  <a:pt x="3605" y="13412"/>
                  <a:pt x="3473" y="13568"/>
                </a:cubicBezTo>
                <a:cubicBezTo>
                  <a:pt x="3351" y="13713"/>
                  <a:pt x="3274" y="13898"/>
                  <a:pt x="3274" y="14089"/>
                </a:cubicBezTo>
                <a:cubicBezTo>
                  <a:pt x="3274" y="14321"/>
                  <a:pt x="3422" y="14534"/>
                  <a:pt x="3646" y="14610"/>
                </a:cubicBezTo>
                <a:cubicBezTo>
                  <a:pt x="3772" y="14653"/>
                  <a:pt x="3882" y="14562"/>
                  <a:pt x="3969" y="14511"/>
                </a:cubicBez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51080" y="3679920"/>
            <a:ext cx="669960" cy="625320"/>
          </a:xfrm>
          <a:custGeom>
            <a:avLst/>
            <a:gdLst/>
            <a:ahLst/>
            <a:rect l="l" t="t" r="r" b="b"/>
            <a:pathLst>
              <a:path w="1861" h="1737">
                <a:moveTo>
                  <a:pt x="6573" y="11336"/>
                </a:moveTo>
                <a:cubicBezTo>
                  <a:pt x="6589" y="11241"/>
                  <a:pt x="6592" y="11300"/>
                  <a:pt x="6573" y="11361"/>
                </a:cubicBezTo>
                <a:cubicBezTo>
                  <a:pt x="6515" y="11548"/>
                  <a:pt x="6470" y="11797"/>
                  <a:pt x="6350" y="11956"/>
                </a:cubicBezTo>
                <a:cubicBezTo>
                  <a:pt x="6350" y="11931"/>
                  <a:pt x="6350" y="11923"/>
                  <a:pt x="6350" y="11906"/>
                </a:cubicBezTo>
                <a:cubicBezTo>
                  <a:pt x="6434" y="11692"/>
                  <a:pt x="6482" y="11479"/>
                  <a:pt x="6548" y="11261"/>
                </a:cubicBezTo>
                <a:cubicBezTo>
                  <a:pt x="6588" y="11129"/>
                  <a:pt x="6542" y="11340"/>
                  <a:pt x="6524" y="11385"/>
                </a:cubicBezTo>
              </a:path>
              <a:path w="1861" h="1737">
                <a:moveTo>
                  <a:pt x="6251" y="11683"/>
                </a:moveTo>
                <a:cubicBezTo>
                  <a:pt x="6251" y="11753"/>
                  <a:pt x="6293" y="11796"/>
                  <a:pt x="6325" y="11857"/>
                </a:cubicBezTo>
                <a:cubicBezTo>
                  <a:pt x="6333" y="11873"/>
                  <a:pt x="6342" y="11890"/>
                  <a:pt x="6350" y="11906"/>
                </a:cubicBezTo>
                <a:cubicBezTo>
                  <a:pt x="6432" y="11804"/>
                  <a:pt x="6502" y="11675"/>
                  <a:pt x="6598" y="11584"/>
                </a:cubicBezTo>
                <a:cubicBezTo>
                  <a:pt x="6606" y="11584"/>
                  <a:pt x="6615" y="11584"/>
                  <a:pt x="6623" y="11584"/>
                </a:cubicBezTo>
              </a:path>
              <a:path w="1861" h="1737">
                <a:moveTo>
                  <a:pt x="6722" y="10939"/>
                </a:moveTo>
                <a:cubicBezTo>
                  <a:pt x="6760" y="11062"/>
                  <a:pt x="6871" y="11263"/>
                  <a:pt x="6871" y="11385"/>
                </a:cubicBezTo>
                <a:cubicBezTo>
                  <a:pt x="6863" y="11377"/>
                  <a:pt x="6854" y="11369"/>
                  <a:pt x="6846" y="11361"/>
                </a:cubicBezTo>
                <a:cubicBezTo>
                  <a:pt x="6756" y="11172"/>
                  <a:pt x="6685" y="10982"/>
                  <a:pt x="6747" y="10765"/>
                </a:cubicBezTo>
                <a:cubicBezTo>
                  <a:pt x="6808" y="10552"/>
                  <a:pt x="6994" y="10543"/>
                  <a:pt x="6970" y="10790"/>
                </a:cubicBezTo>
                <a:cubicBezTo>
                  <a:pt x="6928" y="10918"/>
                  <a:pt x="6924" y="10949"/>
                  <a:pt x="6871" y="11013"/>
                </a:cubicBezTo>
                <a:cubicBezTo>
                  <a:pt x="6871" y="11005"/>
                  <a:pt x="6871" y="10996"/>
                  <a:pt x="6871" y="10988"/>
                </a:cubicBezTo>
                <a:cubicBezTo>
                  <a:pt x="6994" y="10866"/>
                  <a:pt x="7297" y="10754"/>
                  <a:pt x="7193" y="11088"/>
                </a:cubicBezTo>
                <a:cubicBezTo>
                  <a:pt x="7130" y="11289"/>
                  <a:pt x="6944" y="11521"/>
                  <a:pt x="6821" y="11311"/>
                </a:cubicBezTo>
              </a:path>
              <a:path w="1861" h="1737">
                <a:moveTo>
                  <a:pt x="7317" y="10765"/>
                </a:moveTo>
                <a:cubicBezTo>
                  <a:pt x="7155" y="10836"/>
                  <a:pt x="7083" y="11022"/>
                  <a:pt x="7193" y="11187"/>
                </a:cubicBezTo>
                <a:cubicBezTo>
                  <a:pt x="7226" y="11204"/>
                  <a:pt x="7260" y="11220"/>
                  <a:pt x="7293" y="11237"/>
                </a:cubicBezTo>
                <a:cubicBezTo>
                  <a:pt x="7375" y="11104"/>
                  <a:pt x="7384" y="11028"/>
                  <a:pt x="7392" y="10864"/>
                </a:cubicBezTo>
                <a:cubicBezTo>
                  <a:pt x="7435" y="10907"/>
                  <a:pt x="7526" y="11024"/>
                  <a:pt x="7590" y="10939"/>
                </a:cubicBezTo>
                <a:cubicBezTo>
                  <a:pt x="7615" y="10881"/>
                  <a:pt x="7640" y="10823"/>
                  <a:pt x="7665" y="10765"/>
                </a:cubicBezTo>
              </a:path>
              <a:path w="1861" h="1737">
                <a:moveTo>
                  <a:pt x="7789" y="10616"/>
                </a:moveTo>
                <a:cubicBezTo>
                  <a:pt x="7604" y="10616"/>
                  <a:pt x="7569" y="10764"/>
                  <a:pt x="7640" y="10939"/>
                </a:cubicBezTo>
                <a:cubicBezTo>
                  <a:pt x="7673" y="10980"/>
                  <a:pt x="7706" y="11022"/>
                  <a:pt x="7739" y="11063"/>
                </a:cubicBezTo>
                <a:cubicBezTo>
                  <a:pt x="8071" y="10927"/>
                  <a:pt x="8023" y="10691"/>
                  <a:pt x="7938" y="10344"/>
                </a:cubicBezTo>
                <a:cubicBezTo>
                  <a:pt x="7902" y="10254"/>
                  <a:pt x="7921" y="10212"/>
                  <a:pt x="7863" y="10220"/>
                </a:cubicBezTo>
                <a:cubicBezTo>
                  <a:pt x="7919" y="10422"/>
                  <a:pt x="8024" y="10599"/>
                  <a:pt x="8111" y="10790"/>
                </a:cubicBez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393920" y="3375000"/>
            <a:ext cx="1660320" cy="1768680"/>
          </a:xfrm>
          <a:custGeom>
            <a:avLst/>
            <a:gdLst/>
            <a:ahLst/>
            <a:rect l="l" t="t" r="r" b="b"/>
            <a:pathLst>
              <a:path w="4614" h="4913">
                <a:moveTo>
                  <a:pt x="6672" y="9996"/>
                </a:moveTo>
                <a:cubicBezTo>
                  <a:pt x="6693" y="10079"/>
                  <a:pt x="6701" y="10094"/>
                  <a:pt x="6697" y="10145"/>
                </a:cubicBezTo>
              </a:path>
              <a:path w="4614" h="4913">
                <a:moveTo>
                  <a:pt x="6474" y="9376"/>
                </a:moveTo>
                <a:cubicBezTo>
                  <a:pt x="6474" y="9384"/>
                  <a:pt x="6474" y="9393"/>
                  <a:pt x="6474" y="9401"/>
                </a:cubicBezTo>
              </a:path>
              <a:path w="4614" h="4913">
                <a:moveTo>
                  <a:pt x="3870" y="13692"/>
                </a:moveTo>
                <a:cubicBezTo>
                  <a:pt x="3918" y="13692"/>
                  <a:pt x="3951" y="14088"/>
                  <a:pt x="3969" y="14188"/>
                </a:cubicBezTo>
                <a:cubicBezTo>
                  <a:pt x="3977" y="14221"/>
                  <a:pt x="3986" y="14255"/>
                  <a:pt x="3994" y="14288"/>
                </a:cubicBezTo>
              </a:path>
              <a:path w="4614" h="4913">
                <a:moveTo>
                  <a:pt x="8086" y="10269"/>
                </a:moveTo>
                <a:cubicBezTo>
                  <a:pt x="8061" y="10376"/>
                  <a:pt x="7901" y="10795"/>
                  <a:pt x="8186" y="10765"/>
                </a:cubicBezTo>
                <a:cubicBezTo>
                  <a:pt x="8326" y="10750"/>
                  <a:pt x="8408" y="10615"/>
                  <a:pt x="8483" y="10517"/>
                </a:cubicBezTo>
              </a:path>
              <a:path w="4614" h="4913">
                <a:moveTo>
                  <a:pt x="7888" y="11311"/>
                </a:moveTo>
                <a:cubicBezTo>
                  <a:pt x="7914" y="11442"/>
                  <a:pt x="8028" y="11556"/>
                  <a:pt x="8111" y="11658"/>
                </a:cubicBezTo>
                <a:cubicBezTo>
                  <a:pt x="8134" y="11681"/>
                  <a:pt x="8142" y="11692"/>
                  <a:pt x="8136" y="1165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95280" y="4249800"/>
            <a:ext cx="473040" cy="420480"/>
          </a:xfrm>
          <a:custGeom>
            <a:avLst/>
            <a:gdLst/>
            <a:ahLst/>
            <a:rect l="l" t="t" r="r" b="b"/>
            <a:pathLst>
              <a:path w="1315" h="1167">
                <a:moveTo>
                  <a:pt x="4018" y="12154"/>
                </a:moveTo>
                <a:cubicBezTo>
                  <a:pt x="4112" y="12154"/>
                  <a:pt x="4098" y="12057"/>
                  <a:pt x="4192" y="12030"/>
                </a:cubicBezTo>
                <a:cubicBezTo>
                  <a:pt x="4362" y="11980"/>
                  <a:pt x="4420" y="12115"/>
                  <a:pt x="4366" y="12254"/>
                </a:cubicBezTo>
                <a:cubicBezTo>
                  <a:pt x="4336" y="12333"/>
                  <a:pt x="4270" y="12332"/>
                  <a:pt x="4291" y="12353"/>
                </a:cubicBezTo>
                <a:cubicBezTo>
                  <a:pt x="4380" y="12340"/>
                  <a:pt x="4544" y="12294"/>
                  <a:pt x="4514" y="12452"/>
                </a:cubicBezTo>
                <a:cubicBezTo>
                  <a:pt x="4488" y="12591"/>
                  <a:pt x="4312" y="12659"/>
                  <a:pt x="4192" y="12675"/>
                </a:cubicBezTo>
                <a:cubicBezTo>
                  <a:pt x="4184" y="12675"/>
                  <a:pt x="4175" y="12675"/>
                  <a:pt x="4167" y="12675"/>
                </a:cubicBezTo>
              </a:path>
              <a:path w="1315" h="1167">
                <a:moveTo>
                  <a:pt x="3721" y="12526"/>
                </a:moveTo>
                <a:cubicBezTo>
                  <a:pt x="3843" y="12649"/>
                  <a:pt x="3982" y="12763"/>
                  <a:pt x="4167" y="12774"/>
                </a:cubicBezTo>
                <a:cubicBezTo>
                  <a:pt x="4390" y="12787"/>
                  <a:pt x="4746" y="12626"/>
                  <a:pt x="4862" y="12427"/>
                </a:cubicBezTo>
                <a:cubicBezTo>
                  <a:pt x="4951" y="12276"/>
                  <a:pt x="4932" y="12080"/>
                  <a:pt x="4812" y="11956"/>
                </a:cubicBezTo>
                <a:cubicBezTo>
                  <a:pt x="4663" y="11802"/>
                  <a:pt x="4438" y="11793"/>
                  <a:pt x="4242" y="11832"/>
                </a:cubicBezTo>
                <a:cubicBezTo>
                  <a:pt x="3865" y="11907"/>
                  <a:pt x="3645" y="12026"/>
                  <a:pt x="3597" y="12427"/>
                </a:cubicBezTo>
                <a:cubicBezTo>
                  <a:pt x="3580" y="12570"/>
                  <a:pt x="3552" y="13027"/>
                  <a:pt x="3820" y="12973"/>
                </a:cubicBezTo>
                <a:cubicBezTo>
                  <a:pt x="3886" y="12960"/>
                  <a:pt x="3983" y="12900"/>
                  <a:pt x="4043" y="12874"/>
                </a:cubicBez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4120" y="3894120"/>
            <a:ext cx="571680" cy="500040"/>
          </a:xfrm>
          <a:custGeom>
            <a:avLst/>
            <a:gdLst/>
            <a:ahLst/>
            <a:rect l="l" t="t" r="r" b="b"/>
            <a:pathLst>
              <a:path w="1588" h="1390">
                <a:moveTo>
                  <a:pt x="2307" y="11584"/>
                </a:moveTo>
                <a:cubicBezTo>
                  <a:pt x="2362" y="11738"/>
                  <a:pt x="2399" y="11904"/>
                  <a:pt x="2456" y="12055"/>
                </a:cubicBezTo>
                <a:cubicBezTo>
                  <a:pt x="2469" y="12088"/>
                  <a:pt x="2481" y="12097"/>
                  <a:pt x="2505" y="12105"/>
                </a:cubicBezTo>
              </a:path>
              <a:path w="1588" h="1390">
                <a:moveTo>
                  <a:pt x="2232" y="12030"/>
                </a:moveTo>
                <a:cubicBezTo>
                  <a:pt x="2262" y="12090"/>
                  <a:pt x="2356" y="12139"/>
                  <a:pt x="2406" y="12204"/>
                </a:cubicBezTo>
                <a:cubicBezTo>
                  <a:pt x="2513" y="12182"/>
                  <a:pt x="2600" y="11999"/>
                  <a:pt x="2654" y="11906"/>
                </a:cubicBezTo>
                <a:cubicBezTo>
                  <a:pt x="2654" y="11898"/>
                  <a:pt x="2654" y="11889"/>
                  <a:pt x="2654" y="11881"/>
                </a:cubicBezTo>
              </a:path>
              <a:path w="1588" h="1390">
                <a:moveTo>
                  <a:pt x="1687" y="11162"/>
                </a:moveTo>
                <a:cubicBezTo>
                  <a:pt x="1712" y="11077"/>
                  <a:pt x="1780" y="11016"/>
                  <a:pt x="1811" y="10939"/>
                </a:cubicBezTo>
                <a:cubicBezTo>
                  <a:pt x="1925" y="11021"/>
                  <a:pt x="1917" y="11122"/>
                  <a:pt x="1885" y="11261"/>
                </a:cubicBezTo>
                <a:cubicBezTo>
                  <a:pt x="1853" y="11401"/>
                  <a:pt x="1802" y="11516"/>
                  <a:pt x="1786" y="11658"/>
                </a:cubicBezTo>
                <a:cubicBezTo>
                  <a:pt x="1728" y="11716"/>
                  <a:pt x="1825" y="11582"/>
                  <a:pt x="1860" y="11509"/>
                </a:cubicBezTo>
                <a:cubicBezTo>
                  <a:pt x="1922" y="11380"/>
                  <a:pt x="1980" y="11409"/>
                  <a:pt x="2108" y="11435"/>
                </a:cubicBezTo>
                <a:cubicBezTo>
                  <a:pt x="2116" y="11435"/>
                  <a:pt x="2125" y="11435"/>
                  <a:pt x="2133" y="11435"/>
                </a:cubicBezTo>
              </a:path>
              <a:path w="1588" h="1390">
                <a:moveTo>
                  <a:pt x="1612" y="11832"/>
                </a:moveTo>
                <a:cubicBezTo>
                  <a:pt x="1861" y="11832"/>
                  <a:pt x="1969" y="11806"/>
                  <a:pt x="2158" y="11633"/>
                </a:cubicBezTo>
                <a:cubicBezTo>
                  <a:pt x="2322" y="11483"/>
                  <a:pt x="2407" y="11249"/>
                  <a:pt x="2282" y="11038"/>
                </a:cubicBezTo>
                <a:cubicBezTo>
                  <a:pt x="2191" y="10884"/>
                  <a:pt x="1954" y="10812"/>
                  <a:pt x="1786" y="10815"/>
                </a:cubicBezTo>
                <a:cubicBezTo>
                  <a:pt x="1577" y="10819"/>
                  <a:pt x="1345" y="10925"/>
                  <a:pt x="1215" y="11088"/>
                </a:cubicBezTo>
                <a:cubicBezTo>
                  <a:pt x="1026" y="11326"/>
                  <a:pt x="988" y="11725"/>
                  <a:pt x="1166" y="11981"/>
                </a:cubicBezTo>
                <a:cubicBezTo>
                  <a:pt x="1352" y="12247"/>
                  <a:pt x="1682" y="12050"/>
                  <a:pt x="1860" y="11906"/>
                </a:cubicBezTo>
                <a:cubicBezTo>
                  <a:pt x="1912" y="11864"/>
                  <a:pt x="1961" y="11806"/>
                  <a:pt x="2009" y="11757"/>
                </a:cubicBez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27880" y="3741840"/>
            <a:ext cx="428400" cy="411120"/>
          </a:xfrm>
          <a:custGeom>
            <a:avLst/>
            <a:gdLst/>
            <a:ahLst/>
            <a:rect l="l" t="t" r="r" b="b"/>
            <a:pathLst>
              <a:path w="1192" h="1142">
                <a:moveTo>
                  <a:pt x="18653" y="10691"/>
                </a:moveTo>
                <a:cubicBezTo>
                  <a:pt x="18653" y="10859"/>
                  <a:pt x="18648" y="11048"/>
                  <a:pt x="18678" y="11212"/>
                </a:cubicBezTo>
                <a:cubicBezTo>
                  <a:pt x="18698" y="11252"/>
                  <a:pt x="18707" y="11258"/>
                  <a:pt x="18703" y="11286"/>
                </a:cubicBezTo>
              </a:path>
              <a:path w="1192" h="1142">
                <a:moveTo>
                  <a:pt x="18256" y="11261"/>
                </a:moveTo>
                <a:cubicBezTo>
                  <a:pt x="18332" y="11375"/>
                  <a:pt x="18390" y="11464"/>
                  <a:pt x="18529" y="11509"/>
                </a:cubicBezTo>
                <a:cubicBezTo>
                  <a:pt x="18713" y="11569"/>
                  <a:pt x="18857" y="11511"/>
                  <a:pt x="19025" y="11435"/>
                </a:cubicBezTo>
                <a:cubicBezTo>
                  <a:pt x="19140" y="11383"/>
                  <a:pt x="19234" y="11308"/>
                  <a:pt x="19273" y="11187"/>
                </a:cubicBezTo>
                <a:cubicBezTo>
                  <a:pt x="19311" y="11071"/>
                  <a:pt x="19324" y="10982"/>
                  <a:pt x="19298" y="10864"/>
                </a:cubicBezTo>
                <a:cubicBezTo>
                  <a:pt x="19281" y="10789"/>
                  <a:pt x="19248" y="10678"/>
                  <a:pt x="19199" y="10616"/>
                </a:cubicBezTo>
                <a:cubicBezTo>
                  <a:pt x="19153" y="10557"/>
                  <a:pt x="19084" y="10510"/>
                  <a:pt x="19025" y="10468"/>
                </a:cubicBezTo>
                <a:cubicBezTo>
                  <a:pt x="18934" y="10402"/>
                  <a:pt x="18841" y="10375"/>
                  <a:pt x="18728" y="10393"/>
                </a:cubicBezTo>
                <a:cubicBezTo>
                  <a:pt x="18607" y="10412"/>
                  <a:pt x="18489" y="10464"/>
                  <a:pt x="18380" y="10517"/>
                </a:cubicBezTo>
                <a:cubicBezTo>
                  <a:pt x="18275" y="10568"/>
                  <a:pt x="18221" y="10646"/>
                  <a:pt x="18157" y="10740"/>
                </a:cubicBezTo>
                <a:cubicBezTo>
                  <a:pt x="18108" y="10812"/>
                  <a:pt x="18132" y="10929"/>
                  <a:pt x="18132" y="11013"/>
                </a:cubicBezTo>
                <a:cubicBezTo>
                  <a:pt x="18132" y="11063"/>
                  <a:pt x="18157" y="11173"/>
                  <a:pt x="18182" y="11212"/>
                </a:cubicBezTo>
                <a:cubicBezTo>
                  <a:pt x="18240" y="11301"/>
                  <a:pt x="18305" y="11293"/>
                  <a:pt x="18380" y="11336"/>
                </a:cubicBezTo>
                <a:cubicBezTo>
                  <a:pt x="18390" y="11341"/>
                  <a:pt x="18420" y="11376"/>
                  <a:pt x="18430" y="11385"/>
                </a:cubicBez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34160" y="4402080"/>
            <a:ext cx="339840" cy="206280"/>
          </a:xfrm>
          <a:custGeom>
            <a:avLst/>
            <a:gdLst/>
            <a:ahLst/>
            <a:rect l="l" t="t" r="r" b="b"/>
            <a:pathLst>
              <a:path w="944" h="571">
                <a:moveTo>
                  <a:pt x="21208" y="12229"/>
                </a:moveTo>
                <a:cubicBezTo>
                  <a:pt x="21273" y="12422"/>
                  <a:pt x="21359" y="12607"/>
                  <a:pt x="21431" y="12799"/>
                </a:cubicBezTo>
              </a:path>
              <a:path w="944" h="571">
                <a:moveTo>
                  <a:pt x="21630" y="12626"/>
                </a:moveTo>
                <a:cubicBezTo>
                  <a:pt x="21697" y="12603"/>
                  <a:pt x="21775" y="12591"/>
                  <a:pt x="21828" y="12551"/>
                </a:cubicBezTo>
                <a:cubicBezTo>
                  <a:pt x="21828" y="12500"/>
                  <a:pt x="21792" y="12390"/>
                  <a:pt x="21704" y="12427"/>
                </a:cubicBezTo>
                <a:cubicBezTo>
                  <a:pt x="21464" y="12530"/>
                  <a:pt x="21745" y="12760"/>
                  <a:pt x="21878" y="12774"/>
                </a:cubicBezTo>
                <a:cubicBezTo>
                  <a:pt x="22030" y="12753"/>
                  <a:pt x="22069" y="12754"/>
                  <a:pt x="22151" y="12700"/>
                </a:cubicBez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75160" y="4518000"/>
            <a:ext cx="63720" cy="117360"/>
          </a:xfrm>
          <a:custGeom>
            <a:avLst/>
            <a:gdLst/>
            <a:ahLst/>
            <a:rect l="l" t="t" r="r" b="b"/>
            <a:pathLst>
              <a:path w="175" h="324">
                <a:moveTo>
                  <a:pt x="14957" y="12675"/>
                </a:moveTo>
                <a:cubicBezTo>
                  <a:pt x="15014" y="12739"/>
                  <a:pt x="15062" y="12801"/>
                  <a:pt x="15106" y="12874"/>
                </a:cubicBezTo>
              </a:path>
              <a:path w="175" h="324">
                <a:moveTo>
                  <a:pt x="14932" y="12551"/>
                </a:moveTo>
                <a:lnTo>
                  <a:pt x="14932" y="12551"/>
                </a:lnTo>
                <a:lnTo>
                  <a:pt x="14932" y="12551"/>
                </a:lnTo>
              </a:path>
              <a:path w="175" h="324">
                <a:moveTo>
                  <a:pt x="14932" y="12551"/>
                </a:moveTo>
                <a:lnTo>
                  <a:pt x="14932" y="12551"/>
                </a:ln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347920" y="4670280"/>
            <a:ext cx="366840" cy="411480"/>
          </a:xfrm>
          <a:custGeom>
            <a:avLst/>
            <a:gdLst/>
            <a:ahLst/>
            <a:rect l="l" t="t" r="r" b="b"/>
            <a:pathLst>
              <a:path w="1018" h="1142">
                <a:moveTo>
                  <a:pt x="7069" y="13271"/>
                </a:moveTo>
                <a:cubicBezTo>
                  <a:pt x="7069" y="13312"/>
                  <a:pt x="7104" y="13181"/>
                  <a:pt x="7119" y="13146"/>
                </a:cubicBezTo>
                <a:cubicBezTo>
                  <a:pt x="7127" y="13127"/>
                  <a:pt x="7180" y="13096"/>
                  <a:pt x="7218" y="13122"/>
                </a:cubicBezTo>
                <a:cubicBezTo>
                  <a:pt x="7257" y="13149"/>
                  <a:pt x="7268" y="13218"/>
                  <a:pt x="7268" y="13271"/>
                </a:cubicBezTo>
                <a:cubicBezTo>
                  <a:pt x="7268" y="13372"/>
                  <a:pt x="7240" y="13395"/>
                  <a:pt x="7193" y="13469"/>
                </a:cubicBezTo>
                <a:cubicBezTo>
                  <a:pt x="7143" y="13549"/>
                  <a:pt x="7124" y="13625"/>
                  <a:pt x="7119" y="13717"/>
                </a:cubicBezTo>
                <a:cubicBezTo>
                  <a:pt x="7119" y="13725"/>
                  <a:pt x="7119" y="13734"/>
                  <a:pt x="7119" y="13742"/>
                </a:cubicBezTo>
                <a:cubicBezTo>
                  <a:pt x="7119" y="13793"/>
                  <a:pt x="7127" y="13693"/>
                  <a:pt x="7144" y="13667"/>
                </a:cubicBezTo>
                <a:cubicBezTo>
                  <a:pt x="7187" y="13603"/>
                  <a:pt x="7286" y="13677"/>
                  <a:pt x="7317" y="13717"/>
                </a:cubicBezTo>
                <a:cubicBezTo>
                  <a:pt x="7374" y="13789"/>
                  <a:pt x="7405" y="13668"/>
                  <a:pt x="7441" y="13643"/>
                </a:cubicBezTo>
                <a:cubicBezTo>
                  <a:pt x="7466" y="13643"/>
                  <a:pt x="7474" y="13643"/>
                  <a:pt x="7466" y="13618"/>
                </a:cubicBezTo>
              </a:path>
              <a:path w="1018" h="1142">
                <a:moveTo>
                  <a:pt x="6921" y="14064"/>
                </a:moveTo>
                <a:cubicBezTo>
                  <a:pt x="7038" y="14039"/>
                  <a:pt x="7134" y="14017"/>
                  <a:pt x="7243" y="13965"/>
                </a:cubicBezTo>
                <a:cubicBezTo>
                  <a:pt x="7365" y="13907"/>
                  <a:pt x="7514" y="13816"/>
                  <a:pt x="7541" y="13667"/>
                </a:cubicBezTo>
                <a:cubicBezTo>
                  <a:pt x="7563" y="13544"/>
                  <a:pt x="7545" y="13361"/>
                  <a:pt x="7491" y="13246"/>
                </a:cubicBezTo>
                <a:cubicBezTo>
                  <a:pt x="7428" y="13111"/>
                  <a:pt x="7320" y="13093"/>
                  <a:pt x="7193" y="13047"/>
                </a:cubicBezTo>
                <a:cubicBezTo>
                  <a:pt x="7010" y="12981"/>
                  <a:pt x="6898" y="12950"/>
                  <a:pt x="6722" y="13047"/>
                </a:cubicBezTo>
                <a:cubicBezTo>
                  <a:pt x="6548" y="13142"/>
                  <a:pt x="6507" y="13384"/>
                  <a:pt x="6524" y="13568"/>
                </a:cubicBezTo>
                <a:cubicBezTo>
                  <a:pt x="6542" y="13765"/>
                  <a:pt x="6635" y="14046"/>
                  <a:pt x="6846" y="14114"/>
                </a:cubicBezTo>
                <a:cubicBezTo>
                  <a:pt x="6972" y="14154"/>
                  <a:pt x="7087" y="14053"/>
                  <a:pt x="7169" y="13990"/>
                </a:cubicBezTo>
                <a:cubicBezTo>
                  <a:pt x="7169" y="13965"/>
                  <a:pt x="7169" y="13957"/>
                  <a:pt x="7193" y="13965"/>
                </a:cubicBez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14840" y="4510080"/>
            <a:ext cx="1009440" cy="214200"/>
          </a:xfrm>
          <a:custGeom>
            <a:avLst/>
            <a:gdLst/>
            <a:ahLst/>
            <a:rect l="l" t="t" r="r" b="b"/>
            <a:pathLst>
              <a:path w="2804" h="597">
                <a:moveTo>
                  <a:pt x="10492" y="12700"/>
                </a:moveTo>
                <a:cubicBezTo>
                  <a:pt x="10422" y="12724"/>
                  <a:pt x="10616" y="12960"/>
                  <a:pt x="10641" y="13022"/>
                </a:cubicBezTo>
                <a:cubicBezTo>
                  <a:pt x="10649" y="13055"/>
                  <a:pt x="10658" y="13089"/>
                  <a:pt x="10666" y="13122"/>
                </a:cubicBezTo>
              </a:path>
              <a:path w="2804" h="597">
                <a:moveTo>
                  <a:pt x="10319" y="12650"/>
                </a:moveTo>
                <a:cubicBezTo>
                  <a:pt x="10394" y="12606"/>
                  <a:pt x="10768" y="12381"/>
                  <a:pt x="10740" y="12650"/>
                </a:cubicBezTo>
                <a:cubicBezTo>
                  <a:pt x="10691" y="12725"/>
                  <a:pt x="10675" y="12750"/>
                  <a:pt x="10641" y="12799"/>
                </a:cubicBezTo>
                <a:cubicBezTo>
                  <a:pt x="10796" y="12745"/>
                  <a:pt x="10794" y="12727"/>
                  <a:pt x="10914" y="12824"/>
                </a:cubicBezTo>
                <a:cubicBezTo>
                  <a:pt x="10804" y="12983"/>
                  <a:pt x="10681" y="13130"/>
                  <a:pt x="10468" y="13122"/>
                </a:cubicBezTo>
                <a:cubicBezTo>
                  <a:pt x="10460" y="13114"/>
                  <a:pt x="10451" y="13105"/>
                  <a:pt x="10443" y="13097"/>
                </a:cubicBezTo>
              </a:path>
              <a:path w="2804" h="597">
                <a:moveTo>
                  <a:pt x="11013" y="12774"/>
                </a:moveTo>
                <a:cubicBezTo>
                  <a:pt x="10886" y="12921"/>
                  <a:pt x="10953" y="12991"/>
                  <a:pt x="11088" y="13097"/>
                </a:cubicBezTo>
                <a:cubicBezTo>
                  <a:pt x="11238" y="12981"/>
                  <a:pt x="11364" y="12831"/>
                  <a:pt x="11088" y="12750"/>
                </a:cubicBezTo>
                <a:cubicBezTo>
                  <a:pt x="11055" y="12750"/>
                  <a:pt x="11021" y="12750"/>
                  <a:pt x="10988" y="12750"/>
                </a:cubicBezTo>
              </a:path>
              <a:path w="2804" h="597">
                <a:moveTo>
                  <a:pt x="11187" y="12526"/>
                </a:moveTo>
                <a:cubicBezTo>
                  <a:pt x="11297" y="12680"/>
                  <a:pt x="11373" y="12847"/>
                  <a:pt x="11509" y="12973"/>
                </a:cubicBezTo>
                <a:cubicBezTo>
                  <a:pt x="11697" y="12852"/>
                  <a:pt x="11654" y="12807"/>
                  <a:pt x="11584" y="12601"/>
                </a:cubicBezTo>
                <a:cubicBezTo>
                  <a:pt x="11565" y="12543"/>
                  <a:pt x="11574" y="12518"/>
                  <a:pt x="11534" y="12526"/>
                </a:cubicBezTo>
                <a:cubicBezTo>
                  <a:pt x="11609" y="12639"/>
                  <a:pt x="11641" y="12789"/>
                  <a:pt x="11733" y="12898"/>
                </a:cubicBezTo>
                <a:cubicBezTo>
                  <a:pt x="11826" y="13008"/>
                  <a:pt x="11917" y="12827"/>
                  <a:pt x="11931" y="12774"/>
                </a:cubicBezTo>
              </a:path>
              <a:path w="2804" h="597">
                <a:moveTo>
                  <a:pt x="11137" y="12774"/>
                </a:moveTo>
                <a:cubicBezTo>
                  <a:pt x="11340" y="12717"/>
                  <a:pt x="11523" y="12661"/>
                  <a:pt x="11733" y="12650"/>
                </a:cubicBezTo>
              </a:path>
              <a:path w="2804" h="597">
                <a:moveTo>
                  <a:pt x="11956" y="12626"/>
                </a:moveTo>
                <a:cubicBezTo>
                  <a:pt x="11833" y="12694"/>
                  <a:pt x="11853" y="12734"/>
                  <a:pt x="11832" y="12874"/>
                </a:cubicBezTo>
                <a:cubicBezTo>
                  <a:pt x="11958" y="12915"/>
                  <a:pt x="12255" y="12918"/>
                  <a:pt x="12204" y="12675"/>
                </a:cubicBezTo>
                <a:cubicBezTo>
                  <a:pt x="12124" y="12596"/>
                  <a:pt x="12092" y="12573"/>
                  <a:pt x="12005" y="12626"/>
                </a:cubicBezTo>
              </a:path>
              <a:path w="2804" h="597">
                <a:moveTo>
                  <a:pt x="12427" y="12774"/>
                </a:moveTo>
                <a:cubicBezTo>
                  <a:pt x="12447" y="12815"/>
                  <a:pt x="12456" y="12821"/>
                  <a:pt x="12452" y="12849"/>
                </a:cubicBezTo>
                <a:cubicBezTo>
                  <a:pt x="12440" y="12765"/>
                  <a:pt x="12384" y="12630"/>
                  <a:pt x="12526" y="12626"/>
                </a:cubicBezTo>
                <a:cubicBezTo>
                  <a:pt x="12608" y="12623"/>
                  <a:pt x="12881" y="12716"/>
                  <a:pt x="12824" y="12849"/>
                </a:cubicBezTo>
                <a:cubicBezTo>
                  <a:pt x="12816" y="12849"/>
                  <a:pt x="12807" y="12849"/>
                  <a:pt x="12799" y="12849"/>
                </a:cubicBezTo>
                <a:cubicBezTo>
                  <a:pt x="12787" y="12752"/>
                  <a:pt x="12761" y="12549"/>
                  <a:pt x="12948" y="12626"/>
                </a:cubicBezTo>
                <a:cubicBezTo>
                  <a:pt x="13000" y="12647"/>
                  <a:pt x="13097" y="12733"/>
                  <a:pt x="13122" y="12774"/>
                </a:cubicBez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02200" y="4106880"/>
            <a:ext cx="679680" cy="260280"/>
          </a:xfrm>
          <a:custGeom>
            <a:avLst/>
            <a:gdLst/>
            <a:ahLst/>
            <a:rect l="l" t="t" r="r" b="b"/>
            <a:pathLst>
              <a:path w="1886" h="720">
                <a:moveTo>
                  <a:pt x="16495" y="11633"/>
                </a:moveTo>
                <a:cubicBezTo>
                  <a:pt x="16573" y="11711"/>
                  <a:pt x="16599" y="11924"/>
                  <a:pt x="16619" y="12055"/>
                </a:cubicBezTo>
                <a:cubicBezTo>
                  <a:pt x="16619" y="12097"/>
                  <a:pt x="16619" y="12122"/>
                  <a:pt x="16619" y="12080"/>
                </a:cubicBezTo>
              </a:path>
              <a:path w="1886" h="720">
                <a:moveTo>
                  <a:pt x="16396" y="11633"/>
                </a:moveTo>
                <a:cubicBezTo>
                  <a:pt x="16452" y="11585"/>
                  <a:pt x="16673" y="11459"/>
                  <a:pt x="16743" y="11584"/>
                </a:cubicBezTo>
                <a:cubicBezTo>
                  <a:pt x="16803" y="11691"/>
                  <a:pt x="16651" y="11795"/>
                  <a:pt x="16594" y="11857"/>
                </a:cubicBezTo>
                <a:cubicBezTo>
                  <a:pt x="16545" y="11890"/>
                  <a:pt x="16682" y="11782"/>
                  <a:pt x="16793" y="11807"/>
                </a:cubicBezTo>
                <a:cubicBezTo>
                  <a:pt x="17061" y="11867"/>
                  <a:pt x="16714" y="12055"/>
                  <a:pt x="16644" y="12080"/>
                </a:cubicBezTo>
                <a:cubicBezTo>
                  <a:pt x="16469" y="12143"/>
                  <a:pt x="16447" y="12072"/>
                  <a:pt x="16470" y="11931"/>
                </a:cubicBezTo>
              </a:path>
              <a:path w="1886" h="720">
                <a:moveTo>
                  <a:pt x="17066" y="11832"/>
                </a:moveTo>
                <a:cubicBezTo>
                  <a:pt x="17004" y="11739"/>
                  <a:pt x="16865" y="11906"/>
                  <a:pt x="16842" y="11981"/>
                </a:cubicBezTo>
                <a:cubicBezTo>
                  <a:pt x="16842" y="12082"/>
                  <a:pt x="16821" y="12114"/>
                  <a:pt x="16892" y="12129"/>
                </a:cubicBezTo>
                <a:cubicBezTo>
                  <a:pt x="17017" y="12056"/>
                  <a:pt x="17051" y="12006"/>
                  <a:pt x="17066" y="11857"/>
                </a:cubicBezTo>
                <a:cubicBezTo>
                  <a:pt x="17109" y="11879"/>
                  <a:pt x="17172" y="12019"/>
                  <a:pt x="17239" y="12005"/>
                </a:cubicBezTo>
                <a:cubicBezTo>
                  <a:pt x="17256" y="11989"/>
                  <a:pt x="17272" y="11972"/>
                  <a:pt x="17289" y="11956"/>
                </a:cubicBezTo>
              </a:path>
              <a:path w="1886" h="720">
                <a:moveTo>
                  <a:pt x="17413" y="11757"/>
                </a:moveTo>
                <a:cubicBezTo>
                  <a:pt x="17421" y="11757"/>
                  <a:pt x="17430" y="11757"/>
                  <a:pt x="17438" y="11757"/>
                </a:cubicBezTo>
                <a:cubicBezTo>
                  <a:pt x="17389" y="11741"/>
                  <a:pt x="17380" y="11665"/>
                  <a:pt x="17314" y="11757"/>
                </a:cubicBezTo>
                <a:cubicBezTo>
                  <a:pt x="17149" y="11987"/>
                  <a:pt x="17424" y="12030"/>
                  <a:pt x="17587" y="11956"/>
                </a:cubicBezTo>
                <a:cubicBezTo>
                  <a:pt x="17636" y="11923"/>
                  <a:pt x="17686" y="11890"/>
                  <a:pt x="17735" y="11857"/>
                </a:cubicBezTo>
              </a:path>
              <a:path w="1886" h="720">
                <a:moveTo>
                  <a:pt x="17636" y="11410"/>
                </a:moveTo>
                <a:cubicBezTo>
                  <a:pt x="17702" y="11590"/>
                  <a:pt x="17725" y="11779"/>
                  <a:pt x="17785" y="11956"/>
                </a:cubicBezTo>
                <a:cubicBezTo>
                  <a:pt x="17785" y="11948"/>
                  <a:pt x="17785" y="11939"/>
                  <a:pt x="17785" y="11931"/>
                </a:cubicBezTo>
              </a:path>
              <a:path w="1886" h="720">
                <a:moveTo>
                  <a:pt x="18008" y="11509"/>
                </a:moveTo>
                <a:cubicBezTo>
                  <a:pt x="17915" y="11577"/>
                  <a:pt x="17658" y="11761"/>
                  <a:pt x="17859" y="11881"/>
                </a:cubicBezTo>
                <a:cubicBezTo>
                  <a:pt x="17982" y="11954"/>
                  <a:pt x="18155" y="11874"/>
                  <a:pt x="18281" y="11857"/>
                </a:cubicBez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07040" y="4518000"/>
            <a:ext cx="600120" cy="260280"/>
          </a:xfrm>
          <a:custGeom>
            <a:avLst/>
            <a:gdLst/>
            <a:ahLst/>
            <a:rect l="l" t="t" r="r" b="b"/>
            <a:pathLst>
              <a:path w="1663" h="721">
                <a:moveTo>
                  <a:pt x="17190" y="12675"/>
                </a:moveTo>
                <a:cubicBezTo>
                  <a:pt x="17232" y="12802"/>
                  <a:pt x="17413" y="12992"/>
                  <a:pt x="17413" y="13122"/>
                </a:cubicBezTo>
                <a:cubicBezTo>
                  <a:pt x="17396" y="13130"/>
                  <a:pt x="17380" y="13138"/>
                  <a:pt x="17363" y="13146"/>
                </a:cubicBezTo>
              </a:path>
              <a:path w="1663" h="721">
                <a:moveTo>
                  <a:pt x="16966" y="12750"/>
                </a:moveTo>
                <a:cubicBezTo>
                  <a:pt x="17153" y="12691"/>
                  <a:pt x="17434" y="12543"/>
                  <a:pt x="17636" y="12551"/>
                </a:cubicBezTo>
                <a:cubicBezTo>
                  <a:pt x="17686" y="12576"/>
                  <a:pt x="17703" y="12584"/>
                  <a:pt x="17711" y="12626"/>
                </a:cubicBezTo>
              </a:path>
              <a:path w="1663" h="721">
                <a:moveTo>
                  <a:pt x="17735" y="12774"/>
                </a:moveTo>
                <a:cubicBezTo>
                  <a:pt x="17596" y="12924"/>
                  <a:pt x="17603" y="12938"/>
                  <a:pt x="17611" y="13146"/>
                </a:cubicBezTo>
                <a:cubicBezTo>
                  <a:pt x="17780" y="13173"/>
                  <a:pt x="18111" y="13079"/>
                  <a:pt x="17983" y="12799"/>
                </a:cubicBezTo>
                <a:cubicBezTo>
                  <a:pt x="17968" y="12767"/>
                  <a:pt x="17706" y="12678"/>
                  <a:pt x="17810" y="12774"/>
                </a:cubicBezTo>
              </a:path>
              <a:path w="1663" h="721">
                <a:moveTo>
                  <a:pt x="18182" y="12973"/>
                </a:moveTo>
                <a:cubicBezTo>
                  <a:pt x="18242" y="13072"/>
                  <a:pt x="18296" y="13175"/>
                  <a:pt x="18355" y="13271"/>
                </a:cubicBezTo>
                <a:cubicBezTo>
                  <a:pt x="18237" y="13211"/>
                  <a:pt x="18214" y="13121"/>
                  <a:pt x="18132" y="12998"/>
                </a:cubicBezTo>
              </a:path>
              <a:path w="1663" h="721">
                <a:moveTo>
                  <a:pt x="18008" y="12700"/>
                </a:moveTo>
                <a:cubicBezTo>
                  <a:pt x="18310" y="12563"/>
                  <a:pt x="18446" y="12568"/>
                  <a:pt x="18628" y="12824"/>
                </a:cubicBezTo>
                <a:cubicBezTo>
                  <a:pt x="18434" y="12976"/>
                  <a:pt x="18277" y="13107"/>
                  <a:pt x="18083" y="12948"/>
                </a:cubicBez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24320" y="4562640"/>
            <a:ext cx="160560" cy="509400"/>
          </a:xfrm>
          <a:custGeom>
            <a:avLst/>
            <a:gdLst/>
            <a:ahLst/>
            <a:rect l="l" t="t" r="r" b="b"/>
            <a:pathLst>
              <a:path w="447" h="1415">
                <a:moveTo>
                  <a:pt x="14536" y="13494"/>
                </a:moveTo>
                <a:cubicBezTo>
                  <a:pt x="14536" y="13502"/>
                  <a:pt x="14536" y="13511"/>
                  <a:pt x="14536" y="13519"/>
                </a:cubicBezTo>
                <a:cubicBezTo>
                  <a:pt x="14602" y="13502"/>
                  <a:pt x="14556" y="13468"/>
                  <a:pt x="14585" y="13444"/>
                </a:cubicBezTo>
                <a:cubicBezTo>
                  <a:pt x="14616" y="13419"/>
                  <a:pt x="14664" y="13395"/>
                  <a:pt x="14709" y="13395"/>
                </a:cubicBezTo>
                <a:cubicBezTo>
                  <a:pt x="14778" y="13395"/>
                  <a:pt x="14734" y="13382"/>
                  <a:pt x="14784" y="13395"/>
                </a:cubicBezTo>
                <a:cubicBezTo>
                  <a:pt x="14826" y="13406"/>
                  <a:pt x="14841" y="13392"/>
                  <a:pt x="14858" y="13444"/>
                </a:cubicBezTo>
                <a:cubicBezTo>
                  <a:pt x="14874" y="13491"/>
                  <a:pt x="14853" y="13534"/>
                  <a:pt x="14833" y="13568"/>
                </a:cubicBezTo>
                <a:cubicBezTo>
                  <a:pt x="14791" y="13642"/>
                  <a:pt x="14814" y="13619"/>
                  <a:pt x="14759" y="13667"/>
                </a:cubicBezTo>
                <a:cubicBezTo>
                  <a:pt x="14737" y="13687"/>
                  <a:pt x="14690" y="13705"/>
                  <a:pt x="14684" y="13717"/>
                </a:cubicBezTo>
                <a:cubicBezTo>
                  <a:pt x="14672" y="13742"/>
                  <a:pt x="14643" y="13751"/>
                  <a:pt x="14635" y="13767"/>
                </a:cubicBezTo>
                <a:cubicBezTo>
                  <a:pt x="14617" y="13801"/>
                  <a:pt x="14590" y="13832"/>
                  <a:pt x="14560" y="13866"/>
                </a:cubicBezTo>
                <a:cubicBezTo>
                  <a:pt x="14531" y="13899"/>
                  <a:pt x="14516" y="13945"/>
                  <a:pt x="14511" y="13990"/>
                </a:cubicBezTo>
                <a:cubicBezTo>
                  <a:pt x="14509" y="14010"/>
                  <a:pt x="14511" y="14127"/>
                  <a:pt x="14511" y="14064"/>
                </a:cubicBezTo>
                <a:cubicBezTo>
                  <a:pt x="14511" y="14017"/>
                  <a:pt x="14568" y="13979"/>
                  <a:pt x="14610" y="13965"/>
                </a:cubicBezTo>
                <a:cubicBezTo>
                  <a:pt x="14637" y="13956"/>
                  <a:pt x="14705" y="14008"/>
                  <a:pt x="14734" y="14015"/>
                </a:cubicBezTo>
                <a:cubicBezTo>
                  <a:pt x="14804" y="14033"/>
                  <a:pt x="14830" y="13986"/>
                  <a:pt x="14883" y="13965"/>
                </a:cubicBezTo>
                <a:cubicBezTo>
                  <a:pt x="14910" y="13954"/>
                  <a:pt x="14928" y="13948"/>
                  <a:pt x="14932" y="13915"/>
                </a:cubicBezTo>
                <a:cubicBezTo>
                  <a:pt x="14932" y="13891"/>
                  <a:pt x="14932" y="13883"/>
                  <a:pt x="14957" y="13891"/>
                </a:cubicBezTo>
              </a:path>
              <a:path w="447" h="1415">
                <a:moveTo>
                  <a:pt x="14759" y="12700"/>
                </a:moveTo>
                <a:cubicBezTo>
                  <a:pt x="14684" y="12643"/>
                  <a:pt x="14584" y="12686"/>
                  <a:pt x="14511" y="12750"/>
                </a:cubicBezTo>
                <a:cubicBezTo>
                  <a:pt x="14605" y="12787"/>
                  <a:pt x="14700" y="12821"/>
                  <a:pt x="14784" y="12874"/>
                </a:cubicBezTo>
                <a:cubicBezTo>
                  <a:pt x="14720" y="12947"/>
                  <a:pt x="14615" y="13032"/>
                  <a:pt x="14511" y="12948"/>
                </a:cubicBezTo>
                <a:cubicBezTo>
                  <a:pt x="14511" y="12940"/>
                  <a:pt x="14511" y="12931"/>
                  <a:pt x="14511" y="12923"/>
                </a:cubicBez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57760" y="4697280"/>
            <a:ext cx="500040" cy="490680"/>
          </a:xfrm>
          <a:custGeom>
            <a:avLst/>
            <a:gdLst/>
            <a:ahLst/>
            <a:rect l="l" t="t" r="r" b="b"/>
            <a:pathLst>
              <a:path w="1390" h="1366">
                <a:moveTo>
                  <a:pt x="11162" y="13593"/>
                </a:moveTo>
                <a:cubicBezTo>
                  <a:pt x="11265" y="13567"/>
                  <a:pt x="11312" y="13451"/>
                  <a:pt x="11435" y="13419"/>
                </a:cubicBezTo>
                <a:cubicBezTo>
                  <a:pt x="11662" y="13361"/>
                  <a:pt x="11550" y="13599"/>
                  <a:pt x="11509" y="13692"/>
                </a:cubicBezTo>
                <a:cubicBezTo>
                  <a:pt x="11501" y="13700"/>
                  <a:pt x="11493" y="13709"/>
                  <a:pt x="11485" y="13717"/>
                </a:cubicBezTo>
                <a:cubicBezTo>
                  <a:pt x="11564" y="13690"/>
                  <a:pt x="11743" y="13612"/>
                  <a:pt x="11782" y="13767"/>
                </a:cubicBezTo>
                <a:cubicBezTo>
                  <a:pt x="11831" y="13961"/>
                  <a:pt x="11536" y="14111"/>
                  <a:pt x="11385" y="14039"/>
                </a:cubicBezTo>
                <a:cubicBezTo>
                  <a:pt x="11377" y="14023"/>
                  <a:pt x="11369" y="14006"/>
                  <a:pt x="11361" y="13990"/>
                </a:cubicBezTo>
              </a:path>
              <a:path w="1390" h="1366">
                <a:moveTo>
                  <a:pt x="11137" y="14362"/>
                </a:moveTo>
                <a:cubicBezTo>
                  <a:pt x="11476" y="14408"/>
                  <a:pt x="11726" y="14334"/>
                  <a:pt x="11956" y="14039"/>
                </a:cubicBezTo>
                <a:cubicBezTo>
                  <a:pt x="12154" y="13784"/>
                  <a:pt x="12210" y="13283"/>
                  <a:pt x="11857" y="13122"/>
                </a:cubicBezTo>
                <a:cubicBezTo>
                  <a:pt x="11339" y="12886"/>
                  <a:pt x="10704" y="13278"/>
                  <a:pt x="10716" y="13866"/>
                </a:cubicBezTo>
                <a:cubicBezTo>
                  <a:pt x="10730" y="14535"/>
                  <a:pt x="11307" y="14373"/>
                  <a:pt x="11658" y="14188"/>
                </a:cubicBez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36920" y="5572080"/>
            <a:ext cx="204840" cy="214200"/>
          </a:xfrm>
          <a:custGeom>
            <a:avLst/>
            <a:gdLst/>
            <a:ahLst/>
            <a:rect l="l" t="t" r="r" b="b"/>
            <a:pathLst>
              <a:path w="571" h="596">
                <a:moveTo>
                  <a:pt x="7119" y="15577"/>
                </a:moveTo>
                <a:cubicBezTo>
                  <a:pt x="7100" y="15577"/>
                  <a:pt x="7368" y="15806"/>
                  <a:pt x="7392" y="15825"/>
                </a:cubicBezTo>
                <a:cubicBezTo>
                  <a:pt x="7474" y="15892"/>
                  <a:pt x="7665" y="16049"/>
                  <a:pt x="7590" y="15974"/>
                </a:cubicBezTo>
                <a:cubicBezTo>
                  <a:pt x="7456" y="15872"/>
                  <a:pt x="7269" y="15665"/>
                  <a:pt x="7119" y="15602"/>
                </a:cubicBezTo>
                <a:cubicBezTo>
                  <a:pt x="7038" y="15568"/>
                  <a:pt x="7114" y="16019"/>
                  <a:pt x="7119" y="16049"/>
                </a:cubicBezTo>
                <a:cubicBezTo>
                  <a:pt x="7119" y="16077"/>
                  <a:pt x="7122" y="16082"/>
                  <a:pt x="7144" y="16049"/>
                </a:cubicBezTo>
                <a:cubicBezTo>
                  <a:pt x="7094" y="15886"/>
                  <a:pt x="7066" y="15701"/>
                  <a:pt x="7045" y="15528"/>
                </a:cubicBezTo>
                <a:cubicBezTo>
                  <a:pt x="7032" y="15420"/>
                  <a:pt x="7313" y="15500"/>
                  <a:pt x="7392" y="15503"/>
                </a:cubicBezTo>
                <a:cubicBezTo>
                  <a:pt x="7400" y="15503"/>
                  <a:pt x="7409" y="15503"/>
                  <a:pt x="7417" y="15503"/>
                </a:cubicBez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946240" y="55278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8186" y="15354"/>
                </a:moveTo>
                <a:lnTo>
                  <a:pt x="8186" y="15354"/>
                </a:ln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697120" y="5653080"/>
            <a:ext cx="490680" cy="463680"/>
          </a:xfrm>
          <a:custGeom>
            <a:avLst/>
            <a:gdLst/>
            <a:ahLst/>
            <a:rect l="l" t="t" r="r" b="b"/>
            <a:pathLst>
              <a:path w="1365" h="1291">
                <a:moveTo>
                  <a:pt x="7615" y="16793"/>
                </a:moveTo>
                <a:cubicBezTo>
                  <a:pt x="7861" y="16911"/>
                  <a:pt x="8080" y="17050"/>
                  <a:pt x="8359" y="16942"/>
                </a:cubicBezTo>
                <a:cubicBezTo>
                  <a:pt x="8656" y="16828"/>
                  <a:pt x="8840" y="16533"/>
                  <a:pt x="8855" y="16222"/>
                </a:cubicBezTo>
                <a:cubicBezTo>
                  <a:pt x="8874" y="15828"/>
                  <a:pt x="8544" y="15635"/>
                  <a:pt x="8186" y="15726"/>
                </a:cubicBezTo>
                <a:cubicBezTo>
                  <a:pt x="7769" y="15832"/>
                  <a:pt x="7220" y="16318"/>
                  <a:pt x="7615" y="16768"/>
                </a:cubicBezTo>
                <a:cubicBezTo>
                  <a:pt x="7914" y="16942"/>
                  <a:pt x="8014" y="17000"/>
                  <a:pt x="8260" y="16917"/>
                </a:cubicBez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803680" y="5742000"/>
            <a:ext cx="169560" cy="285840"/>
          </a:xfrm>
          <a:custGeom>
            <a:avLst/>
            <a:gdLst/>
            <a:ahLst/>
            <a:rect l="l" t="t" r="r" b="b"/>
            <a:pathLst>
              <a:path w="472" h="795">
                <a:moveTo>
                  <a:pt x="7813" y="16247"/>
                </a:moveTo>
                <a:cubicBezTo>
                  <a:pt x="7789" y="16121"/>
                  <a:pt x="7791" y="16066"/>
                  <a:pt x="7913" y="15974"/>
                </a:cubicBezTo>
                <a:cubicBezTo>
                  <a:pt x="7938" y="15966"/>
                  <a:pt x="7962" y="15957"/>
                  <a:pt x="7987" y="15949"/>
                </a:cubicBezTo>
                <a:cubicBezTo>
                  <a:pt x="8068" y="16088"/>
                  <a:pt x="8096" y="16247"/>
                  <a:pt x="7987" y="16396"/>
                </a:cubicBezTo>
                <a:cubicBezTo>
                  <a:pt x="7947" y="16416"/>
                  <a:pt x="7931" y="16435"/>
                  <a:pt x="7938" y="16396"/>
                </a:cubicBezTo>
                <a:cubicBezTo>
                  <a:pt x="8017" y="16316"/>
                  <a:pt x="8255" y="16219"/>
                  <a:pt x="8260" y="16446"/>
                </a:cubicBezTo>
                <a:cubicBezTo>
                  <a:pt x="8264" y="16618"/>
                  <a:pt x="8114" y="16805"/>
                  <a:pt x="7938" y="16718"/>
                </a:cubicBezTo>
                <a:cubicBezTo>
                  <a:pt x="7932" y="16715"/>
                  <a:pt x="7917" y="16681"/>
                  <a:pt x="7913" y="16669"/>
                </a:cubicBez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697800" y="5680080"/>
            <a:ext cx="446040" cy="500040"/>
          </a:xfrm>
          <a:custGeom>
            <a:avLst/>
            <a:gdLst/>
            <a:ahLst/>
            <a:rect l="l" t="t" r="r" b="b"/>
            <a:pathLst>
              <a:path w="1241" h="1390">
                <a:moveTo>
                  <a:pt x="19000" y="16222"/>
                </a:moveTo>
                <a:cubicBezTo>
                  <a:pt x="19000" y="16384"/>
                  <a:pt x="19090" y="16544"/>
                  <a:pt x="19149" y="16694"/>
                </a:cubicBezTo>
                <a:cubicBezTo>
                  <a:pt x="19173" y="16742"/>
                  <a:pt x="19182" y="16756"/>
                  <a:pt x="19174" y="16793"/>
                </a:cubicBezTo>
              </a:path>
              <a:path w="1241" h="1390">
                <a:moveTo>
                  <a:pt x="18802" y="16991"/>
                </a:moveTo>
                <a:cubicBezTo>
                  <a:pt x="19101" y="17122"/>
                  <a:pt x="19262" y="17092"/>
                  <a:pt x="19546" y="16917"/>
                </a:cubicBezTo>
                <a:cubicBezTo>
                  <a:pt x="19810" y="16754"/>
                  <a:pt x="19940" y="16432"/>
                  <a:pt x="19819" y="16123"/>
                </a:cubicBezTo>
                <a:cubicBezTo>
                  <a:pt x="19692" y="15798"/>
                  <a:pt x="19135" y="15656"/>
                  <a:pt x="18852" y="15850"/>
                </a:cubicBezTo>
                <a:cubicBezTo>
                  <a:pt x="18500" y="16092"/>
                  <a:pt x="18504" y="16853"/>
                  <a:pt x="18827" y="17115"/>
                </a:cubicBezTo>
                <a:cubicBezTo>
                  <a:pt x="19073" y="17170"/>
                  <a:pt x="19169" y="17177"/>
                  <a:pt x="19323" y="17041"/>
                </a:cubicBez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367760" y="4510080"/>
            <a:ext cx="411120" cy="615960"/>
          </a:xfrm>
          <a:custGeom>
            <a:avLst/>
            <a:gdLst/>
            <a:ahLst/>
            <a:rect l="l" t="t" r="r" b="b"/>
            <a:pathLst>
              <a:path w="1142" h="1713">
                <a:moveTo>
                  <a:pt x="20861" y="13494"/>
                </a:moveTo>
                <a:cubicBezTo>
                  <a:pt x="20861" y="13398"/>
                  <a:pt x="20896" y="13373"/>
                  <a:pt x="20935" y="13295"/>
                </a:cubicBezTo>
                <a:cubicBezTo>
                  <a:pt x="20970" y="13225"/>
                  <a:pt x="21048" y="13241"/>
                  <a:pt x="21109" y="13271"/>
                </a:cubicBezTo>
                <a:cubicBezTo>
                  <a:pt x="21220" y="13326"/>
                  <a:pt x="21225" y="13381"/>
                  <a:pt x="21183" y="13494"/>
                </a:cubicBezTo>
                <a:cubicBezTo>
                  <a:pt x="21148" y="13589"/>
                  <a:pt x="21055" y="13654"/>
                  <a:pt x="20985" y="13717"/>
                </a:cubicBezTo>
                <a:cubicBezTo>
                  <a:pt x="20909" y="13786"/>
                  <a:pt x="20864" y="13822"/>
                  <a:pt x="20811" y="13915"/>
                </a:cubicBezTo>
                <a:cubicBezTo>
                  <a:pt x="20787" y="13963"/>
                  <a:pt x="20779" y="13978"/>
                  <a:pt x="20786" y="14015"/>
                </a:cubicBezTo>
                <a:cubicBezTo>
                  <a:pt x="20759" y="14001"/>
                  <a:pt x="20819" y="13883"/>
                  <a:pt x="20861" y="13841"/>
                </a:cubicBezTo>
                <a:cubicBezTo>
                  <a:pt x="20965" y="13737"/>
                  <a:pt x="20993" y="13895"/>
                  <a:pt x="21034" y="13940"/>
                </a:cubicBezTo>
                <a:cubicBezTo>
                  <a:pt x="21083" y="13994"/>
                  <a:pt x="21188" y="13954"/>
                  <a:pt x="21233" y="13915"/>
                </a:cubicBezTo>
                <a:cubicBezTo>
                  <a:pt x="21269" y="13884"/>
                  <a:pt x="21341" y="13836"/>
                  <a:pt x="21282" y="13816"/>
                </a:cubicBezTo>
              </a:path>
              <a:path w="1142" h="1713">
                <a:moveTo>
                  <a:pt x="20464" y="14114"/>
                </a:moveTo>
                <a:cubicBezTo>
                  <a:pt x="20512" y="14104"/>
                  <a:pt x="20519" y="14154"/>
                  <a:pt x="20613" y="14188"/>
                </a:cubicBezTo>
                <a:cubicBezTo>
                  <a:pt x="20801" y="14256"/>
                  <a:pt x="21000" y="14240"/>
                  <a:pt x="21183" y="14163"/>
                </a:cubicBezTo>
                <a:cubicBezTo>
                  <a:pt x="21355" y="14090"/>
                  <a:pt x="21449" y="13989"/>
                  <a:pt x="21555" y="13841"/>
                </a:cubicBezTo>
                <a:cubicBezTo>
                  <a:pt x="21615" y="13757"/>
                  <a:pt x="21639" y="13572"/>
                  <a:pt x="21605" y="13469"/>
                </a:cubicBezTo>
                <a:cubicBezTo>
                  <a:pt x="21562" y="13338"/>
                  <a:pt x="21445" y="13197"/>
                  <a:pt x="21332" y="13122"/>
                </a:cubicBezTo>
                <a:cubicBezTo>
                  <a:pt x="21258" y="13073"/>
                  <a:pt x="21119" y="13004"/>
                  <a:pt x="21034" y="12998"/>
                </a:cubicBezTo>
                <a:cubicBezTo>
                  <a:pt x="20902" y="12989"/>
                  <a:pt x="20777" y="13026"/>
                  <a:pt x="20687" y="13122"/>
                </a:cubicBezTo>
                <a:cubicBezTo>
                  <a:pt x="20546" y="13274"/>
                  <a:pt x="20482" y="13464"/>
                  <a:pt x="20464" y="13667"/>
                </a:cubicBezTo>
                <a:cubicBezTo>
                  <a:pt x="20450" y="13831"/>
                  <a:pt x="20478" y="13984"/>
                  <a:pt x="20638" y="14064"/>
                </a:cubicBezTo>
                <a:cubicBezTo>
                  <a:pt x="20736" y="14113"/>
                  <a:pt x="20819" y="14085"/>
                  <a:pt x="20910" y="14064"/>
                </a:cubicBezTo>
                <a:cubicBezTo>
                  <a:pt x="20918" y="14064"/>
                  <a:pt x="20927" y="14064"/>
                  <a:pt x="20935" y="14064"/>
                </a:cubicBezTo>
              </a:path>
              <a:path w="1142" h="1713">
                <a:moveTo>
                  <a:pt x="21332" y="12526"/>
                </a:moveTo>
                <a:cubicBezTo>
                  <a:pt x="21212" y="12628"/>
                  <a:pt x="21149" y="12689"/>
                  <a:pt x="21134" y="12849"/>
                </a:cubicBezTo>
                <a:cubicBezTo>
                  <a:pt x="21251" y="12825"/>
                  <a:pt x="21287" y="12822"/>
                  <a:pt x="21332" y="12750"/>
                </a:cubicBez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249960" y="4749840"/>
            <a:ext cx="528840" cy="376200"/>
          </a:xfrm>
          <a:custGeom>
            <a:avLst/>
            <a:gdLst/>
            <a:ahLst/>
            <a:rect l="l" t="t" r="r" b="b"/>
            <a:pathLst>
              <a:path w="1465" h="1043">
                <a:moveTo>
                  <a:pt x="17934" y="13519"/>
                </a:moveTo>
                <a:cubicBezTo>
                  <a:pt x="17949" y="13444"/>
                  <a:pt x="17998" y="13437"/>
                  <a:pt x="18033" y="13395"/>
                </a:cubicBezTo>
                <a:cubicBezTo>
                  <a:pt x="18084" y="13334"/>
                  <a:pt x="18179" y="13318"/>
                  <a:pt x="18231" y="13419"/>
                </a:cubicBezTo>
                <a:cubicBezTo>
                  <a:pt x="18286" y="13525"/>
                  <a:pt x="18225" y="13653"/>
                  <a:pt x="18132" y="13717"/>
                </a:cubicBezTo>
                <a:cubicBezTo>
                  <a:pt x="18099" y="13739"/>
                  <a:pt x="18088" y="13708"/>
                  <a:pt x="18083" y="13692"/>
                </a:cubicBezTo>
                <a:cubicBezTo>
                  <a:pt x="18168" y="13649"/>
                  <a:pt x="18236" y="13570"/>
                  <a:pt x="18331" y="13618"/>
                </a:cubicBezTo>
                <a:cubicBezTo>
                  <a:pt x="18426" y="13665"/>
                  <a:pt x="18353" y="13856"/>
                  <a:pt x="18306" y="13915"/>
                </a:cubicBezTo>
                <a:cubicBezTo>
                  <a:pt x="18226" y="14014"/>
                  <a:pt x="18112" y="13943"/>
                  <a:pt x="18033" y="13915"/>
                </a:cubicBezTo>
                <a:cubicBezTo>
                  <a:pt x="18008" y="13915"/>
                  <a:pt x="18000" y="13915"/>
                  <a:pt x="17983" y="13915"/>
                </a:cubicBezTo>
              </a:path>
              <a:path w="1465" h="1043">
                <a:moveTo>
                  <a:pt x="17363" y="13940"/>
                </a:moveTo>
                <a:cubicBezTo>
                  <a:pt x="17451" y="13991"/>
                  <a:pt x="17511" y="14064"/>
                  <a:pt x="17611" y="14114"/>
                </a:cubicBezTo>
                <a:cubicBezTo>
                  <a:pt x="17782" y="14199"/>
                  <a:pt x="17965" y="14254"/>
                  <a:pt x="18157" y="14238"/>
                </a:cubicBezTo>
                <a:cubicBezTo>
                  <a:pt x="18298" y="14226"/>
                  <a:pt x="18517" y="14183"/>
                  <a:pt x="18628" y="14089"/>
                </a:cubicBezTo>
                <a:cubicBezTo>
                  <a:pt x="18687" y="14039"/>
                  <a:pt x="18813" y="13897"/>
                  <a:pt x="18827" y="13816"/>
                </a:cubicBezTo>
                <a:cubicBezTo>
                  <a:pt x="18846" y="13708"/>
                  <a:pt x="18794" y="13552"/>
                  <a:pt x="18728" y="13469"/>
                </a:cubicBezTo>
                <a:cubicBezTo>
                  <a:pt x="18644" y="13363"/>
                  <a:pt x="18526" y="13278"/>
                  <a:pt x="18405" y="13221"/>
                </a:cubicBezTo>
                <a:cubicBezTo>
                  <a:pt x="18285" y="13165"/>
                  <a:pt x="18131" y="13194"/>
                  <a:pt x="18008" y="13221"/>
                </a:cubicBezTo>
                <a:cubicBezTo>
                  <a:pt x="17878" y="13249"/>
                  <a:pt x="17781" y="13304"/>
                  <a:pt x="17686" y="13395"/>
                </a:cubicBezTo>
                <a:cubicBezTo>
                  <a:pt x="17572" y="13504"/>
                  <a:pt x="17454" y="13661"/>
                  <a:pt x="17487" y="13816"/>
                </a:cubicBezTo>
                <a:cubicBezTo>
                  <a:pt x="17514" y="13940"/>
                  <a:pt x="17594" y="14016"/>
                  <a:pt x="17661" y="14114"/>
                </a:cubicBezTo>
                <a:cubicBezTo>
                  <a:pt x="17716" y="14194"/>
                  <a:pt x="17760" y="14208"/>
                  <a:pt x="17859" y="14213"/>
                </a:cubicBezTo>
                <a:cubicBezTo>
                  <a:pt x="17884" y="14213"/>
                  <a:pt x="17892" y="14213"/>
                  <a:pt x="17909" y="14213"/>
                </a:cubicBez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375680" y="4491000"/>
            <a:ext cx="188640" cy="144360"/>
          </a:xfrm>
          <a:custGeom>
            <a:avLst/>
            <a:gdLst/>
            <a:ahLst/>
            <a:rect l="l" t="t" r="r" b="b"/>
            <a:pathLst>
              <a:path w="522" h="398">
                <a:moveTo>
                  <a:pt x="20737" y="12551"/>
                </a:moveTo>
                <a:cubicBezTo>
                  <a:pt x="20624" y="12551"/>
                  <a:pt x="20576" y="12581"/>
                  <a:pt x="20489" y="12650"/>
                </a:cubicBezTo>
                <a:cubicBezTo>
                  <a:pt x="20622" y="12666"/>
                  <a:pt x="20751" y="12619"/>
                  <a:pt x="20811" y="12725"/>
                </a:cubicBezTo>
                <a:cubicBezTo>
                  <a:pt x="20767" y="12800"/>
                  <a:pt x="20671" y="12966"/>
                  <a:pt x="20563" y="12849"/>
                </a:cubicBezTo>
                <a:cubicBezTo>
                  <a:pt x="20555" y="12832"/>
                  <a:pt x="20546" y="12816"/>
                  <a:pt x="20538" y="12799"/>
                </a:cubicBezTo>
              </a:path>
              <a:path w="522" h="398">
                <a:moveTo>
                  <a:pt x="20910" y="12626"/>
                </a:moveTo>
                <a:cubicBezTo>
                  <a:pt x="20969" y="12724"/>
                  <a:pt x="20981" y="12739"/>
                  <a:pt x="21010" y="12799"/>
                </a:cubicBezTo>
                <a:cubicBezTo>
                  <a:pt x="20956" y="12705"/>
                  <a:pt x="20924" y="12584"/>
                  <a:pt x="20886" y="12477"/>
                </a:cubicBez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616800" y="5500800"/>
            <a:ext cx="196920" cy="98280"/>
          </a:xfrm>
          <a:custGeom>
            <a:avLst/>
            <a:gdLst/>
            <a:ahLst/>
            <a:rect l="l" t="t" r="r" b="b"/>
            <a:pathLst>
              <a:path w="547" h="274">
                <a:moveTo>
                  <a:pt x="18380" y="15553"/>
                </a:moveTo>
                <a:cubicBezTo>
                  <a:pt x="18561" y="15455"/>
                  <a:pt x="18737" y="15362"/>
                  <a:pt x="18926" y="15280"/>
                </a:cubicBez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34040" y="5483160"/>
            <a:ext cx="706320" cy="401760"/>
          </a:xfrm>
          <a:custGeom>
            <a:avLst/>
            <a:gdLst/>
            <a:ahLst/>
            <a:rect l="l" t="t" r="r" b="b"/>
            <a:pathLst>
              <a:path w="1960" h="1117">
                <a:moveTo>
                  <a:pt x="17041" y="15925"/>
                </a:moveTo>
                <a:cubicBezTo>
                  <a:pt x="17100" y="16069"/>
                  <a:pt x="17182" y="16211"/>
                  <a:pt x="17239" y="16346"/>
                </a:cubicBezTo>
                <a:cubicBezTo>
                  <a:pt x="17168" y="16155"/>
                  <a:pt x="17104" y="16013"/>
                  <a:pt x="17090" y="15801"/>
                </a:cubicBezTo>
                <a:cubicBezTo>
                  <a:pt x="17081" y="15673"/>
                  <a:pt x="17328" y="15654"/>
                  <a:pt x="17438" y="15602"/>
                </a:cubicBezTo>
                <a:cubicBezTo>
                  <a:pt x="17454" y="15594"/>
                  <a:pt x="17471" y="15585"/>
                  <a:pt x="17487" y="15577"/>
                </a:cubicBezTo>
              </a:path>
              <a:path w="1960" h="1117">
                <a:moveTo>
                  <a:pt x="17214" y="15999"/>
                </a:moveTo>
                <a:cubicBezTo>
                  <a:pt x="17264" y="15975"/>
                  <a:pt x="17591" y="15760"/>
                  <a:pt x="17636" y="15776"/>
                </a:cubicBezTo>
                <a:cubicBezTo>
                  <a:pt x="17698" y="15799"/>
                  <a:pt x="17744" y="15901"/>
                  <a:pt x="17785" y="15949"/>
                </a:cubicBezTo>
                <a:cubicBezTo>
                  <a:pt x="17763" y="15843"/>
                  <a:pt x="17717" y="15766"/>
                  <a:pt x="17760" y="15652"/>
                </a:cubicBezTo>
                <a:cubicBezTo>
                  <a:pt x="17805" y="15533"/>
                  <a:pt x="17880" y="15542"/>
                  <a:pt x="17983" y="15528"/>
                </a:cubicBezTo>
                <a:cubicBezTo>
                  <a:pt x="18081" y="15528"/>
                  <a:pt x="18029" y="15645"/>
                  <a:pt x="18008" y="15726"/>
                </a:cubicBezTo>
                <a:cubicBezTo>
                  <a:pt x="17966" y="15853"/>
                  <a:pt x="17937" y="15884"/>
                  <a:pt x="18008" y="15949"/>
                </a:cubicBezTo>
                <a:cubicBezTo>
                  <a:pt x="18135" y="15894"/>
                  <a:pt x="18320" y="15790"/>
                  <a:pt x="18157" y="15627"/>
                </a:cubicBezTo>
                <a:cubicBezTo>
                  <a:pt x="18062" y="15579"/>
                  <a:pt x="18033" y="15562"/>
                  <a:pt x="17959" y="15577"/>
                </a:cubicBezTo>
              </a:path>
              <a:path w="1960" h="1117">
                <a:moveTo>
                  <a:pt x="18331" y="15701"/>
                </a:moveTo>
                <a:cubicBezTo>
                  <a:pt x="18291" y="15821"/>
                  <a:pt x="18280" y="15508"/>
                  <a:pt x="18281" y="15503"/>
                </a:cubicBezTo>
                <a:cubicBezTo>
                  <a:pt x="18344" y="15268"/>
                  <a:pt x="18537" y="15575"/>
                  <a:pt x="18579" y="15627"/>
                </a:cubicBezTo>
                <a:cubicBezTo>
                  <a:pt x="18595" y="15644"/>
                  <a:pt x="18612" y="15660"/>
                  <a:pt x="18628" y="15677"/>
                </a:cubicBezTo>
              </a:path>
              <a:path w="1960" h="1117">
                <a:moveTo>
                  <a:pt x="18604" y="15230"/>
                </a:moveTo>
                <a:cubicBezTo>
                  <a:pt x="18645" y="15344"/>
                  <a:pt x="18673" y="15642"/>
                  <a:pt x="18827" y="15652"/>
                </a:cubicBezTo>
                <a:cubicBezTo>
                  <a:pt x="18933" y="15625"/>
                  <a:pt x="18970" y="15611"/>
                  <a:pt x="19000" y="15528"/>
                </a:cubicBez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ding the Surface Area Using a 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95280" y="2362320"/>
            <a:ext cx="1447920" cy="1366560"/>
            <a:chOff x="1295280" y="2362320"/>
            <a:chExt cx="1447920" cy="1366560"/>
          </a:xfrm>
        </p:grpSpPr>
        <p:sp>
          <p:nvSpPr>
            <p:cNvPr id="91" name=""/>
            <p:cNvSpPr/>
            <p:nvPr/>
          </p:nvSpPr>
          <p:spPr>
            <a:xfrm>
              <a:off x="1295280" y="2362320"/>
              <a:ext cx="612720" cy="105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86280" y="2479680"/>
              <a:ext cx="55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8 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019240" y="3245400"/>
              <a:ext cx="50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5 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350720" y="3421800"/>
              <a:ext cx="50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3 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3733920" y="1295280"/>
            <a:ext cx="4711680" cy="3583440"/>
            <a:chOff x="3733920" y="1295280"/>
            <a:chExt cx="4711680" cy="3583440"/>
          </a:xfrm>
        </p:grpSpPr>
        <p:grpSp>
          <p:nvGrpSpPr>
            <p:cNvPr id="96" name=""/>
            <p:cNvGrpSpPr/>
            <p:nvPr/>
          </p:nvGrpSpPr>
          <p:grpSpPr>
            <a:xfrm>
              <a:off x="4254480" y="1295280"/>
              <a:ext cx="4191120" cy="3200400"/>
              <a:chOff x="4254480" y="1295280"/>
              <a:chExt cx="4191120" cy="3200400"/>
            </a:xfrm>
          </p:grpSpPr>
          <p:sp>
            <p:nvSpPr>
              <p:cNvPr id="97" name=""/>
              <p:cNvSpPr/>
              <p:nvPr/>
            </p:nvSpPr>
            <p:spPr>
              <a:xfrm>
                <a:off x="4254480" y="2514600"/>
                <a:ext cx="685800" cy="838080"/>
              </a:xfrm>
              <a:prstGeom prst="rect">
                <a:avLst/>
              </a:prstGeom>
              <a:solidFill>
                <a:srgbClr val="c7531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940280" y="2514600"/>
                <a:ext cx="1447920" cy="838080"/>
              </a:xfrm>
              <a:prstGeom prst="rect">
                <a:avLst/>
              </a:prstGeom>
              <a:solidFill>
                <a:srgbClr val="c7531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388200" y="2514600"/>
                <a:ext cx="685800" cy="838080"/>
              </a:xfrm>
              <a:prstGeom prst="rect">
                <a:avLst/>
              </a:prstGeom>
              <a:solidFill>
                <a:srgbClr val="c7531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074000" y="2514600"/>
                <a:ext cx="1371600" cy="838080"/>
              </a:xfrm>
              <a:prstGeom prst="rect">
                <a:avLst/>
              </a:prstGeom>
              <a:solidFill>
                <a:srgbClr val="c7531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388200" y="1295280"/>
                <a:ext cx="685800" cy="1219320"/>
              </a:xfrm>
              <a:prstGeom prst="rect">
                <a:avLst/>
              </a:prstGeom>
              <a:solidFill>
                <a:srgbClr val="57b2b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88200" y="3352680"/>
                <a:ext cx="685800" cy="1143000"/>
              </a:xfrm>
              <a:prstGeom prst="rect">
                <a:avLst/>
              </a:prstGeom>
              <a:solidFill>
                <a:srgbClr val="57b2b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5245200" y="388584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8 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5549760" y="350460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5778360" y="3733200"/>
              <a:ext cx="4572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454880" y="387324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8 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 flipV="1">
              <a:off x="7530840" y="3428280"/>
              <a:ext cx="15228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 flipV="1">
              <a:off x="7149600" y="373320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388200" y="457164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3 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733920" y="274284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5 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330800" y="335268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3 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2743200" y="28954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4114800"/>
            <a:ext cx="419076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7531f"/>
                </a:solidFill>
                <a:latin typeface="Comic Sans MS"/>
              </a:rPr>
              <a:t>Area of top or bottom: 5 x 3=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b2b9"/>
                </a:solidFill>
                <a:latin typeface="Comic Sans MS"/>
              </a:rPr>
              <a:t>Area of front or back: 3 x 8=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7531f"/>
                </a:solidFill>
                <a:latin typeface="Comic Sans MS"/>
              </a:rPr>
              <a:t>Area of either side: 8 x 5=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d the areas of all six fac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7531f"/>
                </a:solidFill>
                <a:latin typeface="Comic Sans MS"/>
              </a:rPr>
              <a:t>15 + 15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1600" spc="-1" strike="noStrike">
                <a:solidFill>
                  <a:srgbClr val="57b2b9"/>
                </a:solidFill>
                <a:latin typeface="Comic Sans MS"/>
              </a:rPr>
              <a:t>24 + 24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1600" spc="-1" strike="noStrike">
                <a:solidFill>
                  <a:srgbClr val="c7531f"/>
                </a:solidFill>
                <a:latin typeface="Comic Sans MS"/>
              </a:rPr>
              <a:t>40 + 40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= 15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surface area of the prism 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58 square inch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84760" y="4411800"/>
            <a:ext cx="258480" cy="17280"/>
          </a:xfrm>
          <a:custGeom>
            <a:avLst/>
            <a:gdLst/>
            <a:ahLst/>
            <a:rect l="l" t="t" r="r" b="b"/>
            <a:pathLst>
              <a:path w="720" h="50">
                <a:moveTo>
                  <a:pt x="10964" y="12254"/>
                </a:moveTo>
                <a:cubicBezTo>
                  <a:pt x="11088" y="12254"/>
                  <a:pt x="11129" y="12254"/>
                  <a:pt x="11212" y="12254"/>
                </a:cubicBezTo>
                <a:cubicBezTo>
                  <a:pt x="11539" y="12271"/>
                  <a:pt x="11287" y="12288"/>
                  <a:pt x="11137" y="12278"/>
                </a:cubicBezTo>
                <a:cubicBezTo>
                  <a:pt x="11005" y="12269"/>
                  <a:pt x="10708" y="12236"/>
                  <a:pt x="10840" y="12254"/>
                </a:cubicBezTo>
                <a:cubicBezTo>
                  <a:pt x="11005" y="12277"/>
                  <a:pt x="11171" y="12293"/>
                  <a:pt x="11336" y="12303"/>
                </a:cubicBezTo>
                <a:cubicBezTo>
                  <a:pt x="11377" y="12306"/>
                  <a:pt x="10962" y="12257"/>
                  <a:pt x="10939" y="12254"/>
                </a:cubicBezTo>
                <a:cubicBezTo>
                  <a:pt x="10533" y="12254"/>
                  <a:pt x="11154" y="12278"/>
                  <a:pt x="11162" y="12278"/>
                </a:cubicBezTo>
                <a:cubicBezTo>
                  <a:pt x="11278" y="12279"/>
                  <a:pt x="11393" y="12278"/>
                  <a:pt x="11509" y="12278"/>
                </a:cubicBezTo>
                <a:cubicBezTo>
                  <a:pt x="11293" y="12278"/>
                  <a:pt x="11080" y="12260"/>
                  <a:pt x="10864" y="12254"/>
                </a:cubicBezTo>
                <a:cubicBezTo>
                  <a:pt x="10658" y="12249"/>
                  <a:pt x="11229" y="12254"/>
                  <a:pt x="11435" y="12254"/>
                </a:cubicBezTo>
                <a:cubicBezTo>
                  <a:pt x="11535" y="12254"/>
                  <a:pt x="11385" y="12271"/>
                  <a:pt x="11286" y="12278"/>
                </a:cubicBezTo>
                <a:cubicBezTo>
                  <a:pt x="11253" y="12278"/>
                  <a:pt x="11220" y="12278"/>
                  <a:pt x="11187" y="12278"/>
                </a:cubicBez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75040" y="4768920"/>
            <a:ext cx="216000" cy="54000"/>
          </a:xfrm>
          <a:custGeom>
            <a:avLst/>
            <a:gdLst/>
            <a:ahLst/>
            <a:rect l="l" t="t" r="r" b="b"/>
            <a:pathLst>
              <a:path w="597" h="150">
                <a:moveTo>
                  <a:pt x="10864" y="13395"/>
                </a:moveTo>
                <a:cubicBezTo>
                  <a:pt x="10897" y="13384"/>
                  <a:pt x="10894" y="13355"/>
                  <a:pt x="10914" y="13345"/>
                </a:cubicBezTo>
                <a:cubicBezTo>
                  <a:pt x="11013" y="13296"/>
                  <a:pt x="11177" y="13306"/>
                  <a:pt x="11286" y="13295"/>
                </a:cubicBezTo>
                <a:cubicBezTo>
                  <a:pt x="11452" y="13278"/>
                  <a:pt x="10956" y="13320"/>
                  <a:pt x="10790" y="13320"/>
                </a:cubicBezTo>
                <a:cubicBezTo>
                  <a:pt x="10614" y="13320"/>
                  <a:pt x="11087" y="13268"/>
                  <a:pt x="11261" y="13246"/>
                </a:cubicBezTo>
                <a:cubicBezTo>
                  <a:pt x="11374" y="13246"/>
                  <a:pt x="10965" y="13268"/>
                  <a:pt x="10889" y="13271"/>
                </a:cubicBezTo>
                <a:cubicBezTo>
                  <a:pt x="11046" y="13271"/>
                  <a:pt x="11204" y="13256"/>
                  <a:pt x="11361" y="13246"/>
                </a:cubicBezTo>
                <a:cubicBezTo>
                  <a:pt x="11540" y="13235"/>
                  <a:pt x="11013" y="13295"/>
                  <a:pt x="10840" y="13345"/>
                </a:cubicBezTo>
                <a:cubicBezTo>
                  <a:pt x="11004" y="13320"/>
                  <a:pt x="11154" y="13298"/>
                  <a:pt x="11311" y="13246"/>
                </a:cubicBez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01880" y="1874880"/>
            <a:ext cx="741240" cy="2500200"/>
          </a:xfrm>
          <a:custGeom>
            <a:avLst/>
            <a:gdLst/>
            <a:ahLst/>
            <a:rect l="l" t="t" r="r" b="b"/>
            <a:pathLst>
              <a:path w="2060" h="6946">
                <a:moveTo>
                  <a:pt x="5283" y="5259"/>
                </a:moveTo>
                <a:cubicBezTo>
                  <a:pt x="5295" y="5277"/>
                  <a:pt x="5398" y="5466"/>
                  <a:pt x="5432" y="5457"/>
                </a:cubicBezTo>
                <a:cubicBezTo>
                  <a:pt x="5563" y="5424"/>
                  <a:pt x="5662" y="5296"/>
                  <a:pt x="5755" y="5209"/>
                </a:cubicBezTo>
              </a:path>
              <a:path w="2060" h="6946">
                <a:moveTo>
                  <a:pt x="7342" y="12154"/>
                </a:moveTo>
                <a:cubicBezTo>
                  <a:pt x="7314" y="12126"/>
                  <a:pt x="7305" y="12113"/>
                  <a:pt x="7317" y="12080"/>
                </a:cubicBez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39880" y="1562040"/>
            <a:ext cx="1160280" cy="831960"/>
          </a:xfrm>
          <a:custGeom>
            <a:avLst/>
            <a:gdLst/>
            <a:ahLst/>
            <a:rect l="l" t="t" r="r" b="b"/>
            <a:pathLst>
              <a:path w="3225" h="2308">
                <a:moveTo>
                  <a:pt x="5383" y="5011"/>
                </a:moveTo>
                <a:cubicBezTo>
                  <a:pt x="5383" y="5178"/>
                  <a:pt x="5401" y="5341"/>
                  <a:pt x="5407" y="5507"/>
                </a:cubicBezTo>
                <a:cubicBezTo>
                  <a:pt x="5407" y="5531"/>
                  <a:pt x="5407" y="5539"/>
                  <a:pt x="5407" y="5507"/>
                </a:cubicBezTo>
              </a:path>
              <a:path w="3225" h="2308">
                <a:moveTo>
                  <a:pt x="2927" y="5879"/>
                </a:moveTo>
                <a:cubicBezTo>
                  <a:pt x="2927" y="5842"/>
                  <a:pt x="3224" y="6134"/>
                  <a:pt x="3274" y="6176"/>
                </a:cubicBezTo>
                <a:cubicBezTo>
                  <a:pt x="3370" y="6256"/>
                  <a:pt x="3458" y="6337"/>
                  <a:pt x="3547" y="6424"/>
                </a:cubicBezTo>
              </a:path>
              <a:path w="3225" h="2308">
                <a:moveTo>
                  <a:pt x="3349" y="6251"/>
                </a:moveTo>
                <a:cubicBezTo>
                  <a:pt x="3398" y="6334"/>
                  <a:pt x="3468" y="6410"/>
                  <a:pt x="3497" y="6499"/>
                </a:cubicBezTo>
                <a:cubicBezTo>
                  <a:pt x="3458" y="6551"/>
                  <a:pt x="3341" y="6594"/>
                  <a:pt x="3274" y="6648"/>
                </a:cubicBezTo>
              </a:path>
              <a:path w="3225" h="2308">
                <a:moveTo>
                  <a:pt x="3522" y="6127"/>
                </a:moveTo>
                <a:cubicBezTo>
                  <a:pt x="3556" y="6228"/>
                  <a:pt x="3565" y="6381"/>
                  <a:pt x="3572" y="6499"/>
                </a:cubicBezTo>
                <a:cubicBezTo>
                  <a:pt x="3572" y="6507"/>
                  <a:pt x="3572" y="6516"/>
                  <a:pt x="3572" y="6524"/>
                </a:cubicBezTo>
              </a:path>
              <a:path w="3225" h="2308">
                <a:moveTo>
                  <a:pt x="2332" y="5457"/>
                </a:moveTo>
                <a:cubicBezTo>
                  <a:pt x="2351" y="5380"/>
                  <a:pt x="2456" y="5367"/>
                  <a:pt x="2530" y="5383"/>
                </a:cubicBezTo>
                <a:cubicBezTo>
                  <a:pt x="2657" y="5410"/>
                  <a:pt x="2519" y="5712"/>
                  <a:pt x="2505" y="5755"/>
                </a:cubicBezTo>
                <a:cubicBezTo>
                  <a:pt x="2486" y="5812"/>
                  <a:pt x="2477" y="5819"/>
                  <a:pt x="2480" y="5854"/>
                </a:cubicBezTo>
                <a:cubicBezTo>
                  <a:pt x="2575" y="5830"/>
                  <a:pt x="2690" y="5709"/>
                  <a:pt x="2753" y="5631"/>
                </a:cubicBezTo>
                <a:cubicBezTo>
                  <a:pt x="2753" y="5606"/>
                  <a:pt x="2753" y="5598"/>
                  <a:pt x="2778" y="5606"/>
                </a:cubicBezTo>
              </a:path>
              <a:path w="3225" h="2308">
                <a:moveTo>
                  <a:pt x="4663" y="5779"/>
                </a:moveTo>
                <a:cubicBezTo>
                  <a:pt x="4604" y="5760"/>
                  <a:pt x="4670" y="5715"/>
                  <a:pt x="4713" y="5705"/>
                </a:cubicBezTo>
                <a:cubicBezTo>
                  <a:pt x="4847" y="5673"/>
                  <a:pt x="4800" y="5817"/>
                  <a:pt x="4787" y="5879"/>
                </a:cubicBezTo>
                <a:cubicBezTo>
                  <a:pt x="4787" y="5907"/>
                  <a:pt x="4785" y="5918"/>
                  <a:pt x="4762" y="5928"/>
                </a:cubicBezTo>
                <a:cubicBezTo>
                  <a:pt x="4815" y="5921"/>
                  <a:pt x="4995" y="5960"/>
                  <a:pt x="4961" y="6077"/>
                </a:cubicBezTo>
                <a:cubicBezTo>
                  <a:pt x="4935" y="6165"/>
                  <a:pt x="4792" y="6206"/>
                  <a:pt x="4762" y="6176"/>
                </a:cubicBezTo>
              </a:path>
              <a:path w="3225" h="2308">
                <a:moveTo>
                  <a:pt x="4316" y="6251"/>
                </a:moveTo>
                <a:cubicBezTo>
                  <a:pt x="4434" y="6336"/>
                  <a:pt x="4581" y="6483"/>
                  <a:pt x="4762" y="6474"/>
                </a:cubicBezTo>
                <a:cubicBezTo>
                  <a:pt x="5020" y="6461"/>
                  <a:pt x="5209" y="6108"/>
                  <a:pt x="5234" y="5879"/>
                </a:cubicBezTo>
                <a:cubicBezTo>
                  <a:pt x="5274" y="5508"/>
                  <a:pt x="4930" y="5326"/>
                  <a:pt x="4614" y="5333"/>
                </a:cubicBezTo>
                <a:cubicBezTo>
                  <a:pt x="4078" y="5345"/>
                  <a:pt x="4025" y="6006"/>
                  <a:pt x="4242" y="6375"/>
                </a:cubicBezTo>
                <a:cubicBezTo>
                  <a:pt x="4308" y="6433"/>
                  <a:pt x="4374" y="6490"/>
                  <a:pt x="4440" y="6548"/>
                </a:cubicBezTo>
              </a:path>
              <a:path w="3225" h="2308">
                <a:moveTo>
                  <a:pt x="5482" y="4341"/>
                </a:moveTo>
                <a:cubicBezTo>
                  <a:pt x="5449" y="4423"/>
                  <a:pt x="5523" y="4502"/>
                  <a:pt x="5556" y="4589"/>
                </a:cubicBezTo>
                <a:cubicBezTo>
                  <a:pt x="5565" y="4613"/>
                  <a:pt x="5556" y="4662"/>
                  <a:pt x="5556" y="4688"/>
                </a:cubicBez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357200" y="2616120"/>
            <a:ext cx="804960" cy="509760"/>
          </a:xfrm>
          <a:custGeom>
            <a:avLst/>
            <a:gdLst/>
            <a:ahLst/>
            <a:rect l="l" t="t" r="r" b="b"/>
            <a:pathLst>
              <a:path w="2234" h="1415">
                <a:moveTo>
                  <a:pt x="4192" y="7913"/>
                </a:moveTo>
                <a:cubicBezTo>
                  <a:pt x="4192" y="7848"/>
                  <a:pt x="4314" y="8256"/>
                  <a:pt x="4316" y="8260"/>
                </a:cubicBezTo>
                <a:cubicBezTo>
                  <a:pt x="4352" y="8350"/>
                  <a:pt x="4369" y="8355"/>
                  <a:pt x="4366" y="8409"/>
                </a:cubicBezTo>
              </a:path>
              <a:path w="2234" h="1415">
                <a:moveTo>
                  <a:pt x="3919" y="8434"/>
                </a:moveTo>
                <a:cubicBezTo>
                  <a:pt x="3963" y="8563"/>
                  <a:pt x="4087" y="8676"/>
                  <a:pt x="4242" y="8682"/>
                </a:cubicBezTo>
                <a:cubicBezTo>
                  <a:pt x="4451" y="8690"/>
                  <a:pt x="4629" y="8538"/>
                  <a:pt x="4713" y="8359"/>
                </a:cubicBezTo>
                <a:cubicBezTo>
                  <a:pt x="4780" y="8216"/>
                  <a:pt x="4761" y="8063"/>
                  <a:pt x="4663" y="7938"/>
                </a:cubicBezTo>
                <a:cubicBezTo>
                  <a:pt x="4582" y="7835"/>
                  <a:pt x="4443" y="7781"/>
                  <a:pt x="4316" y="7764"/>
                </a:cubicBezTo>
                <a:cubicBezTo>
                  <a:pt x="4167" y="7744"/>
                  <a:pt x="4020" y="7779"/>
                  <a:pt x="3894" y="7863"/>
                </a:cubicBezTo>
                <a:cubicBezTo>
                  <a:pt x="3738" y="7968"/>
                  <a:pt x="3778" y="8184"/>
                  <a:pt x="3795" y="8334"/>
                </a:cubicBezTo>
                <a:cubicBezTo>
                  <a:pt x="3823" y="8589"/>
                  <a:pt x="3887" y="8689"/>
                  <a:pt x="4167" y="8607"/>
                </a:cubicBezTo>
                <a:cubicBezTo>
                  <a:pt x="4261" y="8579"/>
                  <a:pt x="4318" y="8467"/>
                  <a:pt x="4415" y="8483"/>
                </a:cubicBezTo>
                <a:cubicBezTo>
                  <a:pt x="4415" y="8491"/>
                  <a:pt x="4415" y="8500"/>
                  <a:pt x="4415" y="8508"/>
                </a:cubicBezTo>
              </a:path>
              <a:path w="2234" h="1415">
                <a:moveTo>
                  <a:pt x="5531" y="7590"/>
                </a:moveTo>
                <a:cubicBezTo>
                  <a:pt x="5551" y="7512"/>
                  <a:pt x="5560" y="7478"/>
                  <a:pt x="5631" y="7466"/>
                </a:cubicBezTo>
                <a:cubicBezTo>
                  <a:pt x="5649" y="7637"/>
                  <a:pt x="5657" y="7752"/>
                  <a:pt x="5581" y="7913"/>
                </a:cubicBezTo>
                <a:cubicBezTo>
                  <a:pt x="5564" y="7938"/>
                  <a:pt x="5548" y="7962"/>
                  <a:pt x="5531" y="7987"/>
                </a:cubicBezTo>
                <a:cubicBezTo>
                  <a:pt x="5611" y="7961"/>
                  <a:pt x="5673" y="7893"/>
                  <a:pt x="5755" y="7863"/>
                </a:cubicBezTo>
                <a:cubicBezTo>
                  <a:pt x="5779" y="7863"/>
                  <a:pt x="5788" y="7863"/>
                  <a:pt x="5804" y="7863"/>
                </a:cubicBezTo>
              </a:path>
              <a:path w="2234" h="1415">
                <a:moveTo>
                  <a:pt x="5556" y="8086"/>
                </a:moveTo>
                <a:cubicBezTo>
                  <a:pt x="5724" y="8112"/>
                  <a:pt x="5826" y="8062"/>
                  <a:pt x="5928" y="7913"/>
                </a:cubicBezTo>
                <a:cubicBezTo>
                  <a:pt x="6022" y="7776"/>
                  <a:pt x="6046" y="7557"/>
                  <a:pt x="5953" y="7417"/>
                </a:cubicBezTo>
                <a:cubicBezTo>
                  <a:pt x="5832" y="7235"/>
                  <a:pt x="5643" y="7257"/>
                  <a:pt x="5457" y="7293"/>
                </a:cubicBezTo>
                <a:cubicBezTo>
                  <a:pt x="5191" y="7344"/>
                  <a:pt x="5266" y="7637"/>
                  <a:pt x="5283" y="7838"/>
                </a:cubicBezTo>
                <a:cubicBezTo>
                  <a:pt x="5309" y="8144"/>
                  <a:pt x="5414" y="8271"/>
                  <a:pt x="5730" y="8210"/>
                </a:cubicBezTo>
                <a:cubicBezTo>
                  <a:pt x="5844" y="8188"/>
                  <a:pt x="5875" y="8153"/>
                  <a:pt x="5953" y="8111"/>
                </a:cubicBez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11240" y="3463920"/>
            <a:ext cx="652680" cy="528480"/>
          </a:xfrm>
          <a:custGeom>
            <a:avLst/>
            <a:gdLst/>
            <a:ahLst/>
            <a:rect l="l" t="t" r="r" b="b"/>
            <a:pathLst>
              <a:path w="1812" h="1465">
                <a:moveTo>
                  <a:pt x="5383" y="9624"/>
                </a:moveTo>
                <a:cubicBezTo>
                  <a:pt x="5272" y="9661"/>
                  <a:pt x="5475" y="9789"/>
                  <a:pt x="5556" y="9872"/>
                </a:cubicBezTo>
                <a:cubicBezTo>
                  <a:pt x="5598" y="9915"/>
                  <a:pt x="5682" y="9975"/>
                  <a:pt x="5705" y="10021"/>
                </a:cubicBezTo>
                <a:cubicBezTo>
                  <a:pt x="5680" y="9921"/>
                  <a:pt x="5579" y="9833"/>
                  <a:pt x="5507" y="9748"/>
                </a:cubicBezTo>
                <a:cubicBezTo>
                  <a:pt x="5418" y="9643"/>
                  <a:pt x="5384" y="9945"/>
                  <a:pt x="5358" y="9996"/>
                </a:cubicBezTo>
                <a:cubicBezTo>
                  <a:pt x="5350" y="10004"/>
                  <a:pt x="5341" y="10013"/>
                  <a:pt x="5333" y="10021"/>
                </a:cubicBezTo>
                <a:cubicBezTo>
                  <a:pt x="5337" y="10017"/>
                  <a:pt x="5478" y="9746"/>
                  <a:pt x="5482" y="9748"/>
                </a:cubicBezTo>
                <a:cubicBezTo>
                  <a:pt x="5622" y="9815"/>
                  <a:pt x="5651" y="10018"/>
                  <a:pt x="5804" y="9922"/>
                </a:cubicBezTo>
              </a:path>
              <a:path w="1812" h="1465">
                <a:moveTo>
                  <a:pt x="6325" y="10344"/>
                </a:moveTo>
                <a:cubicBezTo>
                  <a:pt x="6238" y="10315"/>
                  <a:pt x="6398" y="10210"/>
                  <a:pt x="6424" y="10195"/>
                </a:cubicBezTo>
                <a:cubicBezTo>
                  <a:pt x="6449" y="10187"/>
                  <a:pt x="6474" y="10178"/>
                  <a:pt x="6499" y="10170"/>
                </a:cubicBezTo>
                <a:cubicBezTo>
                  <a:pt x="6513" y="10305"/>
                  <a:pt x="6503" y="10407"/>
                  <a:pt x="6474" y="10542"/>
                </a:cubicBezTo>
                <a:cubicBezTo>
                  <a:pt x="6497" y="10426"/>
                  <a:pt x="6583" y="10450"/>
                  <a:pt x="6648" y="10542"/>
                </a:cubicBezTo>
                <a:cubicBezTo>
                  <a:pt x="6772" y="10717"/>
                  <a:pt x="6484" y="10786"/>
                  <a:pt x="6375" y="10765"/>
                </a:cubicBezTo>
                <a:cubicBezTo>
                  <a:pt x="6342" y="10749"/>
                  <a:pt x="6309" y="10732"/>
                  <a:pt x="6276" y="10716"/>
                </a:cubicBezTo>
              </a:path>
              <a:path w="1812" h="1465">
                <a:moveTo>
                  <a:pt x="6226" y="10939"/>
                </a:moveTo>
                <a:cubicBezTo>
                  <a:pt x="6517" y="10947"/>
                  <a:pt x="6994" y="10957"/>
                  <a:pt x="7119" y="10592"/>
                </a:cubicBezTo>
                <a:cubicBezTo>
                  <a:pt x="7249" y="10213"/>
                  <a:pt x="6853" y="9732"/>
                  <a:pt x="6449" y="9847"/>
                </a:cubicBezTo>
                <a:cubicBezTo>
                  <a:pt x="5742" y="10049"/>
                  <a:pt x="5901" y="10693"/>
                  <a:pt x="6226" y="11088"/>
                </a:cubicBezTo>
              </a:path>
              <a:path w="1812" h="1465">
                <a:moveTo>
                  <a:pt x="5333" y="9798"/>
                </a:moveTo>
                <a:cubicBezTo>
                  <a:pt x="5218" y="9798"/>
                  <a:pt x="5492" y="9714"/>
                  <a:pt x="5606" y="9699"/>
                </a:cubicBezTo>
                <a:cubicBezTo>
                  <a:pt x="5706" y="9686"/>
                  <a:pt x="5824" y="9699"/>
                  <a:pt x="5928" y="9699"/>
                </a:cubicBez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85960" y="5099040"/>
            <a:ext cx="1206360" cy="115920"/>
          </a:xfrm>
          <a:custGeom>
            <a:avLst/>
            <a:gdLst/>
            <a:ahLst/>
            <a:rect l="l" t="t" r="r" b="b"/>
            <a:pathLst>
              <a:path w="3350" h="324">
                <a:moveTo>
                  <a:pt x="4961" y="14263"/>
                </a:moveTo>
                <a:cubicBezTo>
                  <a:pt x="5167" y="14263"/>
                  <a:pt x="5378" y="14261"/>
                  <a:pt x="5581" y="14238"/>
                </a:cubicBezTo>
                <a:cubicBezTo>
                  <a:pt x="5768" y="14217"/>
                  <a:pt x="5937" y="14188"/>
                  <a:pt x="6127" y="14188"/>
                </a:cubicBezTo>
                <a:cubicBezTo>
                  <a:pt x="6370" y="14188"/>
                  <a:pt x="6607" y="14183"/>
                  <a:pt x="6846" y="14163"/>
                </a:cubicBezTo>
                <a:cubicBezTo>
                  <a:pt x="6968" y="14153"/>
                  <a:pt x="7075" y="14184"/>
                  <a:pt x="7193" y="14188"/>
                </a:cubicBezTo>
                <a:cubicBezTo>
                  <a:pt x="7331" y="14193"/>
                  <a:pt x="7454" y="14223"/>
                  <a:pt x="7590" y="14238"/>
                </a:cubicBezTo>
                <a:cubicBezTo>
                  <a:pt x="7768" y="14257"/>
                  <a:pt x="7989" y="14257"/>
                  <a:pt x="8161" y="14213"/>
                </a:cubicBezTo>
                <a:cubicBezTo>
                  <a:pt x="8163" y="14213"/>
                  <a:pt x="8355" y="14170"/>
                  <a:pt x="8285" y="14188"/>
                </a:cubicBezTo>
                <a:cubicBezTo>
                  <a:pt x="8070" y="14242"/>
                  <a:pt x="7859" y="14238"/>
                  <a:pt x="7640" y="14238"/>
                </a:cubicBezTo>
                <a:cubicBezTo>
                  <a:pt x="7328" y="14238"/>
                  <a:pt x="7005" y="14213"/>
                  <a:pt x="6697" y="14263"/>
                </a:cubicBezTo>
                <a:cubicBezTo>
                  <a:pt x="6498" y="14295"/>
                  <a:pt x="6301" y="14330"/>
                  <a:pt x="6102" y="14362"/>
                </a:cubicBezTo>
                <a:cubicBezTo>
                  <a:pt x="5910" y="14393"/>
                  <a:pt x="5725" y="14466"/>
                  <a:pt x="5531" y="14486"/>
                </a:cubicBezTo>
                <a:cubicBezTo>
                  <a:pt x="5468" y="14492"/>
                  <a:pt x="5286" y="14511"/>
                  <a:pt x="5234" y="14461"/>
                </a:cubicBezTo>
                <a:cubicBezTo>
                  <a:pt x="5194" y="14423"/>
                  <a:pt x="5176" y="14367"/>
                  <a:pt x="5159" y="14337"/>
                </a:cubicBezTo>
                <a:cubicBezTo>
                  <a:pt x="5256" y="14241"/>
                  <a:pt x="5320" y="14184"/>
                  <a:pt x="5482" y="14213"/>
                </a:cubicBezTo>
                <a:cubicBezTo>
                  <a:pt x="5830" y="14275"/>
                  <a:pt x="6168" y="14326"/>
                  <a:pt x="6524" y="14362"/>
                </a:cubicBezTo>
                <a:cubicBezTo>
                  <a:pt x="6814" y="14392"/>
                  <a:pt x="7101" y="14387"/>
                  <a:pt x="7392" y="14387"/>
                </a:cubicBezTo>
                <a:cubicBezTo>
                  <a:pt x="7546" y="14387"/>
                  <a:pt x="7690" y="14378"/>
                  <a:pt x="7838" y="14362"/>
                </a:cubicBezTo>
                <a:cubicBezTo>
                  <a:pt x="7894" y="14356"/>
                  <a:pt x="7955" y="14362"/>
                  <a:pt x="8012" y="14362"/>
                </a:cubicBez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358040" y="2652840"/>
            <a:ext cx="581040" cy="446040"/>
          </a:xfrm>
          <a:custGeom>
            <a:avLst/>
            <a:gdLst/>
            <a:ahLst/>
            <a:rect l="l" t="t" r="r" b="b"/>
            <a:pathLst>
              <a:path w="1613" h="1241">
                <a:moveTo>
                  <a:pt x="21158" y="8012"/>
                </a:moveTo>
                <a:cubicBezTo>
                  <a:pt x="21115" y="7939"/>
                  <a:pt x="21144" y="7854"/>
                  <a:pt x="21208" y="7789"/>
                </a:cubicBezTo>
                <a:cubicBezTo>
                  <a:pt x="21278" y="7742"/>
                  <a:pt x="21298" y="7725"/>
                  <a:pt x="21357" y="7739"/>
                </a:cubicBezTo>
                <a:cubicBezTo>
                  <a:pt x="21464" y="7940"/>
                  <a:pt x="21413" y="7995"/>
                  <a:pt x="21258" y="8161"/>
                </a:cubicBezTo>
                <a:cubicBezTo>
                  <a:pt x="21174" y="8251"/>
                  <a:pt x="21076" y="8342"/>
                  <a:pt x="21010" y="8434"/>
                </a:cubicBezTo>
                <a:cubicBezTo>
                  <a:pt x="21002" y="8442"/>
                  <a:pt x="20993" y="8450"/>
                  <a:pt x="20985" y="8458"/>
                </a:cubicBezTo>
                <a:cubicBezTo>
                  <a:pt x="21108" y="8418"/>
                  <a:pt x="21193" y="8331"/>
                  <a:pt x="21332" y="8310"/>
                </a:cubicBezTo>
                <a:cubicBezTo>
                  <a:pt x="21438" y="8294"/>
                  <a:pt x="21491" y="8356"/>
                  <a:pt x="21580" y="8359"/>
                </a:cubicBezTo>
                <a:cubicBezTo>
                  <a:pt x="21658" y="8359"/>
                  <a:pt x="21676" y="8374"/>
                  <a:pt x="21704" y="8334"/>
                </a:cubicBezTo>
              </a:path>
              <a:path w="1613" h="1241">
                <a:moveTo>
                  <a:pt x="20786" y="8483"/>
                </a:moveTo>
                <a:cubicBezTo>
                  <a:pt x="21140" y="8640"/>
                  <a:pt x="21473" y="8641"/>
                  <a:pt x="21803" y="8409"/>
                </a:cubicBezTo>
                <a:cubicBezTo>
                  <a:pt x="22063" y="8227"/>
                  <a:pt x="22156" y="7947"/>
                  <a:pt x="21927" y="7689"/>
                </a:cubicBezTo>
                <a:cubicBezTo>
                  <a:pt x="21729" y="7466"/>
                  <a:pt x="21307" y="7302"/>
                  <a:pt x="21010" y="7367"/>
                </a:cubicBezTo>
                <a:cubicBezTo>
                  <a:pt x="20698" y="7435"/>
                  <a:pt x="20316" y="7844"/>
                  <a:pt x="20439" y="8186"/>
                </a:cubicBezTo>
                <a:cubicBezTo>
                  <a:pt x="20559" y="8520"/>
                  <a:pt x="20896" y="8558"/>
                  <a:pt x="21183" y="8533"/>
                </a:cubicBez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661080" y="3697200"/>
            <a:ext cx="331920" cy="320760"/>
          </a:xfrm>
          <a:custGeom>
            <a:avLst/>
            <a:gdLst/>
            <a:ahLst/>
            <a:rect l="l" t="t" r="r" b="b"/>
            <a:pathLst>
              <a:path w="919" h="894">
                <a:moveTo>
                  <a:pt x="18802" y="10319"/>
                </a:moveTo>
                <a:cubicBezTo>
                  <a:pt x="18820" y="10511"/>
                  <a:pt x="18846" y="10697"/>
                  <a:pt x="18852" y="10889"/>
                </a:cubicBezTo>
                <a:cubicBezTo>
                  <a:pt x="18852" y="10914"/>
                  <a:pt x="18852" y="10922"/>
                  <a:pt x="18876" y="10914"/>
                </a:cubicBezTo>
              </a:path>
              <a:path w="919" h="894">
                <a:moveTo>
                  <a:pt x="18504" y="10914"/>
                </a:moveTo>
                <a:cubicBezTo>
                  <a:pt x="18646" y="11076"/>
                  <a:pt x="18762" y="11212"/>
                  <a:pt x="19000" y="11137"/>
                </a:cubicBezTo>
                <a:cubicBezTo>
                  <a:pt x="19227" y="11065"/>
                  <a:pt x="19464" y="10927"/>
                  <a:pt x="19397" y="10666"/>
                </a:cubicBezTo>
                <a:cubicBezTo>
                  <a:pt x="19334" y="10421"/>
                  <a:pt x="19124" y="10204"/>
                  <a:pt x="18852" y="10269"/>
                </a:cubicBezTo>
                <a:cubicBezTo>
                  <a:pt x="18559" y="10339"/>
                  <a:pt x="18456" y="10647"/>
                  <a:pt x="18604" y="10889"/>
                </a:cubicBezTo>
                <a:cubicBezTo>
                  <a:pt x="18721" y="11080"/>
                  <a:pt x="18783" y="11035"/>
                  <a:pt x="18926" y="10964"/>
                </a:cubicBez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634080" y="4429080"/>
            <a:ext cx="243000" cy="44640"/>
          </a:xfrm>
          <a:custGeom>
            <a:avLst/>
            <a:gdLst/>
            <a:ahLst/>
            <a:rect l="l" t="t" r="r" b="b"/>
            <a:pathLst>
              <a:path w="671" h="125">
                <a:moveTo>
                  <a:pt x="18430" y="12303"/>
                </a:moveTo>
                <a:cubicBezTo>
                  <a:pt x="18643" y="12333"/>
                  <a:pt x="18841" y="12390"/>
                  <a:pt x="19050" y="12427"/>
                </a:cubicBezTo>
                <a:cubicBezTo>
                  <a:pt x="19174" y="12449"/>
                  <a:pt x="18997" y="12427"/>
                  <a:pt x="18976" y="12427"/>
                </a:cubicBez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966000" y="44118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9348" y="12254"/>
                </a:moveTo>
                <a:lnTo>
                  <a:pt x="19348" y="12254"/>
                </a:ln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527880" y="1633680"/>
            <a:ext cx="322200" cy="366480"/>
          </a:xfrm>
          <a:custGeom>
            <a:avLst/>
            <a:gdLst/>
            <a:ahLst/>
            <a:rect l="l" t="t" r="r" b="b"/>
            <a:pathLst>
              <a:path w="894" h="1018">
                <a:moveTo>
                  <a:pt x="18430" y="4961"/>
                </a:moveTo>
                <a:cubicBezTo>
                  <a:pt x="18430" y="4861"/>
                  <a:pt x="18395" y="5109"/>
                  <a:pt x="18405" y="5209"/>
                </a:cubicBezTo>
                <a:cubicBezTo>
                  <a:pt x="18411" y="5274"/>
                  <a:pt x="18430" y="5301"/>
                  <a:pt x="18430" y="5358"/>
                </a:cubicBezTo>
              </a:path>
              <a:path w="894" h="1018">
                <a:moveTo>
                  <a:pt x="18132" y="5259"/>
                </a:moveTo>
                <a:cubicBezTo>
                  <a:pt x="18218" y="5384"/>
                  <a:pt x="18267" y="5481"/>
                  <a:pt x="18430" y="5531"/>
                </a:cubicBezTo>
                <a:cubicBezTo>
                  <a:pt x="18623" y="5590"/>
                  <a:pt x="18877" y="5494"/>
                  <a:pt x="18976" y="5308"/>
                </a:cubicBezTo>
                <a:cubicBezTo>
                  <a:pt x="19064" y="5141"/>
                  <a:pt x="19042" y="4910"/>
                  <a:pt x="18926" y="4762"/>
                </a:cubicBezTo>
                <a:cubicBezTo>
                  <a:pt x="18824" y="4632"/>
                  <a:pt x="18627" y="4492"/>
                  <a:pt x="18455" y="4564"/>
                </a:cubicBezTo>
                <a:cubicBezTo>
                  <a:pt x="18230" y="4658"/>
                  <a:pt x="18083" y="4951"/>
                  <a:pt x="18157" y="5184"/>
                </a:cubicBezTo>
                <a:cubicBezTo>
                  <a:pt x="18203" y="5327"/>
                  <a:pt x="18285" y="5355"/>
                  <a:pt x="18405" y="5383"/>
                </a:cubicBez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510240" y="2643120"/>
            <a:ext cx="392040" cy="455760"/>
          </a:xfrm>
          <a:custGeom>
            <a:avLst/>
            <a:gdLst/>
            <a:ahLst/>
            <a:rect l="l" t="t" r="r" b="b"/>
            <a:pathLst>
              <a:path w="1092" h="1266">
                <a:moveTo>
                  <a:pt x="18281" y="7987"/>
                </a:moveTo>
                <a:cubicBezTo>
                  <a:pt x="18353" y="7952"/>
                  <a:pt x="18438" y="7821"/>
                  <a:pt x="18554" y="7838"/>
                </a:cubicBezTo>
                <a:cubicBezTo>
                  <a:pt x="18571" y="7855"/>
                  <a:pt x="18587" y="7871"/>
                  <a:pt x="18604" y="7888"/>
                </a:cubicBezTo>
                <a:cubicBezTo>
                  <a:pt x="18546" y="8027"/>
                  <a:pt x="18500" y="8080"/>
                  <a:pt x="18380" y="8161"/>
                </a:cubicBezTo>
                <a:cubicBezTo>
                  <a:pt x="18428" y="8041"/>
                  <a:pt x="18545" y="8067"/>
                  <a:pt x="18628" y="8161"/>
                </a:cubicBezTo>
                <a:cubicBezTo>
                  <a:pt x="18760" y="8311"/>
                  <a:pt x="18498" y="8391"/>
                  <a:pt x="18405" y="8384"/>
                </a:cubicBezTo>
                <a:cubicBezTo>
                  <a:pt x="18372" y="8376"/>
                  <a:pt x="18339" y="8367"/>
                  <a:pt x="18306" y="8359"/>
                </a:cubicBezTo>
              </a:path>
              <a:path w="1092" h="1266">
                <a:moveTo>
                  <a:pt x="18083" y="8434"/>
                </a:moveTo>
                <a:cubicBezTo>
                  <a:pt x="18294" y="8589"/>
                  <a:pt x="18540" y="8681"/>
                  <a:pt x="18802" y="8533"/>
                </a:cubicBezTo>
                <a:cubicBezTo>
                  <a:pt x="19074" y="8379"/>
                  <a:pt x="19275" y="7965"/>
                  <a:pt x="19124" y="7665"/>
                </a:cubicBezTo>
                <a:cubicBezTo>
                  <a:pt x="18896" y="7213"/>
                  <a:pt x="18392" y="7284"/>
                  <a:pt x="18182" y="7689"/>
                </a:cubicBezTo>
                <a:cubicBezTo>
                  <a:pt x="17971" y="8096"/>
                  <a:pt x="18127" y="8364"/>
                  <a:pt x="18455" y="8582"/>
                </a:cubicBez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276880" y="2714760"/>
            <a:ext cx="573120" cy="465120"/>
          </a:xfrm>
          <a:custGeom>
            <a:avLst/>
            <a:gdLst/>
            <a:ahLst/>
            <a:rect l="l" t="t" r="r" b="b"/>
            <a:pathLst>
              <a:path w="1588" h="1290">
                <a:moveTo>
                  <a:pt x="15329" y="7987"/>
                </a:moveTo>
                <a:cubicBezTo>
                  <a:pt x="15329" y="7951"/>
                  <a:pt x="15344" y="7909"/>
                  <a:pt x="15379" y="7888"/>
                </a:cubicBezTo>
                <a:cubicBezTo>
                  <a:pt x="15481" y="7828"/>
                  <a:pt x="15600" y="7889"/>
                  <a:pt x="15577" y="8037"/>
                </a:cubicBezTo>
                <a:cubicBezTo>
                  <a:pt x="15552" y="8194"/>
                  <a:pt x="15361" y="8353"/>
                  <a:pt x="15255" y="8458"/>
                </a:cubicBezTo>
                <a:cubicBezTo>
                  <a:pt x="15225" y="8488"/>
                  <a:pt x="15214" y="8502"/>
                  <a:pt x="15205" y="8533"/>
                </a:cubicBezTo>
                <a:cubicBezTo>
                  <a:pt x="15258" y="8466"/>
                  <a:pt x="15321" y="8366"/>
                  <a:pt x="15429" y="8384"/>
                </a:cubicBezTo>
                <a:cubicBezTo>
                  <a:pt x="15522" y="8400"/>
                  <a:pt x="15622" y="8490"/>
                  <a:pt x="15726" y="8508"/>
                </a:cubicBezTo>
              </a:path>
              <a:path w="1588" h="1290">
                <a:moveTo>
                  <a:pt x="14833" y="8632"/>
                </a:moveTo>
                <a:cubicBezTo>
                  <a:pt x="15169" y="8732"/>
                  <a:pt x="15446" y="8836"/>
                  <a:pt x="15776" y="8657"/>
                </a:cubicBezTo>
                <a:cubicBezTo>
                  <a:pt x="16010" y="8531"/>
                  <a:pt x="16398" y="8199"/>
                  <a:pt x="16197" y="7888"/>
                </a:cubicBezTo>
                <a:cubicBezTo>
                  <a:pt x="15919" y="7457"/>
                  <a:pt x="15232" y="7419"/>
                  <a:pt x="14858" y="7739"/>
                </a:cubicBezTo>
                <a:cubicBezTo>
                  <a:pt x="14504" y="8042"/>
                  <a:pt x="14644" y="8706"/>
                  <a:pt x="15106" y="8830"/>
                </a:cubicBezTo>
                <a:cubicBezTo>
                  <a:pt x="15172" y="8814"/>
                  <a:pt x="15238" y="8797"/>
                  <a:pt x="15304" y="8781"/>
                </a:cubicBez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330800" y="2732040"/>
            <a:ext cx="376200" cy="403200"/>
          </a:xfrm>
          <a:custGeom>
            <a:avLst/>
            <a:gdLst/>
            <a:ahLst/>
            <a:rect l="l" t="t" r="r" b="b"/>
            <a:pathLst>
              <a:path w="1043" h="1117">
                <a:moveTo>
                  <a:pt x="12551" y="8037"/>
                </a:moveTo>
                <a:cubicBezTo>
                  <a:pt x="12504" y="8037"/>
                  <a:pt x="12612" y="7953"/>
                  <a:pt x="12650" y="7938"/>
                </a:cubicBezTo>
                <a:cubicBezTo>
                  <a:pt x="12667" y="7938"/>
                  <a:pt x="12683" y="7938"/>
                  <a:pt x="12700" y="7938"/>
                </a:cubicBezTo>
                <a:cubicBezTo>
                  <a:pt x="12760" y="8056"/>
                  <a:pt x="12717" y="8124"/>
                  <a:pt x="12601" y="8210"/>
                </a:cubicBezTo>
                <a:cubicBezTo>
                  <a:pt x="12568" y="8210"/>
                  <a:pt x="12560" y="8202"/>
                  <a:pt x="12576" y="8161"/>
                </a:cubicBezTo>
                <a:cubicBezTo>
                  <a:pt x="12743" y="8146"/>
                  <a:pt x="12774" y="8198"/>
                  <a:pt x="12799" y="8359"/>
                </a:cubicBezTo>
                <a:cubicBezTo>
                  <a:pt x="12657" y="8418"/>
                  <a:pt x="12557" y="8434"/>
                  <a:pt x="12402" y="8434"/>
                </a:cubicBezTo>
              </a:path>
              <a:path w="1043" h="1117">
                <a:moveTo>
                  <a:pt x="12452" y="8607"/>
                </a:moveTo>
                <a:cubicBezTo>
                  <a:pt x="12699" y="8627"/>
                  <a:pt x="12947" y="8645"/>
                  <a:pt x="13047" y="8359"/>
                </a:cubicBezTo>
                <a:cubicBezTo>
                  <a:pt x="13133" y="8112"/>
                  <a:pt x="13024" y="7538"/>
                  <a:pt x="12650" y="7590"/>
                </a:cubicBezTo>
                <a:cubicBezTo>
                  <a:pt x="12303" y="7639"/>
                  <a:pt x="11746" y="8369"/>
                  <a:pt x="12154" y="8657"/>
                </a:cubicBezTo>
                <a:cubicBezTo>
                  <a:pt x="12253" y="8673"/>
                  <a:pt x="12353" y="8690"/>
                  <a:pt x="12452" y="8706"/>
                </a:cubicBez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08080" y="5848200"/>
            <a:ext cx="633240" cy="63720"/>
          </a:xfrm>
          <a:custGeom>
            <a:avLst/>
            <a:gdLst/>
            <a:ahLst/>
            <a:rect l="l" t="t" r="r" b="b"/>
            <a:pathLst>
              <a:path w="1762" h="175">
                <a:moveTo>
                  <a:pt x="3150" y="16346"/>
                </a:moveTo>
                <a:cubicBezTo>
                  <a:pt x="3039" y="16309"/>
                  <a:pt x="3308" y="16313"/>
                  <a:pt x="3423" y="16297"/>
                </a:cubicBezTo>
                <a:cubicBezTo>
                  <a:pt x="3548" y="16276"/>
                  <a:pt x="3575" y="16260"/>
                  <a:pt x="3646" y="16297"/>
                </a:cubicBezTo>
                <a:cubicBezTo>
                  <a:pt x="3450" y="16323"/>
                  <a:pt x="3295" y="16315"/>
                  <a:pt x="3101" y="16272"/>
                </a:cubicBezTo>
                <a:cubicBezTo>
                  <a:pt x="2977" y="16272"/>
                  <a:pt x="3299" y="16301"/>
                  <a:pt x="3423" y="16297"/>
                </a:cubicBezTo>
                <a:cubicBezTo>
                  <a:pt x="3503" y="16295"/>
                  <a:pt x="3850" y="16304"/>
                  <a:pt x="3522" y="16321"/>
                </a:cubicBezTo>
                <a:cubicBezTo>
                  <a:pt x="3389" y="16328"/>
                  <a:pt x="3045" y="16327"/>
                  <a:pt x="3175" y="16297"/>
                </a:cubicBezTo>
                <a:cubicBezTo>
                  <a:pt x="3208" y="16289"/>
                  <a:pt x="3241" y="16280"/>
                  <a:pt x="3274" y="16272"/>
                </a:cubicBezTo>
              </a:path>
              <a:path w="1762" h="175">
                <a:moveTo>
                  <a:pt x="4142" y="16421"/>
                </a:moveTo>
                <a:cubicBezTo>
                  <a:pt x="4263" y="16348"/>
                  <a:pt x="4453" y="16414"/>
                  <a:pt x="4589" y="16421"/>
                </a:cubicBezTo>
                <a:cubicBezTo>
                  <a:pt x="4739" y="16429"/>
                  <a:pt x="4788" y="16421"/>
                  <a:pt x="4614" y="16421"/>
                </a:cubicBezTo>
                <a:cubicBezTo>
                  <a:pt x="4535" y="16412"/>
                  <a:pt x="4019" y="16352"/>
                  <a:pt x="4118" y="16346"/>
                </a:cubicBezTo>
                <a:cubicBezTo>
                  <a:pt x="4328" y="16334"/>
                  <a:pt x="4549" y="16371"/>
                  <a:pt x="4762" y="16371"/>
                </a:cubicBezTo>
                <a:cubicBezTo>
                  <a:pt x="4901" y="16371"/>
                  <a:pt x="4727" y="16349"/>
                  <a:pt x="4688" y="16346"/>
                </a:cubicBezTo>
                <a:cubicBezTo>
                  <a:pt x="4523" y="16346"/>
                  <a:pt x="4473" y="16346"/>
                  <a:pt x="4366" y="16346"/>
                </a:cubicBezTo>
                <a:cubicBezTo>
                  <a:pt x="4320" y="16416"/>
                  <a:pt x="4626" y="16354"/>
                  <a:pt x="4688" y="16346"/>
                </a:cubicBezTo>
                <a:cubicBezTo>
                  <a:pt x="4897" y="16321"/>
                  <a:pt x="4832" y="16321"/>
                  <a:pt x="4713" y="16321"/>
                </a:cubicBezTo>
                <a:cubicBezTo>
                  <a:pt x="4699" y="16321"/>
                  <a:pt x="4235" y="16333"/>
                  <a:pt x="4316" y="16321"/>
                </a:cubicBezTo>
                <a:cubicBezTo>
                  <a:pt x="4481" y="16296"/>
                  <a:pt x="4647" y="16268"/>
                  <a:pt x="4812" y="16247"/>
                </a:cubicBez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97040" y="3697200"/>
            <a:ext cx="3313080" cy="2874960"/>
          </a:xfrm>
          <a:custGeom>
            <a:avLst/>
            <a:gdLst/>
            <a:ahLst/>
            <a:rect l="l" t="t" r="r" b="b"/>
            <a:pathLst>
              <a:path w="9203" h="7988">
                <a:moveTo>
                  <a:pt x="5482" y="13345"/>
                </a:moveTo>
                <a:lnTo>
                  <a:pt x="5482" y="13345"/>
                </a:lnTo>
              </a:path>
              <a:path w="9203" h="7988">
                <a:moveTo>
                  <a:pt x="5482" y="13370"/>
                </a:moveTo>
                <a:cubicBezTo>
                  <a:pt x="5540" y="13362"/>
                  <a:pt x="5597" y="13353"/>
                  <a:pt x="5655" y="13345"/>
                </a:cubicBezTo>
              </a:path>
              <a:path w="9203" h="7988">
                <a:moveTo>
                  <a:pt x="13915" y="10294"/>
                </a:moveTo>
                <a:cubicBezTo>
                  <a:pt x="13915" y="10286"/>
                  <a:pt x="13915" y="10277"/>
                  <a:pt x="13915" y="10269"/>
                </a:cubicBezTo>
              </a:path>
              <a:path w="9203" h="7988">
                <a:moveTo>
                  <a:pt x="4713" y="18231"/>
                </a:moveTo>
                <a:cubicBezTo>
                  <a:pt x="4713" y="18239"/>
                  <a:pt x="4713" y="18248"/>
                  <a:pt x="4713" y="18256"/>
                </a:cubicBezTo>
              </a:path>
              <a:path w="9203" h="7988">
                <a:moveTo>
                  <a:pt x="5259" y="16495"/>
                </a:moveTo>
                <a:cubicBezTo>
                  <a:pt x="5259" y="16512"/>
                  <a:pt x="5259" y="16528"/>
                  <a:pt x="5259" y="16545"/>
                </a:cubicBez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89640" y="5688000"/>
            <a:ext cx="295200" cy="152280"/>
          </a:xfrm>
          <a:custGeom>
            <a:avLst/>
            <a:gdLst/>
            <a:ahLst/>
            <a:rect l="l" t="t" r="r" b="b"/>
            <a:pathLst>
              <a:path w="819" h="422">
                <a:moveTo>
                  <a:pt x="12750" y="16222"/>
                </a:moveTo>
                <a:lnTo>
                  <a:pt x="12750" y="16222"/>
                </a:lnTo>
              </a:path>
              <a:path w="819" h="422">
                <a:moveTo>
                  <a:pt x="13568" y="15801"/>
                </a:moveTo>
                <a:cubicBezTo>
                  <a:pt x="13533" y="15801"/>
                  <a:pt x="13520" y="15810"/>
                  <a:pt x="13519" y="15850"/>
                </a:cubicBez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76800" y="5732640"/>
            <a:ext cx="268200" cy="358560"/>
          </a:xfrm>
          <a:custGeom>
            <a:avLst/>
            <a:gdLst/>
            <a:ahLst/>
            <a:rect l="l" t="t" r="r" b="b"/>
            <a:pathLst>
              <a:path w="746" h="993">
                <a:moveTo>
                  <a:pt x="12080" y="15974"/>
                </a:moveTo>
                <a:cubicBezTo>
                  <a:pt x="12056" y="15938"/>
                  <a:pt x="12008" y="15921"/>
                  <a:pt x="11956" y="15949"/>
                </a:cubicBezTo>
                <a:cubicBezTo>
                  <a:pt x="11872" y="15995"/>
                  <a:pt x="11881" y="15983"/>
                  <a:pt x="11881" y="16049"/>
                </a:cubicBezTo>
                <a:cubicBezTo>
                  <a:pt x="11943" y="16073"/>
                  <a:pt x="12116" y="16075"/>
                  <a:pt x="12154" y="16123"/>
                </a:cubicBezTo>
                <a:cubicBezTo>
                  <a:pt x="12254" y="16252"/>
                  <a:pt x="12061" y="16309"/>
                  <a:pt x="11981" y="16321"/>
                </a:cubicBezTo>
                <a:cubicBezTo>
                  <a:pt x="11956" y="16321"/>
                  <a:pt x="11931" y="16321"/>
                  <a:pt x="11906" y="16321"/>
                </a:cubicBezTo>
              </a:path>
              <a:path w="746" h="993">
                <a:moveTo>
                  <a:pt x="12502" y="15974"/>
                </a:moveTo>
                <a:cubicBezTo>
                  <a:pt x="12353" y="15962"/>
                  <a:pt x="12255" y="16068"/>
                  <a:pt x="12303" y="16247"/>
                </a:cubicBezTo>
                <a:cubicBezTo>
                  <a:pt x="12348" y="16416"/>
                  <a:pt x="12560" y="16202"/>
                  <a:pt x="12576" y="16123"/>
                </a:cubicBezTo>
                <a:cubicBezTo>
                  <a:pt x="12568" y="16106"/>
                  <a:pt x="12559" y="16090"/>
                  <a:pt x="12551" y="16073"/>
                </a:cubicBezTo>
                <a:cubicBezTo>
                  <a:pt x="12535" y="16057"/>
                  <a:pt x="12518" y="16040"/>
                  <a:pt x="12502" y="16024"/>
                </a:cubicBezTo>
                <a:cubicBezTo>
                  <a:pt x="12502" y="16299"/>
                  <a:pt x="12495" y="16569"/>
                  <a:pt x="12477" y="16842"/>
                </a:cubicBezTo>
                <a:cubicBezTo>
                  <a:pt x="12477" y="16867"/>
                  <a:pt x="12477" y="16892"/>
                  <a:pt x="12477" y="16917"/>
                </a:cubicBezTo>
                <a:cubicBezTo>
                  <a:pt x="12615" y="16882"/>
                  <a:pt x="12645" y="16758"/>
                  <a:pt x="12601" y="16619"/>
                </a:cubicBezTo>
                <a:cubicBezTo>
                  <a:pt x="12566" y="16509"/>
                  <a:pt x="12414" y="16499"/>
                  <a:pt x="12378" y="16446"/>
                </a:cubicBez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875120" y="5742000"/>
            <a:ext cx="277920" cy="160200"/>
          </a:xfrm>
          <a:custGeom>
            <a:avLst/>
            <a:gdLst/>
            <a:ahLst/>
            <a:rect l="l" t="t" r="r" b="b"/>
            <a:pathLst>
              <a:path w="770" h="448">
                <a:moveTo>
                  <a:pt x="13543" y="16073"/>
                </a:moveTo>
                <a:cubicBezTo>
                  <a:pt x="13551" y="16065"/>
                  <a:pt x="13560" y="16057"/>
                  <a:pt x="13568" y="16049"/>
                </a:cubicBezTo>
                <a:cubicBezTo>
                  <a:pt x="13568" y="16199"/>
                  <a:pt x="13591" y="16245"/>
                  <a:pt x="13692" y="16346"/>
                </a:cubicBezTo>
                <a:cubicBezTo>
                  <a:pt x="13773" y="16427"/>
                  <a:pt x="13785" y="16400"/>
                  <a:pt x="13866" y="16346"/>
                </a:cubicBezTo>
              </a:path>
              <a:path w="770" h="448">
                <a:moveTo>
                  <a:pt x="13915" y="16123"/>
                </a:moveTo>
                <a:cubicBezTo>
                  <a:pt x="13925" y="16210"/>
                  <a:pt x="13943" y="16288"/>
                  <a:pt x="13965" y="16371"/>
                </a:cubicBezTo>
                <a:cubicBezTo>
                  <a:pt x="14030" y="16393"/>
                  <a:pt x="13957" y="16181"/>
                  <a:pt x="13965" y="16098"/>
                </a:cubicBezTo>
                <a:cubicBezTo>
                  <a:pt x="13977" y="15982"/>
                  <a:pt x="14102" y="15880"/>
                  <a:pt x="14213" y="15974"/>
                </a:cubicBezTo>
                <a:cubicBezTo>
                  <a:pt x="14328" y="16071"/>
                  <a:pt x="14312" y="16212"/>
                  <a:pt x="14312" y="16346"/>
                </a:cubicBezTo>
                <a:cubicBezTo>
                  <a:pt x="14312" y="16379"/>
                  <a:pt x="14312" y="16379"/>
                  <a:pt x="14312" y="16321"/>
                </a:cubicBez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884240" y="4367160"/>
            <a:ext cx="1366920" cy="115920"/>
          </a:xfrm>
          <a:custGeom>
            <a:avLst/>
            <a:gdLst/>
            <a:ahLst/>
            <a:rect l="l" t="t" r="r" b="b"/>
            <a:pathLst>
              <a:path w="3796" h="324">
                <a:moveTo>
                  <a:pt x="5234" y="12328"/>
                </a:moveTo>
                <a:cubicBezTo>
                  <a:pt x="5282" y="12340"/>
                  <a:pt x="5334" y="12341"/>
                  <a:pt x="5383" y="12353"/>
                </a:cubicBezTo>
                <a:cubicBezTo>
                  <a:pt x="5436" y="12366"/>
                  <a:pt x="5483" y="12388"/>
                  <a:pt x="5531" y="12402"/>
                </a:cubicBezTo>
                <a:cubicBezTo>
                  <a:pt x="5575" y="12415"/>
                  <a:pt x="5611" y="12414"/>
                  <a:pt x="5655" y="12427"/>
                </a:cubicBezTo>
                <a:cubicBezTo>
                  <a:pt x="5706" y="12442"/>
                  <a:pt x="5747" y="12450"/>
                  <a:pt x="5804" y="12452"/>
                </a:cubicBezTo>
                <a:cubicBezTo>
                  <a:pt x="5846" y="12454"/>
                  <a:pt x="5837" y="12452"/>
                  <a:pt x="5879" y="12452"/>
                </a:cubicBezTo>
                <a:cubicBezTo>
                  <a:pt x="5756" y="12411"/>
                  <a:pt x="5579" y="12384"/>
                  <a:pt x="5457" y="12328"/>
                </a:cubicBezTo>
                <a:cubicBezTo>
                  <a:pt x="5389" y="12297"/>
                  <a:pt x="5806" y="12322"/>
                  <a:pt x="5904" y="12328"/>
                </a:cubicBezTo>
                <a:cubicBezTo>
                  <a:pt x="5973" y="12332"/>
                  <a:pt x="6327" y="12377"/>
                  <a:pt x="6325" y="12378"/>
                </a:cubicBezTo>
                <a:cubicBezTo>
                  <a:pt x="6196" y="12422"/>
                  <a:pt x="6240" y="12378"/>
                  <a:pt x="6400" y="12378"/>
                </a:cubicBezTo>
                <a:cubicBezTo>
                  <a:pt x="6650" y="12378"/>
                  <a:pt x="6895" y="12393"/>
                  <a:pt x="7144" y="12402"/>
                </a:cubicBezTo>
                <a:cubicBezTo>
                  <a:pt x="7171" y="12402"/>
                  <a:pt x="7386" y="12433"/>
                  <a:pt x="7268" y="12402"/>
                </a:cubicBezTo>
                <a:cubicBezTo>
                  <a:pt x="7218" y="12389"/>
                  <a:pt x="6852" y="12341"/>
                  <a:pt x="7045" y="12328"/>
                </a:cubicBezTo>
                <a:cubicBezTo>
                  <a:pt x="7350" y="12307"/>
                  <a:pt x="7681" y="12290"/>
                  <a:pt x="7987" y="12303"/>
                </a:cubicBezTo>
                <a:cubicBezTo>
                  <a:pt x="8032" y="12305"/>
                  <a:pt x="8666" y="12425"/>
                  <a:pt x="8682" y="12378"/>
                </a:cubicBezTo>
                <a:cubicBezTo>
                  <a:pt x="8632" y="12370"/>
                  <a:pt x="8583" y="12361"/>
                  <a:pt x="8533" y="12353"/>
                </a:cubicBezTo>
                <a:cubicBezTo>
                  <a:pt x="8490" y="12349"/>
                  <a:pt x="7913" y="12314"/>
                  <a:pt x="7913" y="12303"/>
                </a:cubicBezTo>
                <a:cubicBezTo>
                  <a:pt x="7904" y="11963"/>
                  <a:pt x="8592" y="12285"/>
                  <a:pt x="8930" y="12254"/>
                </a:cubicBezTo>
                <a:cubicBezTo>
                  <a:pt x="9105" y="12254"/>
                  <a:pt x="8978" y="12254"/>
                  <a:pt x="8855" y="12254"/>
                </a:cubicBezTo>
                <a:cubicBezTo>
                  <a:pt x="8416" y="12254"/>
                  <a:pt x="7981" y="12171"/>
                  <a:pt x="7541" y="12154"/>
                </a:cubicBezTo>
                <a:cubicBezTo>
                  <a:pt x="7374" y="12148"/>
                  <a:pt x="6881" y="12101"/>
                  <a:pt x="7045" y="12129"/>
                </a:cubicBezTo>
                <a:cubicBezTo>
                  <a:pt x="7331" y="12178"/>
                  <a:pt x="7622" y="12176"/>
                  <a:pt x="7913" y="12179"/>
                </a:cubicBezTo>
                <a:cubicBezTo>
                  <a:pt x="7971" y="12179"/>
                  <a:pt x="8028" y="12179"/>
                  <a:pt x="8086" y="12179"/>
                </a:cubicBezTo>
                <a:cubicBezTo>
                  <a:pt x="8078" y="12179"/>
                  <a:pt x="8070" y="12179"/>
                  <a:pt x="8062" y="12179"/>
                </a:cubicBezTo>
                <a:cubicBezTo>
                  <a:pt x="7603" y="12204"/>
                  <a:pt x="7135" y="12179"/>
                  <a:pt x="6672" y="12179"/>
                </a:cubicBezTo>
                <a:cubicBezTo>
                  <a:pt x="6465" y="12179"/>
                  <a:pt x="5895" y="12179"/>
                  <a:pt x="6102" y="12179"/>
                </a:cubicBezTo>
                <a:cubicBezTo>
                  <a:pt x="6349" y="12179"/>
                  <a:pt x="6600" y="12208"/>
                  <a:pt x="6846" y="12229"/>
                </a:cubicBezTo>
                <a:cubicBezTo>
                  <a:pt x="6921" y="12229"/>
                  <a:pt x="6913" y="12224"/>
                  <a:pt x="6772" y="12204"/>
                </a:cubicBezTo>
                <a:cubicBezTo>
                  <a:pt x="6348" y="12197"/>
                  <a:pt x="5931" y="12188"/>
                  <a:pt x="5507" y="12204"/>
                </a:cubicBezTo>
                <a:cubicBezTo>
                  <a:pt x="5365" y="12209"/>
                  <a:pt x="5737" y="12249"/>
                  <a:pt x="5879" y="12254"/>
                </a:cubicBezTo>
                <a:cubicBezTo>
                  <a:pt x="6103" y="12263"/>
                  <a:pt x="6324" y="12268"/>
                  <a:pt x="6548" y="12278"/>
                </a:cubicBezTo>
                <a:cubicBezTo>
                  <a:pt x="6308" y="12278"/>
                  <a:pt x="6069" y="12278"/>
                  <a:pt x="5829" y="12278"/>
                </a:cubicBezTo>
                <a:cubicBezTo>
                  <a:pt x="5330" y="12334"/>
                  <a:pt x="5914" y="12279"/>
                  <a:pt x="5978" y="12278"/>
                </a:cubicBezTo>
                <a:cubicBezTo>
                  <a:pt x="6198" y="12275"/>
                  <a:pt x="6384" y="12262"/>
                  <a:pt x="6077" y="12254"/>
                </a:cubicBezTo>
                <a:cubicBezTo>
                  <a:pt x="5987" y="12254"/>
                  <a:pt x="5961" y="12261"/>
                  <a:pt x="5928" y="12204"/>
                </a:cubicBez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643200" y="5099040"/>
            <a:ext cx="214560" cy="54000"/>
          </a:xfrm>
          <a:custGeom>
            <a:avLst/>
            <a:gdLst/>
            <a:ahLst/>
            <a:rect l="l" t="t" r="r" b="b"/>
            <a:pathLst>
              <a:path w="597" h="150">
                <a:moveTo>
                  <a:pt x="10195" y="14312"/>
                </a:moveTo>
                <a:cubicBezTo>
                  <a:pt x="10309" y="14290"/>
                  <a:pt x="10400" y="14300"/>
                  <a:pt x="10517" y="14312"/>
                </a:cubicBezTo>
                <a:cubicBezTo>
                  <a:pt x="10534" y="14312"/>
                  <a:pt x="10550" y="14312"/>
                  <a:pt x="10567" y="14312"/>
                </a:cubicBezTo>
                <a:cubicBezTo>
                  <a:pt x="10437" y="14298"/>
                  <a:pt x="10275" y="14233"/>
                  <a:pt x="10145" y="14238"/>
                </a:cubicBezTo>
                <a:cubicBezTo>
                  <a:pt x="10024" y="14243"/>
                  <a:pt x="10323" y="14233"/>
                  <a:pt x="10443" y="14213"/>
                </a:cubicBezTo>
                <a:cubicBezTo>
                  <a:pt x="10496" y="14204"/>
                  <a:pt x="10857" y="14120"/>
                  <a:pt x="10567" y="14188"/>
                </a:cubicBezTo>
                <a:cubicBezTo>
                  <a:pt x="10529" y="14195"/>
                  <a:pt x="10225" y="14244"/>
                  <a:pt x="10269" y="14238"/>
                </a:cubicBezTo>
                <a:cubicBezTo>
                  <a:pt x="10355" y="14226"/>
                  <a:pt x="10725" y="14178"/>
                  <a:pt x="10691" y="14188"/>
                </a:cubicBezTo>
                <a:cubicBezTo>
                  <a:pt x="10562" y="14224"/>
                  <a:pt x="10262" y="14132"/>
                  <a:pt x="10344" y="14238"/>
                </a:cubicBezTo>
                <a:cubicBezTo>
                  <a:pt x="10352" y="14246"/>
                  <a:pt x="10360" y="14255"/>
                  <a:pt x="10368" y="14263"/>
                </a:cubicBez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01960" y="5848200"/>
            <a:ext cx="223920" cy="46080"/>
          </a:xfrm>
          <a:custGeom>
            <a:avLst/>
            <a:gdLst/>
            <a:ahLst/>
            <a:rect l="l" t="t" r="r" b="b"/>
            <a:pathLst>
              <a:path w="621" h="125">
                <a:moveTo>
                  <a:pt x="8310" y="16247"/>
                </a:moveTo>
                <a:cubicBezTo>
                  <a:pt x="8247" y="16247"/>
                  <a:pt x="8217" y="16251"/>
                  <a:pt x="8186" y="16272"/>
                </a:cubicBezTo>
                <a:cubicBezTo>
                  <a:pt x="8109" y="16323"/>
                  <a:pt x="8096" y="16286"/>
                  <a:pt x="8186" y="16297"/>
                </a:cubicBezTo>
                <a:cubicBezTo>
                  <a:pt x="8307" y="16312"/>
                  <a:pt x="8412" y="16321"/>
                  <a:pt x="8533" y="16321"/>
                </a:cubicBezTo>
                <a:cubicBezTo>
                  <a:pt x="8393" y="16341"/>
                  <a:pt x="8253" y="16353"/>
                  <a:pt x="8111" y="16371"/>
                </a:cubicBezTo>
                <a:cubicBezTo>
                  <a:pt x="7913" y="16371"/>
                  <a:pt x="8563" y="16299"/>
                  <a:pt x="8582" y="16297"/>
                </a:cubicBezTo>
                <a:cubicBezTo>
                  <a:pt x="8667" y="16297"/>
                  <a:pt x="8714" y="16291"/>
                  <a:pt x="8632" y="16321"/>
                </a:cubicBez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340080" y="5848200"/>
            <a:ext cx="258840" cy="73080"/>
          </a:xfrm>
          <a:custGeom>
            <a:avLst/>
            <a:gdLst/>
            <a:ahLst/>
            <a:rect l="l" t="t" r="r" b="b"/>
            <a:pathLst>
              <a:path w="720" h="200">
                <a:moveTo>
                  <a:pt x="9475" y="16396"/>
                </a:moveTo>
                <a:cubicBezTo>
                  <a:pt x="9493" y="16451"/>
                  <a:pt x="9566" y="16408"/>
                  <a:pt x="9624" y="16396"/>
                </a:cubicBezTo>
                <a:cubicBezTo>
                  <a:pt x="9724" y="16375"/>
                  <a:pt x="9821" y="16355"/>
                  <a:pt x="9922" y="16346"/>
                </a:cubicBezTo>
                <a:cubicBezTo>
                  <a:pt x="9760" y="16373"/>
                  <a:pt x="9591" y="16395"/>
                  <a:pt x="9426" y="16421"/>
                </a:cubicBezTo>
                <a:cubicBezTo>
                  <a:pt x="9148" y="16465"/>
                  <a:pt x="9361" y="16415"/>
                  <a:pt x="9475" y="16396"/>
                </a:cubicBezTo>
                <a:cubicBezTo>
                  <a:pt x="9682" y="16373"/>
                  <a:pt x="9740" y="16367"/>
                  <a:pt x="9872" y="16346"/>
                </a:cubicBezTo>
                <a:cubicBezTo>
                  <a:pt x="9972" y="16346"/>
                  <a:pt x="9773" y="16358"/>
                  <a:pt x="9674" y="16371"/>
                </a:cubicBezTo>
                <a:cubicBezTo>
                  <a:pt x="9542" y="16390"/>
                  <a:pt x="9526" y="16398"/>
                  <a:pt x="9451" y="16396"/>
                </a:cubicBezTo>
                <a:cubicBezTo>
                  <a:pt x="9630" y="16368"/>
                  <a:pt x="9817" y="16336"/>
                  <a:pt x="9996" y="16297"/>
                </a:cubicBezTo>
                <a:cubicBezTo>
                  <a:pt x="10110" y="16272"/>
                  <a:pt x="9753" y="16269"/>
                  <a:pt x="9649" y="16321"/>
                </a:cubicBezTo>
                <a:cubicBezTo>
                  <a:pt x="9544" y="16373"/>
                  <a:pt x="10061" y="16322"/>
                  <a:pt x="9971" y="16247"/>
                </a:cubicBezTo>
                <a:cubicBezTo>
                  <a:pt x="9955" y="16247"/>
                  <a:pt x="9938" y="16247"/>
                  <a:pt x="9922" y="16247"/>
                </a:cubicBez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3800" y="4768920"/>
            <a:ext cx="1305000" cy="54000"/>
          </a:xfrm>
          <a:custGeom>
            <a:avLst/>
            <a:gdLst/>
            <a:ahLst/>
            <a:rect l="l" t="t" r="r" b="b"/>
            <a:pathLst>
              <a:path w="3623" h="150">
                <a:moveTo>
                  <a:pt x="5507" y="13395"/>
                </a:moveTo>
                <a:cubicBezTo>
                  <a:pt x="5453" y="13342"/>
                  <a:pt x="5468" y="13389"/>
                  <a:pt x="5556" y="13395"/>
                </a:cubicBezTo>
                <a:cubicBezTo>
                  <a:pt x="5603" y="13398"/>
                  <a:pt x="5648" y="13373"/>
                  <a:pt x="5680" y="13370"/>
                </a:cubicBezTo>
                <a:cubicBezTo>
                  <a:pt x="5749" y="13364"/>
                  <a:pt x="5812" y="13352"/>
                  <a:pt x="5879" y="13345"/>
                </a:cubicBezTo>
                <a:cubicBezTo>
                  <a:pt x="5962" y="13336"/>
                  <a:pt x="6046" y="13338"/>
                  <a:pt x="6127" y="13320"/>
                </a:cubicBezTo>
                <a:cubicBezTo>
                  <a:pt x="6226" y="13298"/>
                  <a:pt x="6323" y="13274"/>
                  <a:pt x="6424" y="13271"/>
                </a:cubicBezTo>
                <a:cubicBezTo>
                  <a:pt x="6633" y="13264"/>
                  <a:pt x="6839" y="13279"/>
                  <a:pt x="7045" y="13295"/>
                </a:cubicBezTo>
                <a:cubicBezTo>
                  <a:pt x="7211" y="13308"/>
                  <a:pt x="7377" y="13304"/>
                  <a:pt x="7541" y="13320"/>
                </a:cubicBezTo>
                <a:cubicBezTo>
                  <a:pt x="7747" y="13340"/>
                  <a:pt x="7959" y="13310"/>
                  <a:pt x="8161" y="13295"/>
                </a:cubicBezTo>
                <a:cubicBezTo>
                  <a:pt x="8368" y="13280"/>
                  <a:pt x="8576" y="13290"/>
                  <a:pt x="8781" y="13271"/>
                </a:cubicBezTo>
                <a:cubicBezTo>
                  <a:pt x="8878" y="13262"/>
                  <a:pt x="8981" y="13271"/>
                  <a:pt x="9079" y="13271"/>
                </a:cubicBezTo>
                <a:cubicBezTo>
                  <a:pt x="8910" y="13304"/>
                  <a:pt x="8733" y="13317"/>
                  <a:pt x="8558" y="13320"/>
                </a:cubicBezTo>
                <a:cubicBezTo>
                  <a:pt x="8333" y="13324"/>
                  <a:pt x="8113" y="13295"/>
                  <a:pt x="7888" y="13295"/>
                </a:cubicBezTo>
                <a:cubicBezTo>
                  <a:pt x="7490" y="13295"/>
                  <a:pt x="7092" y="13297"/>
                  <a:pt x="6697" y="13271"/>
                </a:cubicBezTo>
                <a:cubicBezTo>
                  <a:pt x="6553" y="13262"/>
                  <a:pt x="6396" y="13226"/>
                  <a:pt x="6251" y="13246"/>
                </a:cubicBezTo>
                <a:cubicBezTo>
                  <a:pt x="6111" y="13266"/>
                  <a:pt x="5966" y="13290"/>
                  <a:pt x="5829" y="13320"/>
                </a:cubicBezTo>
                <a:cubicBezTo>
                  <a:pt x="5723" y="13343"/>
                  <a:pt x="5638" y="13345"/>
                  <a:pt x="5531" y="13345"/>
                </a:cubicBezTo>
                <a:cubicBezTo>
                  <a:pt x="5507" y="13345"/>
                  <a:pt x="5498" y="13345"/>
                  <a:pt x="5482" y="13345"/>
                </a:cubicBez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19160" y="5867280"/>
            <a:ext cx="223920" cy="27000"/>
          </a:xfrm>
          <a:custGeom>
            <a:avLst/>
            <a:gdLst/>
            <a:ahLst/>
            <a:rect l="l" t="t" r="r" b="b"/>
            <a:pathLst>
              <a:path w="621" h="75">
                <a:moveTo>
                  <a:pt x="5457" y="16346"/>
                </a:moveTo>
                <a:cubicBezTo>
                  <a:pt x="5581" y="16346"/>
                  <a:pt x="5705" y="16346"/>
                  <a:pt x="5829" y="16346"/>
                </a:cubicBezTo>
                <a:cubicBezTo>
                  <a:pt x="5858" y="16339"/>
                  <a:pt x="6016" y="16304"/>
                  <a:pt x="5904" y="16321"/>
                </a:cubicBezTo>
                <a:cubicBezTo>
                  <a:pt x="5727" y="16347"/>
                  <a:pt x="5561" y="16365"/>
                  <a:pt x="5383" y="16371"/>
                </a:cubicBezTo>
                <a:cubicBezTo>
                  <a:pt x="5249" y="16371"/>
                  <a:pt x="5547" y="16339"/>
                  <a:pt x="5680" y="16321"/>
                </a:cubicBezTo>
                <a:cubicBezTo>
                  <a:pt x="5788" y="16306"/>
                  <a:pt x="6045" y="16258"/>
                  <a:pt x="5804" y="16321"/>
                </a:cubicBez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28920" y="5848200"/>
            <a:ext cx="223920" cy="36720"/>
          </a:xfrm>
          <a:custGeom>
            <a:avLst/>
            <a:gdLst/>
            <a:ahLst/>
            <a:rect l="l" t="t" r="r" b="b"/>
            <a:pathLst>
              <a:path w="621" h="100">
                <a:moveTo>
                  <a:pt x="6821" y="16346"/>
                </a:moveTo>
                <a:cubicBezTo>
                  <a:pt x="6713" y="16346"/>
                  <a:pt x="6986" y="16327"/>
                  <a:pt x="7094" y="16321"/>
                </a:cubicBezTo>
                <a:cubicBezTo>
                  <a:pt x="7210" y="16321"/>
                  <a:pt x="7227" y="16321"/>
                  <a:pt x="7293" y="16321"/>
                </a:cubicBezTo>
                <a:cubicBezTo>
                  <a:pt x="7401" y="16321"/>
                  <a:pt x="7128" y="16353"/>
                  <a:pt x="7020" y="16346"/>
                </a:cubicBezTo>
                <a:cubicBezTo>
                  <a:pt x="6962" y="16338"/>
                  <a:pt x="6904" y="16329"/>
                  <a:pt x="6846" y="16321"/>
                </a:cubicBezTo>
                <a:cubicBezTo>
                  <a:pt x="6755" y="16321"/>
                  <a:pt x="6830" y="16321"/>
                  <a:pt x="6921" y="16321"/>
                </a:cubicBezTo>
                <a:cubicBezTo>
                  <a:pt x="6980" y="16321"/>
                  <a:pt x="7434" y="16261"/>
                  <a:pt x="7243" y="16272"/>
                </a:cubicBezTo>
                <a:cubicBezTo>
                  <a:pt x="7193" y="16280"/>
                  <a:pt x="7144" y="16289"/>
                  <a:pt x="7094" y="16297"/>
                </a:cubicBezTo>
                <a:cubicBezTo>
                  <a:pt x="6987" y="16297"/>
                  <a:pt x="7111" y="16308"/>
                  <a:pt x="7218" y="16297"/>
                </a:cubicBezTo>
                <a:cubicBezTo>
                  <a:pt x="7299" y="16288"/>
                  <a:pt x="7351" y="16295"/>
                  <a:pt x="7367" y="16247"/>
                </a:cubicBez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71600" y="380880"/>
            <a:ext cx="525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raw a Net to Find the Surface Area of the Rectangular Pr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2209680" y="2895480"/>
            <a:ext cx="5257800" cy="2593080"/>
            <a:chOff x="2209680" y="2895480"/>
            <a:chExt cx="5257800" cy="2593080"/>
          </a:xfrm>
        </p:grpSpPr>
        <p:sp>
          <p:nvSpPr>
            <p:cNvPr id="143" name=""/>
            <p:cNvSpPr/>
            <p:nvPr/>
          </p:nvSpPr>
          <p:spPr>
            <a:xfrm>
              <a:off x="2209680" y="3657600"/>
              <a:ext cx="2514600" cy="1523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42840" y="5181480"/>
              <a:ext cx="99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12 c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857640" y="2895480"/>
              <a:ext cx="60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6 c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38680" y="4572000"/>
              <a:ext cx="99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15 c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3160800" y="4249800"/>
            <a:ext cx="519120" cy="403200"/>
          </a:xfrm>
          <a:custGeom>
            <a:avLst/>
            <a:gdLst/>
            <a:ahLst/>
            <a:rect l="l" t="t" r="r" b="b"/>
            <a:pathLst>
              <a:path w="1440" h="1117">
                <a:moveTo>
                  <a:pt x="9451" y="11981"/>
                </a:moveTo>
                <a:cubicBezTo>
                  <a:pt x="9451" y="12221"/>
                  <a:pt x="9451" y="12460"/>
                  <a:pt x="9451" y="12700"/>
                </a:cubicBezTo>
              </a:path>
              <a:path w="1440" h="1117">
                <a:moveTo>
                  <a:pt x="8954" y="12551"/>
                </a:moveTo>
                <a:cubicBezTo>
                  <a:pt x="8974" y="12642"/>
                  <a:pt x="9009" y="12677"/>
                  <a:pt x="9079" y="12750"/>
                </a:cubicBezTo>
                <a:cubicBezTo>
                  <a:pt x="9178" y="12853"/>
                  <a:pt x="9300" y="12927"/>
                  <a:pt x="9451" y="12923"/>
                </a:cubicBezTo>
                <a:cubicBezTo>
                  <a:pt x="9587" y="12919"/>
                  <a:pt x="9730" y="12859"/>
                  <a:pt x="9847" y="12799"/>
                </a:cubicBezTo>
                <a:cubicBezTo>
                  <a:pt x="9947" y="12748"/>
                  <a:pt x="10056" y="12673"/>
                  <a:pt x="10120" y="12576"/>
                </a:cubicBezTo>
                <a:cubicBezTo>
                  <a:pt x="10168" y="12503"/>
                  <a:pt x="10235" y="12346"/>
                  <a:pt x="10220" y="12254"/>
                </a:cubicBezTo>
                <a:cubicBezTo>
                  <a:pt x="10206" y="12171"/>
                  <a:pt x="10136" y="12060"/>
                  <a:pt x="10071" y="12005"/>
                </a:cubicBezTo>
                <a:cubicBezTo>
                  <a:pt x="10006" y="11950"/>
                  <a:pt x="9933" y="11873"/>
                  <a:pt x="9847" y="11857"/>
                </a:cubicBezTo>
                <a:cubicBezTo>
                  <a:pt x="9757" y="11840"/>
                  <a:pt x="9669" y="11810"/>
                  <a:pt x="9575" y="11807"/>
                </a:cubicBezTo>
                <a:cubicBezTo>
                  <a:pt x="9445" y="11802"/>
                  <a:pt x="9370" y="11824"/>
                  <a:pt x="9252" y="11881"/>
                </a:cubicBezTo>
                <a:cubicBezTo>
                  <a:pt x="9141" y="11935"/>
                  <a:pt x="9027" y="11975"/>
                  <a:pt x="8930" y="12055"/>
                </a:cubicBezTo>
                <a:cubicBezTo>
                  <a:pt x="8849" y="12121"/>
                  <a:pt x="8798" y="12198"/>
                  <a:pt x="8781" y="12303"/>
                </a:cubicBezTo>
                <a:cubicBezTo>
                  <a:pt x="8764" y="12403"/>
                  <a:pt x="8797" y="12572"/>
                  <a:pt x="8855" y="12650"/>
                </a:cubicBezTo>
                <a:cubicBezTo>
                  <a:pt x="8942" y="12766"/>
                  <a:pt x="9033" y="12786"/>
                  <a:pt x="9153" y="12774"/>
                </a:cubicBezTo>
                <a:cubicBezTo>
                  <a:pt x="9185" y="12771"/>
                  <a:pt x="9220" y="12774"/>
                  <a:pt x="9252" y="1277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14880" y="4187880"/>
            <a:ext cx="223920" cy="304920"/>
          </a:xfrm>
          <a:custGeom>
            <a:avLst/>
            <a:gdLst/>
            <a:ahLst/>
            <a:rect l="l" t="t" r="r" b="b"/>
            <a:pathLst>
              <a:path w="621" h="845">
                <a:moveTo>
                  <a:pt x="11931" y="11633"/>
                </a:moveTo>
                <a:cubicBezTo>
                  <a:pt x="11889" y="11675"/>
                  <a:pt x="11792" y="11897"/>
                  <a:pt x="11757" y="11981"/>
                </a:cubicBezTo>
                <a:cubicBezTo>
                  <a:pt x="11714" y="12085"/>
                  <a:pt x="11657" y="12297"/>
                  <a:pt x="11733" y="12402"/>
                </a:cubicBezTo>
                <a:cubicBezTo>
                  <a:pt x="11856" y="12573"/>
                  <a:pt x="12036" y="12427"/>
                  <a:pt x="12154" y="12328"/>
                </a:cubicBezTo>
                <a:cubicBezTo>
                  <a:pt x="12244" y="12252"/>
                  <a:pt x="12314" y="12192"/>
                  <a:pt x="12328" y="12080"/>
                </a:cubicBezTo>
                <a:cubicBezTo>
                  <a:pt x="12208" y="12060"/>
                  <a:pt x="12170" y="12048"/>
                  <a:pt x="12080" y="12154"/>
                </a:cubicBezTo>
                <a:cubicBezTo>
                  <a:pt x="12039" y="12203"/>
                  <a:pt x="12013" y="12329"/>
                  <a:pt x="12055" y="12378"/>
                </a:cubicBezTo>
                <a:cubicBezTo>
                  <a:pt x="12063" y="12378"/>
                  <a:pt x="12072" y="12378"/>
                  <a:pt x="12080" y="1237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67360" y="4911840"/>
            <a:ext cx="2098800" cy="911160"/>
          </a:xfrm>
          <a:custGeom>
            <a:avLst/>
            <a:gdLst/>
            <a:ahLst/>
            <a:rect l="l" t="t" r="r" b="b"/>
            <a:pathLst>
              <a:path w="5830" h="2531">
                <a:moveTo>
                  <a:pt x="22796" y="14833"/>
                </a:moveTo>
                <a:cubicBezTo>
                  <a:pt x="22810" y="14829"/>
                  <a:pt x="22849" y="14815"/>
                  <a:pt x="22895" y="14808"/>
                </a:cubicBezTo>
                <a:cubicBezTo>
                  <a:pt x="22995" y="14793"/>
                  <a:pt x="23090" y="14784"/>
                  <a:pt x="23192" y="14784"/>
                </a:cubicBezTo>
                <a:cubicBezTo>
                  <a:pt x="23327" y="14784"/>
                  <a:pt x="23487" y="14815"/>
                  <a:pt x="23614" y="14808"/>
                </a:cubicBezTo>
                <a:cubicBezTo>
                  <a:pt x="23706" y="14803"/>
                  <a:pt x="23793" y="14786"/>
                  <a:pt x="23887" y="14784"/>
                </a:cubicBezTo>
                <a:cubicBezTo>
                  <a:pt x="23993" y="14782"/>
                  <a:pt x="24087" y="14771"/>
                  <a:pt x="24185" y="14759"/>
                </a:cubicBezTo>
                <a:cubicBezTo>
                  <a:pt x="24281" y="14747"/>
                  <a:pt x="24399" y="14743"/>
                  <a:pt x="24482" y="14734"/>
                </a:cubicBezTo>
                <a:cubicBezTo>
                  <a:pt x="24536" y="14728"/>
                  <a:pt x="24620" y="14758"/>
                  <a:pt x="24631" y="14759"/>
                </a:cubicBezTo>
                <a:cubicBezTo>
                  <a:pt x="24687" y="14765"/>
                  <a:pt x="24708" y="14765"/>
                  <a:pt x="24755" y="14784"/>
                </a:cubicBezTo>
                <a:cubicBezTo>
                  <a:pt x="24781" y="14795"/>
                  <a:pt x="24828" y="14827"/>
                  <a:pt x="24854" y="14833"/>
                </a:cubicBezTo>
                <a:cubicBezTo>
                  <a:pt x="24879" y="14833"/>
                  <a:pt x="24887" y="14833"/>
                  <a:pt x="24904" y="14833"/>
                </a:cubicBezTo>
                <a:cubicBezTo>
                  <a:pt x="24868" y="14910"/>
                  <a:pt x="24859" y="15006"/>
                  <a:pt x="24829" y="15081"/>
                </a:cubicBezTo>
                <a:cubicBezTo>
                  <a:pt x="24812" y="15124"/>
                  <a:pt x="24793" y="15160"/>
                  <a:pt x="24780" y="15205"/>
                </a:cubicBezTo>
                <a:cubicBezTo>
                  <a:pt x="24768" y="15246"/>
                  <a:pt x="24735" y="15311"/>
                  <a:pt x="24730" y="15354"/>
                </a:cubicBezTo>
                <a:cubicBezTo>
                  <a:pt x="24712" y="15503"/>
                  <a:pt x="24693" y="15734"/>
                  <a:pt x="24705" y="15875"/>
                </a:cubicBezTo>
                <a:cubicBezTo>
                  <a:pt x="24709" y="15926"/>
                  <a:pt x="24742" y="16000"/>
                  <a:pt x="24755" y="16049"/>
                </a:cubicBezTo>
                <a:cubicBezTo>
                  <a:pt x="24748" y="15998"/>
                  <a:pt x="24812" y="16033"/>
                  <a:pt x="24755" y="15999"/>
                </a:cubicBezTo>
                <a:cubicBezTo>
                  <a:pt x="24663" y="15943"/>
                  <a:pt x="24511" y="15912"/>
                  <a:pt x="24408" y="15900"/>
                </a:cubicBezTo>
                <a:cubicBezTo>
                  <a:pt x="24285" y="15885"/>
                  <a:pt x="24154" y="15890"/>
                  <a:pt x="24036" y="15875"/>
                </a:cubicBezTo>
                <a:cubicBezTo>
                  <a:pt x="23996" y="15870"/>
                  <a:pt x="23952" y="15878"/>
                  <a:pt x="23912" y="15875"/>
                </a:cubicBezTo>
                <a:cubicBezTo>
                  <a:pt x="23927" y="15883"/>
                  <a:pt x="24007" y="15882"/>
                  <a:pt x="24011" y="15900"/>
                </a:cubicBezTo>
                <a:cubicBezTo>
                  <a:pt x="24018" y="15931"/>
                  <a:pt x="23893" y="16021"/>
                  <a:pt x="23887" y="16024"/>
                </a:cubicBezTo>
                <a:cubicBezTo>
                  <a:pt x="23849" y="16044"/>
                  <a:pt x="23781" y="16054"/>
                  <a:pt x="23738" y="16073"/>
                </a:cubicBezTo>
                <a:cubicBezTo>
                  <a:pt x="23639" y="16116"/>
                  <a:pt x="23600" y="16123"/>
                  <a:pt x="23490" y="16123"/>
                </a:cubicBezTo>
                <a:cubicBezTo>
                  <a:pt x="23325" y="16123"/>
                  <a:pt x="23159" y="16123"/>
                  <a:pt x="22994" y="16123"/>
                </a:cubicBezTo>
                <a:cubicBezTo>
                  <a:pt x="22996" y="16121"/>
                  <a:pt x="23099" y="16058"/>
                  <a:pt x="23192" y="16049"/>
                </a:cubicBezTo>
                <a:cubicBezTo>
                  <a:pt x="23382" y="16031"/>
                  <a:pt x="23576" y="15991"/>
                  <a:pt x="23763" y="15974"/>
                </a:cubicBezTo>
                <a:cubicBezTo>
                  <a:pt x="23782" y="15972"/>
                  <a:pt x="24092" y="15947"/>
                  <a:pt x="24085" y="15925"/>
                </a:cubicBezTo>
                <a:cubicBezTo>
                  <a:pt x="24069" y="15925"/>
                  <a:pt x="24052" y="15925"/>
                  <a:pt x="24036" y="15925"/>
                </a:cubicBezTo>
                <a:cubicBezTo>
                  <a:pt x="24048" y="15956"/>
                  <a:pt x="24012" y="15952"/>
                  <a:pt x="24036" y="15974"/>
                </a:cubicBezTo>
                <a:cubicBezTo>
                  <a:pt x="24090" y="16024"/>
                  <a:pt x="24171" y="15987"/>
                  <a:pt x="24234" y="15999"/>
                </a:cubicBezTo>
                <a:cubicBezTo>
                  <a:pt x="24282" y="16008"/>
                  <a:pt x="24311" y="16012"/>
                  <a:pt x="24358" y="16024"/>
                </a:cubicBezTo>
                <a:cubicBezTo>
                  <a:pt x="24383" y="16024"/>
                  <a:pt x="24391" y="16024"/>
                  <a:pt x="24358" y="16024"/>
                </a:cubicBezTo>
              </a:path>
              <a:path w="5830" h="2531">
                <a:moveTo>
                  <a:pt x="23614" y="15304"/>
                </a:moveTo>
                <a:cubicBezTo>
                  <a:pt x="23673" y="15293"/>
                  <a:pt x="23726" y="15258"/>
                  <a:pt x="23788" y="15255"/>
                </a:cubicBezTo>
                <a:cubicBezTo>
                  <a:pt x="23899" y="15250"/>
                  <a:pt x="23924" y="15333"/>
                  <a:pt x="23887" y="15429"/>
                </a:cubicBezTo>
                <a:cubicBezTo>
                  <a:pt x="23859" y="15501"/>
                  <a:pt x="23764" y="15618"/>
                  <a:pt x="23713" y="15652"/>
                </a:cubicBezTo>
                <a:cubicBezTo>
                  <a:pt x="23705" y="15652"/>
                  <a:pt x="23696" y="15652"/>
                  <a:pt x="23688" y="15652"/>
                </a:cubicBezTo>
                <a:cubicBezTo>
                  <a:pt x="23704" y="15699"/>
                  <a:pt x="23830" y="15654"/>
                  <a:pt x="23887" y="15652"/>
                </a:cubicBezTo>
                <a:cubicBezTo>
                  <a:pt x="23937" y="15650"/>
                  <a:pt x="23973" y="15638"/>
                  <a:pt x="23986" y="15677"/>
                </a:cubicBezTo>
              </a:path>
              <a:path w="5830" h="2531">
                <a:moveTo>
                  <a:pt x="23490" y="15776"/>
                </a:moveTo>
                <a:cubicBezTo>
                  <a:pt x="23613" y="15797"/>
                  <a:pt x="23705" y="15836"/>
                  <a:pt x="23837" y="15825"/>
                </a:cubicBezTo>
                <a:cubicBezTo>
                  <a:pt x="23946" y="15804"/>
                  <a:pt x="23972" y="15801"/>
                  <a:pt x="24036" y="15776"/>
                </a:cubicBezTo>
                <a:cubicBezTo>
                  <a:pt x="24036" y="15694"/>
                  <a:pt x="24033" y="15579"/>
                  <a:pt x="24011" y="15503"/>
                </a:cubicBezTo>
                <a:cubicBezTo>
                  <a:pt x="23993" y="15440"/>
                  <a:pt x="23943" y="15320"/>
                  <a:pt x="23912" y="15255"/>
                </a:cubicBezTo>
                <a:cubicBezTo>
                  <a:pt x="23861" y="15147"/>
                  <a:pt x="23774" y="15137"/>
                  <a:pt x="23664" y="15131"/>
                </a:cubicBezTo>
                <a:cubicBezTo>
                  <a:pt x="23509" y="15123"/>
                  <a:pt x="23454" y="15166"/>
                  <a:pt x="23391" y="15304"/>
                </a:cubicBezTo>
                <a:cubicBezTo>
                  <a:pt x="23319" y="15461"/>
                  <a:pt x="23260" y="15652"/>
                  <a:pt x="23416" y="15776"/>
                </a:cubicBezTo>
                <a:cubicBezTo>
                  <a:pt x="23516" y="15856"/>
                  <a:pt x="23686" y="15838"/>
                  <a:pt x="23788" y="15801"/>
                </a:cubicBezTo>
              </a:path>
              <a:path w="5830" h="2531">
                <a:moveTo>
                  <a:pt x="22820" y="16173"/>
                </a:moveTo>
                <a:cubicBezTo>
                  <a:pt x="22753" y="16173"/>
                  <a:pt x="22967" y="16154"/>
                  <a:pt x="22994" y="16148"/>
                </a:cubicBezTo>
                <a:cubicBezTo>
                  <a:pt x="23094" y="16126"/>
                  <a:pt x="23189" y="16103"/>
                  <a:pt x="23292" y="16098"/>
                </a:cubicBezTo>
                <a:cubicBezTo>
                  <a:pt x="23373" y="16094"/>
                  <a:pt x="23437" y="16135"/>
                  <a:pt x="23515" y="16123"/>
                </a:cubicBezTo>
                <a:cubicBezTo>
                  <a:pt x="23590" y="16111"/>
                  <a:pt x="23665" y="16078"/>
                  <a:pt x="23738" y="16073"/>
                </a:cubicBezTo>
                <a:cubicBezTo>
                  <a:pt x="23797" y="16069"/>
                  <a:pt x="23840" y="16059"/>
                  <a:pt x="23887" y="16049"/>
                </a:cubicBezTo>
                <a:cubicBezTo>
                  <a:pt x="24000" y="16026"/>
                  <a:pt x="24143" y="16049"/>
                  <a:pt x="24259" y="16049"/>
                </a:cubicBezTo>
              </a:path>
              <a:path w="5830" h="2531">
                <a:moveTo>
                  <a:pt x="19100" y="14883"/>
                </a:moveTo>
                <a:cubicBezTo>
                  <a:pt x="19075" y="14883"/>
                  <a:pt x="19067" y="14883"/>
                  <a:pt x="19075" y="14908"/>
                </a:cubicBezTo>
                <a:cubicBezTo>
                  <a:pt x="19075" y="14726"/>
                  <a:pt x="19060" y="14535"/>
                  <a:pt x="19100" y="14362"/>
                </a:cubicBezTo>
                <a:cubicBezTo>
                  <a:pt x="19114" y="14303"/>
                  <a:pt x="19114" y="14222"/>
                  <a:pt x="19124" y="14163"/>
                </a:cubicBezTo>
                <a:cubicBezTo>
                  <a:pt x="19137" y="14080"/>
                  <a:pt x="19123" y="13984"/>
                  <a:pt x="19100" y="13915"/>
                </a:cubicBezTo>
                <a:cubicBezTo>
                  <a:pt x="19080" y="13855"/>
                  <a:pt x="19112" y="13795"/>
                  <a:pt x="19124" y="13742"/>
                </a:cubicBezTo>
                <a:cubicBezTo>
                  <a:pt x="19124" y="13717"/>
                  <a:pt x="19124" y="13709"/>
                  <a:pt x="19124" y="13692"/>
                </a:cubicBezTo>
              </a:path>
              <a:path w="5830" h="2531">
                <a:moveTo>
                  <a:pt x="21605" y="14883"/>
                </a:moveTo>
                <a:cubicBezTo>
                  <a:pt x="21597" y="14891"/>
                  <a:pt x="21588" y="14900"/>
                  <a:pt x="21580" y="14908"/>
                </a:cubicBezTo>
                <a:cubicBezTo>
                  <a:pt x="21570" y="14888"/>
                  <a:pt x="21534" y="14829"/>
                  <a:pt x="21530" y="14808"/>
                </a:cubicBezTo>
                <a:cubicBezTo>
                  <a:pt x="21521" y="14756"/>
                  <a:pt x="21511" y="14684"/>
                  <a:pt x="21506" y="14635"/>
                </a:cubicBezTo>
                <a:cubicBezTo>
                  <a:pt x="21501" y="14587"/>
                  <a:pt x="21485" y="14522"/>
                  <a:pt x="21481" y="14486"/>
                </a:cubicBezTo>
                <a:cubicBezTo>
                  <a:pt x="21474" y="14421"/>
                  <a:pt x="21463" y="14341"/>
                  <a:pt x="21456" y="14288"/>
                </a:cubicBezTo>
                <a:cubicBezTo>
                  <a:pt x="21440" y="14161"/>
                  <a:pt x="21442" y="14005"/>
                  <a:pt x="21431" y="13891"/>
                </a:cubicBezTo>
                <a:cubicBezTo>
                  <a:pt x="21423" y="13811"/>
                  <a:pt x="21445" y="13763"/>
                  <a:pt x="21456" y="13692"/>
                </a:cubicBezTo>
                <a:cubicBezTo>
                  <a:pt x="21456" y="13667"/>
                  <a:pt x="21456" y="13659"/>
                  <a:pt x="21456" y="13643"/>
                </a:cubicBezTo>
                <a:cubicBezTo>
                  <a:pt x="21304" y="13643"/>
                  <a:pt x="21154" y="13654"/>
                  <a:pt x="21010" y="13667"/>
                </a:cubicBezTo>
                <a:cubicBezTo>
                  <a:pt x="20934" y="13674"/>
                  <a:pt x="20801" y="13687"/>
                  <a:pt x="20762" y="13692"/>
                </a:cubicBezTo>
                <a:cubicBezTo>
                  <a:pt x="20413" y="13736"/>
                  <a:pt x="20043" y="13681"/>
                  <a:pt x="19695" y="13717"/>
                </a:cubicBezTo>
                <a:cubicBezTo>
                  <a:pt x="19633" y="13723"/>
                  <a:pt x="19582" y="13736"/>
                  <a:pt x="19521" y="13742"/>
                </a:cubicBezTo>
                <a:cubicBezTo>
                  <a:pt x="19455" y="13749"/>
                  <a:pt x="19384" y="13761"/>
                  <a:pt x="19323" y="13767"/>
                </a:cubicBezTo>
                <a:cubicBezTo>
                  <a:pt x="19282" y="13771"/>
                  <a:pt x="19235" y="13788"/>
                  <a:pt x="19224" y="13791"/>
                </a:cubicBezTo>
                <a:cubicBezTo>
                  <a:pt x="19216" y="13791"/>
                  <a:pt x="19207" y="13791"/>
                  <a:pt x="19199" y="13791"/>
                </a:cubicBezTo>
              </a:path>
              <a:path w="5830" h="2531">
                <a:moveTo>
                  <a:pt x="20042" y="14213"/>
                </a:moveTo>
                <a:cubicBezTo>
                  <a:pt x="20052" y="14164"/>
                  <a:pt x="20094" y="14074"/>
                  <a:pt x="20166" y="14114"/>
                </a:cubicBezTo>
                <a:cubicBezTo>
                  <a:pt x="20233" y="14151"/>
                  <a:pt x="20112" y="14234"/>
                  <a:pt x="20166" y="14288"/>
                </a:cubicBezTo>
                <a:cubicBezTo>
                  <a:pt x="20174" y="14288"/>
                  <a:pt x="20183" y="14288"/>
                  <a:pt x="20191" y="14288"/>
                </a:cubicBezTo>
                <a:cubicBezTo>
                  <a:pt x="20317" y="14311"/>
                  <a:pt x="20378" y="14382"/>
                  <a:pt x="20241" y="14486"/>
                </a:cubicBezTo>
                <a:cubicBezTo>
                  <a:pt x="20141" y="14561"/>
                  <a:pt x="20111" y="14528"/>
                  <a:pt x="20017" y="14486"/>
                </a:cubicBezTo>
              </a:path>
              <a:path w="5830" h="2531">
                <a:moveTo>
                  <a:pt x="19943" y="14585"/>
                </a:moveTo>
                <a:cubicBezTo>
                  <a:pt x="20090" y="14732"/>
                  <a:pt x="20228" y="14742"/>
                  <a:pt x="20439" y="14709"/>
                </a:cubicBezTo>
                <a:cubicBezTo>
                  <a:pt x="20604" y="14683"/>
                  <a:pt x="20726" y="14506"/>
                  <a:pt x="20712" y="14337"/>
                </a:cubicBezTo>
                <a:cubicBezTo>
                  <a:pt x="20691" y="14084"/>
                  <a:pt x="20393" y="13998"/>
                  <a:pt x="20191" y="13965"/>
                </a:cubicBezTo>
                <a:cubicBezTo>
                  <a:pt x="19996" y="13933"/>
                  <a:pt x="19832" y="14015"/>
                  <a:pt x="19745" y="14188"/>
                </a:cubicBezTo>
                <a:cubicBezTo>
                  <a:pt x="19625" y="14427"/>
                  <a:pt x="19724" y="14482"/>
                  <a:pt x="19869" y="1463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919920" y="5322960"/>
            <a:ext cx="1278000" cy="1027080"/>
          </a:xfrm>
          <a:custGeom>
            <a:avLst/>
            <a:gdLst/>
            <a:ahLst/>
            <a:rect l="l" t="t" r="r" b="b"/>
            <a:pathLst>
              <a:path w="3548" h="2853">
                <a:moveTo>
                  <a:pt x="21679" y="14908"/>
                </a:moveTo>
                <a:cubicBezTo>
                  <a:pt x="21631" y="14914"/>
                  <a:pt x="21633" y="14913"/>
                  <a:pt x="21580" y="14932"/>
                </a:cubicBezTo>
                <a:cubicBezTo>
                  <a:pt x="21664" y="14932"/>
                  <a:pt x="21748" y="14928"/>
                  <a:pt x="21828" y="14908"/>
                </a:cubicBezTo>
                <a:cubicBezTo>
                  <a:pt x="21905" y="14889"/>
                  <a:pt x="21948" y="14862"/>
                  <a:pt x="22027" y="14858"/>
                </a:cubicBezTo>
                <a:cubicBezTo>
                  <a:pt x="22099" y="14855"/>
                  <a:pt x="22156" y="14819"/>
                  <a:pt x="22225" y="14808"/>
                </a:cubicBezTo>
                <a:cubicBezTo>
                  <a:pt x="22281" y="14799"/>
                  <a:pt x="22352" y="14792"/>
                  <a:pt x="22399" y="14784"/>
                </a:cubicBezTo>
                <a:cubicBezTo>
                  <a:pt x="22500" y="14768"/>
                  <a:pt x="22619" y="14784"/>
                  <a:pt x="22721" y="14784"/>
                </a:cubicBezTo>
                <a:cubicBezTo>
                  <a:pt x="22721" y="14937"/>
                  <a:pt x="22720" y="15084"/>
                  <a:pt x="22696" y="15230"/>
                </a:cubicBezTo>
                <a:cubicBezTo>
                  <a:pt x="22687" y="15281"/>
                  <a:pt x="22673" y="15303"/>
                  <a:pt x="22671" y="15354"/>
                </a:cubicBezTo>
                <a:cubicBezTo>
                  <a:pt x="22668" y="15421"/>
                  <a:pt x="22688" y="15468"/>
                  <a:pt x="22696" y="15528"/>
                </a:cubicBezTo>
                <a:cubicBezTo>
                  <a:pt x="22707" y="15608"/>
                  <a:pt x="22718" y="15675"/>
                  <a:pt x="22721" y="15751"/>
                </a:cubicBezTo>
                <a:cubicBezTo>
                  <a:pt x="22724" y="15833"/>
                  <a:pt x="22721" y="15970"/>
                  <a:pt x="22746" y="16049"/>
                </a:cubicBezTo>
                <a:cubicBezTo>
                  <a:pt x="22754" y="16057"/>
                  <a:pt x="22763" y="16065"/>
                  <a:pt x="22771" y="16073"/>
                </a:cubicBezTo>
                <a:cubicBezTo>
                  <a:pt x="22751" y="16025"/>
                  <a:pt x="22807" y="16023"/>
                  <a:pt x="22721" y="16049"/>
                </a:cubicBezTo>
                <a:cubicBezTo>
                  <a:pt x="22678" y="16062"/>
                  <a:pt x="22584" y="16120"/>
                  <a:pt x="22572" y="16123"/>
                </a:cubicBezTo>
                <a:cubicBezTo>
                  <a:pt x="22539" y="16130"/>
                  <a:pt x="22477" y="16144"/>
                  <a:pt x="22448" y="16148"/>
                </a:cubicBezTo>
                <a:cubicBezTo>
                  <a:pt x="22372" y="16158"/>
                  <a:pt x="22322" y="16165"/>
                  <a:pt x="22250" y="16197"/>
                </a:cubicBezTo>
                <a:cubicBezTo>
                  <a:pt x="22189" y="16224"/>
                  <a:pt x="22116" y="16259"/>
                  <a:pt x="22051" y="16272"/>
                </a:cubicBezTo>
                <a:cubicBezTo>
                  <a:pt x="21991" y="16284"/>
                  <a:pt x="21903" y="16290"/>
                  <a:pt x="21853" y="16297"/>
                </a:cubicBezTo>
                <a:cubicBezTo>
                  <a:pt x="21784" y="16307"/>
                  <a:pt x="21721" y="16335"/>
                  <a:pt x="21654" y="16346"/>
                </a:cubicBezTo>
                <a:cubicBezTo>
                  <a:pt x="21602" y="16355"/>
                  <a:pt x="21600" y="16333"/>
                  <a:pt x="21580" y="16321"/>
                </a:cubicBezTo>
              </a:path>
              <a:path w="3548" h="2853">
                <a:moveTo>
                  <a:pt x="22051" y="15429"/>
                </a:moveTo>
                <a:cubicBezTo>
                  <a:pt x="22051" y="15354"/>
                  <a:pt x="22051" y="15600"/>
                  <a:pt x="22051" y="15602"/>
                </a:cubicBezTo>
                <a:cubicBezTo>
                  <a:pt x="22031" y="15643"/>
                  <a:pt x="22023" y="15649"/>
                  <a:pt x="22027" y="15677"/>
                </a:cubicBezTo>
              </a:path>
              <a:path w="3548" h="2853">
                <a:moveTo>
                  <a:pt x="21927" y="15726"/>
                </a:moveTo>
                <a:cubicBezTo>
                  <a:pt x="22009" y="15821"/>
                  <a:pt x="22075" y="15809"/>
                  <a:pt x="22200" y="15776"/>
                </a:cubicBezTo>
                <a:cubicBezTo>
                  <a:pt x="22288" y="15752"/>
                  <a:pt x="22341" y="15675"/>
                  <a:pt x="22324" y="15577"/>
                </a:cubicBezTo>
                <a:cubicBezTo>
                  <a:pt x="22306" y="15468"/>
                  <a:pt x="22231" y="15461"/>
                  <a:pt x="22151" y="15404"/>
                </a:cubicBezTo>
                <a:cubicBezTo>
                  <a:pt x="22081" y="15354"/>
                  <a:pt x="22040" y="15354"/>
                  <a:pt x="21952" y="15354"/>
                </a:cubicBezTo>
                <a:cubicBezTo>
                  <a:pt x="21856" y="15354"/>
                  <a:pt x="21796" y="15418"/>
                  <a:pt x="21754" y="15503"/>
                </a:cubicBezTo>
                <a:cubicBezTo>
                  <a:pt x="21699" y="15613"/>
                  <a:pt x="21737" y="15708"/>
                  <a:pt x="21803" y="15801"/>
                </a:cubicBezTo>
                <a:cubicBezTo>
                  <a:pt x="21894" y="15929"/>
                  <a:pt x="21986" y="15855"/>
                  <a:pt x="22101" y="15825"/>
                </a:cubicBezTo>
                <a:cubicBezTo>
                  <a:pt x="22109" y="15825"/>
                  <a:pt x="22118" y="15825"/>
                  <a:pt x="22126" y="15825"/>
                </a:cubicBezTo>
              </a:path>
              <a:path w="3548" h="2853">
                <a:moveTo>
                  <a:pt x="20712" y="16446"/>
                </a:moveTo>
                <a:cubicBezTo>
                  <a:pt x="20700" y="16411"/>
                  <a:pt x="20674" y="16419"/>
                  <a:pt x="20662" y="16371"/>
                </a:cubicBezTo>
                <a:cubicBezTo>
                  <a:pt x="20654" y="16454"/>
                  <a:pt x="20638" y="16487"/>
                  <a:pt x="20638" y="16570"/>
                </a:cubicBezTo>
              </a:path>
              <a:path w="3548" h="2853">
                <a:moveTo>
                  <a:pt x="20861" y="16346"/>
                </a:moveTo>
                <a:cubicBezTo>
                  <a:pt x="20847" y="16402"/>
                  <a:pt x="20787" y="16419"/>
                  <a:pt x="20762" y="16470"/>
                </a:cubicBezTo>
                <a:cubicBezTo>
                  <a:pt x="20762" y="16478"/>
                  <a:pt x="20762" y="16487"/>
                  <a:pt x="20762" y="16495"/>
                </a:cubicBezTo>
                <a:cubicBezTo>
                  <a:pt x="20839" y="16504"/>
                  <a:pt x="20924" y="16509"/>
                  <a:pt x="20910" y="16619"/>
                </a:cubicBezTo>
                <a:cubicBezTo>
                  <a:pt x="20902" y="16679"/>
                  <a:pt x="20834" y="16653"/>
                  <a:pt x="20811" y="16644"/>
                </a:cubicBezTo>
              </a:path>
              <a:path w="3548" h="2853">
                <a:moveTo>
                  <a:pt x="20861" y="16421"/>
                </a:moveTo>
                <a:cubicBezTo>
                  <a:pt x="20899" y="16398"/>
                  <a:pt x="20912" y="16396"/>
                  <a:pt x="20960" y="16396"/>
                </a:cubicBezTo>
              </a:path>
              <a:path w="3548" h="2853">
                <a:moveTo>
                  <a:pt x="21183" y="16470"/>
                </a:moveTo>
                <a:cubicBezTo>
                  <a:pt x="21164" y="16528"/>
                  <a:pt x="21141" y="16461"/>
                  <a:pt x="21109" y="16495"/>
                </a:cubicBezTo>
                <a:cubicBezTo>
                  <a:pt x="21064" y="16544"/>
                  <a:pt x="21020" y="16686"/>
                  <a:pt x="21084" y="16669"/>
                </a:cubicBezTo>
                <a:cubicBezTo>
                  <a:pt x="21117" y="16652"/>
                  <a:pt x="21150" y="16636"/>
                  <a:pt x="21183" y="16619"/>
                </a:cubicBezTo>
              </a:path>
              <a:path w="3548" h="2853">
                <a:moveTo>
                  <a:pt x="21183" y="16495"/>
                </a:moveTo>
                <a:cubicBezTo>
                  <a:pt x="21183" y="16530"/>
                  <a:pt x="21188" y="16548"/>
                  <a:pt x="21208" y="16570"/>
                </a:cubicBezTo>
                <a:cubicBezTo>
                  <a:pt x="21208" y="16492"/>
                  <a:pt x="21233" y="16426"/>
                  <a:pt x="21307" y="16520"/>
                </a:cubicBezTo>
                <a:cubicBezTo>
                  <a:pt x="21307" y="16545"/>
                  <a:pt x="21307" y="16553"/>
                  <a:pt x="21307" y="16570"/>
                </a:cubicBezTo>
                <a:cubicBezTo>
                  <a:pt x="21321" y="16547"/>
                  <a:pt x="21342" y="16422"/>
                  <a:pt x="21406" y="16470"/>
                </a:cubicBezTo>
                <a:cubicBezTo>
                  <a:pt x="21434" y="16492"/>
                  <a:pt x="21450" y="16562"/>
                  <a:pt x="21456" y="16594"/>
                </a:cubicBezTo>
              </a:path>
              <a:path w="3548" h="2853">
                <a:moveTo>
                  <a:pt x="19224" y="16247"/>
                </a:moveTo>
                <a:cubicBezTo>
                  <a:pt x="19229" y="16309"/>
                  <a:pt x="19242" y="16360"/>
                  <a:pt x="19248" y="16421"/>
                </a:cubicBezTo>
                <a:cubicBezTo>
                  <a:pt x="19259" y="16526"/>
                  <a:pt x="19303" y="16617"/>
                  <a:pt x="19323" y="16718"/>
                </a:cubicBezTo>
                <a:cubicBezTo>
                  <a:pt x="19349" y="16853"/>
                  <a:pt x="19393" y="16976"/>
                  <a:pt x="19397" y="17115"/>
                </a:cubicBezTo>
                <a:cubicBezTo>
                  <a:pt x="19400" y="17203"/>
                  <a:pt x="19390" y="17277"/>
                  <a:pt x="19397" y="17363"/>
                </a:cubicBezTo>
                <a:cubicBezTo>
                  <a:pt x="19401" y="17409"/>
                  <a:pt x="19412" y="17466"/>
                  <a:pt x="19422" y="17512"/>
                </a:cubicBezTo>
                <a:cubicBezTo>
                  <a:pt x="19424" y="17521"/>
                  <a:pt x="19465" y="17634"/>
                  <a:pt x="19472" y="17636"/>
                </a:cubicBezTo>
                <a:cubicBezTo>
                  <a:pt x="19541" y="17662"/>
                  <a:pt x="19614" y="17605"/>
                  <a:pt x="19670" y="17587"/>
                </a:cubicBezTo>
                <a:cubicBezTo>
                  <a:pt x="19826" y="17538"/>
                  <a:pt x="19984" y="17514"/>
                  <a:pt x="20141" y="17487"/>
                </a:cubicBezTo>
                <a:cubicBezTo>
                  <a:pt x="20210" y="17475"/>
                  <a:pt x="20310" y="17474"/>
                  <a:pt x="20389" y="17462"/>
                </a:cubicBezTo>
                <a:cubicBezTo>
                  <a:pt x="20493" y="17446"/>
                  <a:pt x="20579" y="17417"/>
                  <a:pt x="20687" y="17413"/>
                </a:cubicBezTo>
                <a:cubicBezTo>
                  <a:pt x="20796" y="17409"/>
                  <a:pt x="20860" y="17429"/>
                  <a:pt x="20960" y="17462"/>
                </a:cubicBezTo>
                <a:cubicBezTo>
                  <a:pt x="21023" y="17483"/>
                  <a:pt x="21100" y="17507"/>
                  <a:pt x="21158" y="17512"/>
                </a:cubicBezTo>
                <a:cubicBezTo>
                  <a:pt x="21239" y="17519"/>
                  <a:pt x="21313" y="17518"/>
                  <a:pt x="21382" y="17537"/>
                </a:cubicBezTo>
                <a:cubicBezTo>
                  <a:pt x="21435" y="17551"/>
                  <a:pt x="21464" y="17574"/>
                  <a:pt x="21506" y="17537"/>
                </a:cubicBezTo>
                <a:cubicBezTo>
                  <a:pt x="21535" y="17512"/>
                  <a:pt x="21536" y="17474"/>
                  <a:pt x="21555" y="17462"/>
                </a:cubicBezTo>
                <a:cubicBezTo>
                  <a:pt x="21576" y="17448"/>
                  <a:pt x="21659" y="17455"/>
                  <a:pt x="21679" y="17438"/>
                </a:cubicBezTo>
                <a:cubicBezTo>
                  <a:pt x="21702" y="17418"/>
                  <a:pt x="21695" y="17401"/>
                  <a:pt x="21704" y="17363"/>
                </a:cubicBezTo>
                <a:cubicBezTo>
                  <a:pt x="21723" y="17279"/>
                  <a:pt x="21727" y="17204"/>
                  <a:pt x="21729" y="17115"/>
                </a:cubicBezTo>
                <a:cubicBezTo>
                  <a:pt x="21732" y="17006"/>
                  <a:pt x="21763" y="16842"/>
                  <a:pt x="21754" y="16743"/>
                </a:cubicBezTo>
                <a:cubicBezTo>
                  <a:pt x="21750" y="16704"/>
                  <a:pt x="21732" y="16688"/>
                  <a:pt x="21729" y="16644"/>
                </a:cubicBezTo>
                <a:cubicBezTo>
                  <a:pt x="21725" y="16587"/>
                  <a:pt x="21723" y="16546"/>
                  <a:pt x="21704" y="16495"/>
                </a:cubicBezTo>
                <a:cubicBezTo>
                  <a:pt x="21691" y="16459"/>
                  <a:pt x="21667" y="16431"/>
                  <a:pt x="21654" y="16396"/>
                </a:cubicBezTo>
                <a:cubicBezTo>
                  <a:pt x="21639" y="16356"/>
                  <a:pt x="21643" y="16313"/>
                  <a:pt x="21630" y="16272"/>
                </a:cubicBezTo>
              </a:path>
              <a:path w="3548" h="2853">
                <a:moveTo>
                  <a:pt x="20141" y="16818"/>
                </a:moveTo>
                <a:cubicBezTo>
                  <a:pt x="20192" y="16810"/>
                  <a:pt x="20237" y="16793"/>
                  <a:pt x="20290" y="16793"/>
                </a:cubicBezTo>
                <a:cubicBezTo>
                  <a:pt x="20275" y="16879"/>
                  <a:pt x="20278" y="16879"/>
                  <a:pt x="20216" y="16942"/>
                </a:cubicBezTo>
                <a:cubicBezTo>
                  <a:pt x="20272" y="16942"/>
                  <a:pt x="20330" y="16951"/>
                  <a:pt x="20340" y="17016"/>
                </a:cubicBezTo>
                <a:cubicBezTo>
                  <a:pt x="20351" y="17088"/>
                  <a:pt x="20274" y="17177"/>
                  <a:pt x="20216" y="17190"/>
                </a:cubicBezTo>
                <a:cubicBezTo>
                  <a:pt x="20191" y="17190"/>
                  <a:pt x="20183" y="17190"/>
                  <a:pt x="20191" y="17165"/>
                </a:cubicBezTo>
              </a:path>
              <a:path w="3548" h="2853">
                <a:moveTo>
                  <a:pt x="19968" y="17289"/>
                </a:moveTo>
                <a:cubicBezTo>
                  <a:pt x="20042" y="17387"/>
                  <a:pt x="20156" y="17446"/>
                  <a:pt x="20290" y="17413"/>
                </a:cubicBezTo>
                <a:cubicBezTo>
                  <a:pt x="20421" y="17381"/>
                  <a:pt x="20597" y="17292"/>
                  <a:pt x="20687" y="17190"/>
                </a:cubicBezTo>
                <a:cubicBezTo>
                  <a:pt x="20785" y="17080"/>
                  <a:pt x="20763" y="16965"/>
                  <a:pt x="20712" y="16842"/>
                </a:cubicBezTo>
                <a:cubicBezTo>
                  <a:pt x="20660" y="16717"/>
                  <a:pt x="20539" y="16683"/>
                  <a:pt x="20414" y="16669"/>
                </a:cubicBezTo>
                <a:cubicBezTo>
                  <a:pt x="20277" y="16654"/>
                  <a:pt x="20172" y="16696"/>
                  <a:pt x="20042" y="16718"/>
                </a:cubicBezTo>
                <a:cubicBezTo>
                  <a:pt x="19945" y="16735"/>
                  <a:pt x="19901" y="16871"/>
                  <a:pt x="19869" y="16966"/>
                </a:cubicBezTo>
                <a:cubicBezTo>
                  <a:pt x="19824" y="17097"/>
                  <a:pt x="19808" y="17149"/>
                  <a:pt x="19893" y="17264"/>
                </a:cubicBezTo>
                <a:cubicBezTo>
                  <a:pt x="19976" y="17376"/>
                  <a:pt x="20117" y="17379"/>
                  <a:pt x="20241" y="1738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29240" y="5340240"/>
            <a:ext cx="1357560" cy="517680"/>
          </a:xfrm>
          <a:custGeom>
            <a:avLst/>
            <a:gdLst/>
            <a:ahLst/>
            <a:rect l="l" t="t" r="r" b="b"/>
            <a:pathLst>
              <a:path w="3772" h="1440">
                <a:moveTo>
                  <a:pt x="19472" y="15156"/>
                </a:moveTo>
                <a:cubicBezTo>
                  <a:pt x="19472" y="15094"/>
                  <a:pt x="19433" y="15279"/>
                  <a:pt x="19422" y="15304"/>
                </a:cubicBezTo>
                <a:cubicBezTo>
                  <a:pt x="19401" y="15352"/>
                  <a:pt x="19317" y="15462"/>
                  <a:pt x="19348" y="15528"/>
                </a:cubicBezTo>
                <a:cubicBezTo>
                  <a:pt x="19386" y="15606"/>
                  <a:pt x="19500" y="15526"/>
                  <a:pt x="19546" y="15503"/>
                </a:cubicBezTo>
                <a:cubicBezTo>
                  <a:pt x="19587" y="15483"/>
                  <a:pt x="19603" y="15485"/>
                  <a:pt x="19596" y="15453"/>
                </a:cubicBezTo>
                <a:cubicBezTo>
                  <a:pt x="19502" y="15430"/>
                  <a:pt x="19475" y="15449"/>
                  <a:pt x="19447" y="15553"/>
                </a:cubicBezTo>
                <a:cubicBezTo>
                  <a:pt x="19447" y="15561"/>
                  <a:pt x="19447" y="15569"/>
                  <a:pt x="19447" y="15577"/>
                </a:cubicBezTo>
              </a:path>
              <a:path w="3772" h="1440">
                <a:moveTo>
                  <a:pt x="19670" y="15429"/>
                </a:moveTo>
                <a:cubicBezTo>
                  <a:pt x="19696" y="15446"/>
                  <a:pt x="19709" y="15485"/>
                  <a:pt x="19720" y="15528"/>
                </a:cubicBezTo>
                <a:cubicBezTo>
                  <a:pt x="19749" y="15489"/>
                  <a:pt x="19760" y="15455"/>
                  <a:pt x="19794" y="15429"/>
                </a:cubicBezTo>
                <a:cubicBezTo>
                  <a:pt x="19802" y="15421"/>
                  <a:pt x="19811" y="15412"/>
                  <a:pt x="19819" y="15404"/>
                </a:cubicBezTo>
                <a:cubicBezTo>
                  <a:pt x="19767" y="15404"/>
                  <a:pt x="19695" y="15452"/>
                  <a:pt x="19695" y="15503"/>
                </a:cubicBezTo>
                <a:cubicBezTo>
                  <a:pt x="19695" y="15619"/>
                  <a:pt x="19860" y="15559"/>
                  <a:pt x="19918" y="15553"/>
                </a:cubicBezTo>
              </a:path>
              <a:path w="3772" h="1440">
                <a:moveTo>
                  <a:pt x="20017" y="15404"/>
                </a:moveTo>
                <a:cubicBezTo>
                  <a:pt x="20017" y="15437"/>
                  <a:pt x="20017" y="15470"/>
                  <a:pt x="20017" y="15503"/>
                </a:cubicBezTo>
                <a:cubicBezTo>
                  <a:pt x="19947" y="15540"/>
                  <a:pt x="20030" y="15414"/>
                  <a:pt x="20042" y="15404"/>
                </a:cubicBezTo>
                <a:cubicBezTo>
                  <a:pt x="20088" y="15366"/>
                  <a:pt x="20131" y="15454"/>
                  <a:pt x="20141" y="15478"/>
                </a:cubicBezTo>
                <a:cubicBezTo>
                  <a:pt x="20151" y="15437"/>
                  <a:pt x="20201" y="15360"/>
                  <a:pt x="20265" y="15404"/>
                </a:cubicBezTo>
                <a:cubicBezTo>
                  <a:pt x="20352" y="15464"/>
                  <a:pt x="20306" y="15515"/>
                  <a:pt x="20290" y="15577"/>
                </a:cubicBezTo>
              </a:path>
              <a:path w="3772" h="1440">
                <a:moveTo>
                  <a:pt x="19273" y="14858"/>
                </a:moveTo>
                <a:cubicBezTo>
                  <a:pt x="19298" y="14858"/>
                  <a:pt x="19306" y="14858"/>
                  <a:pt x="19323" y="14858"/>
                </a:cubicBezTo>
                <a:cubicBezTo>
                  <a:pt x="19341" y="14913"/>
                  <a:pt x="19358" y="14871"/>
                  <a:pt x="19397" y="14858"/>
                </a:cubicBezTo>
                <a:cubicBezTo>
                  <a:pt x="19464" y="14835"/>
                  <a:pt x="19572" y="14858"/>
                  <a:pt x="19645" y="14858"/>
                </a:cubicBezTo>
              </a:path>
              <a:path w="3772" h="1440">
                <a:moveTo>
                  <a:pt x="19298" y="16173"/>
                </a:moveTo>
                <a:cubicBezTo>
                  <a:pt x="19392" y="16173"/>
                  <a:pt x="19484" y="16189"/>
                  <a:pt x="19571" y="16197"/>
                </a:cubicBezTo>
                <a:cubicBezTo>
                  <a:pt x="19790" y="16216"/>
                  <a:pt x="20035" y="16201"/>
                  <a:pt x="20241" y="16222"/>
                </a:cubicBezTo>
                <a:cubicBezTo>
                  <a:pt x="20323" y="16231"/>
                  <a:pt x="20386" y="16226"/>
                  <a:pt x="20464" y="16247"/>
                </a:cubicBezTo>
                <a:cubicBezTo>
                  <a:pt x="20518" y="16262"/>
                  <a:pt x="20555" y="16270"/>
                  <a:pt x="20613" y="16272"/>
                </a:cubicBezTo>
                <a:cubicBezTo>
                  <a:pt x="20790" y="16279"/>
                  <a:pt x="20966" y="16263"/>
                  <a:pt x="21134" y="16247"/>
                </a:cubicBezTo>
                <a:cubicBezTo>
                  <a:pt x="21235" y="16237"/>
                  <a:pt x="21332" y="16236"/>
                  <a:pt x="21431" y="16222"/>
                </a:cubicBezTo>
                <a:cubicBezTo>
                  <a:pt x="21454" y="16219"/>
                  <a:pt x="21530" y="16222"/>
                  <a:pt x="21580" y="16222"/>
                </a:cubicBezTo>
                <a:cubicBezTo>
                  <a:pt x="21605" y="16222"/>
                  <a:pt x="21613" y="16222"/>
                  <a:pt x="21630" y="16222"/>
                </a:cubicBezTo>
                <a:cubicBezTo>
                  <a:pt x="21626" y="16211"/>
                  <a:pt x="21585" y="16139"/>
                  <a:pt x="21580" y="16098"/>
                </a:cubicBezTo>
                <a:cubicBezTo>
                  <a:pt x="21574" y="16047"/>
                  <a:pt x="21572" y="16018"/>
                  <a:pt x="21555" y="15974"/>
                </a:cubicBezTo>
                <a:cubicBezTo>
                  <a:pt x="21536" y="15927"/>
                  <a:pt x="21532" y="15908"/>
                  <a:pt x="21530" y="15850"/>
                </a:cubicBezTo>
                <a:cubicBezTo>
                  <a:pt x="21526" y="15735"/>
                  <a:pt x="21546" y="15576"/>
                  <a:pt x="21555" y="15503"/>
                </a:cubicBezTo>
                <a:cubicBezTo>
                  <a:pt x="21563" y="15432"/>
                  <a:pt x="21574" y="15346"/>
                  <a:pt x="21580" y="15280"/>
                </a:cubicBezTo>
                <a:cubicBezTo>
                  <a:pt x="21586" y="15212"/>
                  <a:pt x="21608" y="15080"/>
                  <a:pt x="21605" y="15032"/>
                </a:cubicBezTo>
                <a:cubicBezTo>
                  <a:pt x="21602" y="14990"/>
                  <a:pt x="21580" y="14974"/>
                  <a:pt x="21580" y="14932"/>
                </a:cubicBezTo>
                <a:cubicBezTo>
                  <a:pt x="21580" y="14908"/>
                  <a:pt x="21580" y="14899"/>
                  <a:pt x="21580" y="14883"/>
                </a:cubicBezTo>
                <a:cubicBezTo>
                  <a:pt x="21491" y="14883"/>
                  <a:pt x="21417" y="14899"/>
                  <a:pt x="21332" y="14908"/>
                </a:cubicBezTo>
                <a:cubicBezTo>
                  <a:pt x="21270" y="14915"/>
                  <a:pt x="21184" y="14927"/>
                  <a:pt x="21134" y="14932"/>
                </a:cubicBezTo>
                <a:cubicBezTo>
                  <a:pt x="21036" y="14941"/>
                  <a:pt x="20950" y="14915"/>
                  <a:pt x="20861" y="14908"/>
                </a:cubicBezTo>
                <a:cubicBezTo>
                  <a:pt x="20810" y="14904"/>
                  <a:pt x="20750" y="14888"/>
                  <a:pt x="20712" y="14883"/>
                </a:cubicBezTo>
                <a:cubicBezTo>
                  <a:pt x="20656" y="14876"/>
                  <a:pt x="20590" y="14863"/>
                  <a:pt x="20538" y="14858"/>
                </a:cubicBezTo>
                <a:cubicBezTo>
                  <a:pt x="20460" y="14850"/>
                  <a:pt x="20390" y="14839"/>
                  <a:pt x="20315" y="14833"/>
                </a:cubicBezTo>
                <a:cubicBezTo>
                  <a:pt x="20132" y="14818"/>
                  <a:pt x="19935" y="14842"/>
                  <a:pt x="19769" y="14858"/>
                </a:cubicBezTo>
                <a:cubicBezTo>
                  <a:pt x="19672" y="14867"/>
                  <a:pt x="19569" y="14868"/>
                  <a:pt x="19472" y="14883"/>
                </a:cubicBezTo>
                <a:cubicBezTo>
                  <a:pt x="19380" y="14897"/>
                  <a:pt x="19290" y="14919"/>
                  <a:pt x="19199" y="14932"/>
                </a:cubicBezTo>
                <a:cubicBezTo>
                  <a:pt x="19191" y="14932"/>
                  <a:pt x="19182" y="14932"/>
                  <a:pt x="19174" y="14932"/>
                </a:cubicBezTo>
              </a:path>
              <a:path w="3772" h="1440">
                <a:moveTo>
                  <a:pt x="20340" y="15726"/>
                </a:moveTo>
                <a:cubicBezTo>
                  <a:pt x="20340" y="15674"/>
                  <a:pt x="20352" y="15665"/>
                  <a:pt x="20389" y="15627"/>
                </a:cubicBezTo>
                <a:cubicBezTo>
                  <a:pt x="20409" y="15607"/>
                  <a:pt x="20487" y="15576"/>
                  <a:pt x="20513" y="15602"/>
                </a:cubicBezTo>
                <a:cubicBezTo>
                  <a:pt x="20549" y="15639"/>
                  <a:pt x="20534" y="15682"/>
                  <a:pt x="20513" y="15726"/>
                </a:cubicBezTo>
                <a:cubicBezTo>
                  <a:pt x="20472" y="15815"/>
                  <a:pt x="20412" y="15800"/>
                  <a:pt x="20340" y="15850"/>
                </a:cubicBezTo>
                <a:cubicBezTo>
                  <a:pt x="20307" y="15873"/>
                  <a:pt x="20253" y="15939"/>
                  <a:pt x="20241" y="15974"/>
                </a:cubicBezTo>
                <a:cubicBezTo>
                  <a:pt x="20241" y="15982"/>
                  <a:pt x="20241" y="15991"/>
                  <a:pt x="20241" y="15999"/>
                </a:cubicBezTo>
                <a:cubicBezTo>
                  <a:pt x="20272" y="15988"/>
                  <a:pt x="20272" y="15937"/>
                  <a:pt x="20315" y="15925"/>
                </a:cubicBezTo>
                <a:cubicBezTo>
                  <a:pt x="20402" y="15901"/>
                  <a:pt x="20415" y="15916"/>
                  <a:pt x="20489" y="15949"/>
                </a:cubicBezTo>
                <a:cubicBezTo>
                  <a:pt x="20563" y="15974"/>
                  <a:pt x="20588" y="15982"/>
                  <a:pt x="20638" y="15949"/>
                </a:cubicBezTo>
              </a:path>
              <a:path w="3772" h="1440">
                <a:moveTo>
                  <a:pt x="19993" y="16049"/>
                </a:moveTo>
                <a:cubicBezTo>
                  <a:pt x="20110" y="16070"/>
                  <a:pt x="20245" y="16094"/>
                  <a:pt x="20365" y="16073"/>
                </a:cubicBezTo>
                <a:cubicBezTo>
                  <a:pt x="20495" y="16051"/>
                  <a:pt x="20595" y="16036"/>
                  <a:pt x="20712" y="15974"/>
                </a:cubicBezTo>
                <a:cubicBezTo>
                  <a:pt x="20791" y="15933"/>
                  <a:pt x="20854" y="15887"/>
                  <a:pt x="20861" y="15801"/>
                </a:cubicBezTo>
                <a:cubicBezTo>
                  <a:pt x="20866" y="15738"/>
                  <a:pt x="20850" y="15678"/>
                  <a:pt x="20811" y="15627"/>
                </a:cubicBezTo>
                <a:cubicBezTo>
                  <a:pt x="20747" y="15544"/>
                  <a:pt x="20717" y="15576"/>
                  <a:pt x="20638" y="15553"/>
                </a:cubicBezTo>
                <a:cubicBezTo>
                  <a:pt x="20567" y="15532"/>
                  <a:pt x="20493" y="15513"/>
                  <a:pt x="20414" y="15528"/>
                </a:cubicBezTo>
                <a:cubicBezTo>
                  <a:pt x="20354" y="15540"/>
                  <a:pt x="20245" y="15552"/>
                  <a:pt x="20191" y="15577"/>
                </a:cubicBezTo>
                <a:cubicBezTo>
                  <a:pt x="20146" y="15598"/>
                  <a:pt x="20072" y="15655"/>
                  <a:pt x="20042" y="15701"/>
                </a:cubicBezTo>
                <a:cubicBezTo>
                  <a:pt x="20005" y="15758"/>
                  <a:pt x="19948" y="15858"/>
                  <a:pt x="19943" y="15925"/>
                </a:cubicBezTo>
                <a:cubicBezTo>
                  <a:pt x="19939" y="15988"/>
                  <a:pt x="19955" y="16021"/>
                  <a:pt x="19968" y="16073"/>
                </a:cubicBezTo>
                <a:cubicBezTo>
                  <a:pt x="20016" y="16045"/>
                  <a:pt x="20080" y="16030"/>
                  <a:pt x="20141" y="16024"/>
                </a:cubicBezTo>
                <a:cubicBezTo>
                  <a:pt x="20174" y="16021"/>
                  <a:pt x="20208" y="16024"/>
                  <a:pt x="20241" y="16024"/>
                </a:cubicBezTo>
              </a:path>
              <a:path w="3772" h="1440">
                <a:moveTo>
                  <a:pt x="17934" y="15627"/>
                </a:moveTo>
                <a:cubicBezTo>
                  <a:pt x="17967" y="15671"/>
                  <a:pt x="18001" y="15721"/>
                  <a:pt x="18058" y="15751"/>
                </a:cubicBezTo>
                <a:cubicBezTo>
                  <a:pt x="18139" y="15794"/>
                  <a:pt x="18292" y="15792"/>
                  <a:pt x="18380" y="15776"/>
                </a:cubicBezTo>
                <a:cubicBezTo>
                  <a:pt x="18450" y="15763"/>
                  <a:pt x="18563" y="15714"/>
                  <a:pt x="18604" y="15652"/>
                </a:cubicBezTo>
                <a:cubicBezTo>
                  <a:pt x="18637" y="15602"/>
                  <a:pt x="18651" y="15512"/>
                  <a:pt x="18653" y="15453"/>
                </a:cubicBezTo>
                <a:cubicBezTo>
                  <a:pt x="18656" y="15366"/>
                  <a:pt x="18642" y="15332"/>
                  <a:pt x="18604" y="15255"/>
                </a:cubicBezTo>
                <a:cubicBezTo>
                  <a:pt x="18575" y="15196"/>
                  <a:pt x="18571" y="15167"/>
                  <a:pt x="18529" y="15131"/>
                </a:cubicBezTo>
                <a:cubicBezTo>
                  <a:pt x="18465" y="15076"/>
                  <a:pt x="18400" y="15042"/>
                  <a:pt x="18306" y="15056"/>
                </a:cubicBezTo>
                <a:cubicBezTo>
                  <a:pt x="18216" y="15069"/>
                  <a:pt x="18139" y="15090"/>
                  <a:pt x="18058" y="15131"/>
                </a:cubicBezTo>
                <a:cubicBezTo>
                  <a:pt x="17980" y="15170"/>
                  <a:pt x="17924" y="15185"/>
                  <a:pt x="17884" y="15280"/>
                </a:cubicBezTo>
                <a:cubicBezTo>
                  <a:pt x="17856" y="15345"/>
                  <a:pt x="17840" y="15482"/>
                  <a:pt x="17859" y="15553"/>
                </a:cubicBezTo>
                <a:cubicBezTo>
                  <a:pt x="17879" y="15630"/>
                  <a:pt x="17969" y="15690"/>
                  <a:pt x="18033" y="15726"/>
                </a:cubicBezTo>
                <a:cubicBezTo>
                  <a:pt x="18073" y="15746"/>
                  <a:pt x="18080" y="15755"/>
                  <a:pt x="18107" y="1575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92920" y="5295960"/>
            <a:ext cx="9360" cy="7920"/>
          </a:xfrm>
          <a:custGeom>
            <a:avLst/>
            <a:gdLst/>
            <a:ahLst/>
            <a:rect l="l" t="t" r="r" b="b"/>
            <a:pathLst>
              <a:path w="26" h="26">
                <a:moveTo>
                  <a:pt x="19174" y="14734"/>
                </a:moveTo>
                <a:cubicBezTo>
                  <a:pt x="19174" y="14709"/>
                  <a:pt x="19174" y="14701"/>
                  <a:pt x="19149" y="1470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69040" y="5330880"/>
            <a:ext cx="723960" cy="696960"/>
          </a:xfrm>
          <a:custGeom>
            <a:avLst/>
            <a:gdLst/>
            <a:ahLst/>
            <a:rect l="l" t="t" r="r" b="b"/>
            <a:pathLst>
              <a:path w="2010" h="1936">
                <a:moveTo>
                  <a:pt x="17611" y="15230"/>
                </a:moveTo>
                <a:cubicBezTo>
                  <a:pt x="17635" y="15230"/>
                  <a:pt x="17631" y="15176"/>
                  <a:pt x="17636" y="15280"/>
                </a:cubicBezTo>
                <a:cubicBezTo>
                  <a:pt x="17641" y="15393"/>
                  <a:pt x="17613" y="15519"/>
                  <a:pt x="17587" y="15627"/>
                </a:cubicBezTo>
                <a:cubicBezTo>
                  <a:pt x="17561" y="15736"/>
                  <a:pt x="17561" y="15845"/>
                  <a:pt x="17537" y="15949"/>
                </a:cubicBezTo>
                <a:cubicBezTo>
                  <a:pt x="17523" y="16012"/>
                  <a:pt x="17512" y="16055"/>
                  <a:pt x="17512" y="16123"/>
                </a:cubicBezTo>
                <a:cubicBezTo>
                  <a:pt x="17512" y="16177"/>
                  <a:pt x="17522" y="16173"/>
                  <a:pt x="17537" y="16197"/>
                </a:cubicBezTo>
                <a:cubicBezTo>
                  <a:pt x="17562" y="16237"/>
                  <a:pt x="17576" y="16235"/>
                  <a:pt x="17636" y="16247"/>
                </a:cubicBezTo>
                <a:cubicBezTo>
                  <a:pt x="17702" y="16260"/>
                  <a:pt x="17726" y="16229"/>
                  <a:pt x="17785" y="16222"/>
                </a:cubicBezTo>
                <a:cubicBezTo>
                  <a:pt x="17869" y="16212"/>
                  <a:pt x="17951" y="16208"/>
                  <a:pt x="18033" y="16197"/>
                </a:cubicBezTo>
                <a:cubicBezTo>
                  <a:pt x="18110" y="16187"/>
                  <a:pt x="18183" y="16160"/>
                  <a:pt x="18256" y="16148"/>
                </a:cubicBezTo>
                <a:cubicBezTo>
                  <a:pt x="18323" y="16137"/>
                  <a:pt x="18391" y="16145"/>
                  <a:pt x="18455" y="16123"/>
                </a:cubicBezTo>
                <a:cubicBezTo>
                  <a:pt x="18534" y="16097"/>
                  <a:pt x="18592" y="16098"/>
                  <a:pt x="18678" y="16098"/>
                </a:cubicBezTo>
                <a:cubicBezTo>
                  <a:pt x="18753" y="16098"/>
                  <a:pt x="18802" y="16091"/>
                  <a:pt x="18876" y="16098"/>
                </a:cubicBezTo>
                <a:cubicBezTo>
                  <a:pt x="18945" y="16104"/>
                  <a:pt x="19011" y="16115"/>
                  <a:pt x="19075" y="16123"/>
                </a:cubicBezTo>
                <a:cubicBezTo>
                  <a:pt x="19126" y="16129"/>
                  <a:pt x="19155" y="16139"/>
                  <a:pt x="19199" y="16148"/>
                </a:cubicBezTo>
                <a:cubicBezTo>
                  <a:pt x="19207" y="16148"/>
                  <a:pt x="19216" y="16148"/>
                  <a:pt x="19224" y="16148"/>
                </a:cubicBezTo>
                <a:cubicBezTo>
                  <a:pt x="19224" y="16120"/>
                  <a:pt x="19227" y="16095"/>
                  <a:pt x="19224" y="16049"/>
                </a:cubicBezTo>
                <a:cubicBezTo>
                  <a:pt x="19214" y="15889"/>
                  <a:pt x="19219" y="15730"/>
                  <a:pt x="19199" y="15577"/>
                </a:cubicBezTo>
                <a:cubicBezTo>
                  <a:pt x="19190" y="15507"/>
                  <a:pt x="19221" y="15449"/>
                  <a:pt x="19224" y="15379"/>
                </a:cubicBezTo>
                <a:cubicBezTo>
                  <a:pt x="19230" y="15234"/>
                  <a:pt x="19216" y="15094"/>
                  <a:pt x="19199" y="14957"/>
                </a:cubicBezTo>
                <a:cubicBezTo>
                  <a:pt x="19192" y="14899"/>
                  <a:pt x="19213" y="14882"/>
                  <a:pt x="19174" y="14858"/>
                </a:cubicBezTo>
                <a:cubicBezTo>
                  <a:pt x="19111" y="14819"/>
                  <a:pt x="19026" y="14858"/>
                  <a:pt x="18951" y="14858"/>
                </a:cubicBezTo>
                <a:cubicBezTo>
                  <a:pt x="18684" y="14858"/>
                  <a:pt x="18418" y="14859"/>
                  <a:pt x="18157" y="14833"/>
                </a:cubicBezTo>
                <a:cubicBezTo>
                  <a:pt x="17990" y="14817"/>
                  <a:pt x="17823" y="14834"/>
                  <a:pt x="17661" y="14808"/>
                </a:cubicBezTo>
                <a:cubicBezTo>
                  <a:pt x="17610" y="14800"/>
                  <a:pt x="17568" y="14830"/>
                  <a:pt x="17512" y="14833"/>
                </a:cubicBezTo>
                <a:cubicBezTo>
                  <a:pt x="17463" y="14835"/>
                  <a:pt x="17448" y="14830"/>
                  <a:pt x="17438" y="14883"/>
                </a:cubicBezTo>
                <a:cubicBezTo>
                  <a:pt x="17415" y="15006"/>
                  <a:pt x="17428" y="15158"/>
                  <a:pt x="17413" y="15280"/>
                </a:cubicBezTo>
                <a:cubicBezTo>
                  <a:pt x="17403" y="15359"/>
                  <a:pt x="17403" y="15488"/>
                  <a:pt x="17438" y="15528"/>
                </a:cubicBezTo>
                <a:cubicBezTo>
                  <a:pt x="17466" y="15561"/>
                  <a:pt x="17475" y="15561"/>
                  <a:pt x="17487" y="15627"/>
                </a:cubicBezTo>
                <a:cubicBezTo>
                  <a:pt x="17500" y="15700"/>
                  <a:pt x="17534" y="15812"/>
                  <a:pt x="17512" y="15900"/>
                </a:cubicBezTo>
                <a:cubicBezTo>
                  <a:pt x="17497" y="15959"/>
                  <a:pt x="17489" y="15985"/>
                  <a:pt x="17487" y="16049"/>
                </a:cubicBezTo>
                <a:cubicBezTo>
                  <a:pt x="17486" y="16082"/>
                  <a:pt x="17487" y="16115"/>
                  <a:pt x="17487" y="16148"/>
                </a:cubicBezTo>
              </a:path>
              <a:path w="2010" h="1936">
                <a:moveTo>
                  <a:pt x="18331" y="15255"/>
                </a:moveTo>
                <a:cubicBezTo>
                  <a:pt x="18331" y="15211"/>
                  <a:pt x="18338" y="15453"/>
                  <a:pt x="18331" y="15503"/>
                </a:cubicBezTo>
                <a:cubicBezTo>
                  <a:pt x="18320" y="15586"/>
                  <a:pt x="18306" y="15835"/>
                  <a:pt x="18306" y="15751"/>
                </a:cubicBezTo>
                <a:cubicBezTo>
                  <a:pt x="18306" y="15646"/>
                  <a:pt x="18311" y="15556"/>
                  <a:pt x="18331" y="15453"/>
                </a:cubicBezTo>
                <a:cubicBezTo>
                  <a:pt x="18349" y="15362"/>
                  <a:pt x="18357" y="15355"/>
                  <a:pt x="18355" y="15304"/>
                </a:cubicBezTo>
              </a:path>
              <a:path w="2010" h="1936">
                <a:moveTo>
                  <a:pt x="18256" y="16371"/>
                </a:moveTo>
                <a:cubicBezTo>
                  <a:pt x="18256" y="16305"/>
                  <a:pt x="18265" y="16454"/>
                  <a:pt x="18256" y="16520"/>
                </a:cubicBezTo>
                <a:cubicBezTo>
                  <a:pt x="18235" y="16604"/>
                  <a:pt x="18220" y="16623"/>
                  <a:pt x="18256" y="16669"/>
                </a:cubicBezTo>
              </a:path>
              <a:path w="2010" h="1936">
                <a:moveTo>
                  <a:pt x="18479" y="16346"/>
                </a:moveTo>
                <a:cubicBezTo>
                  <a:pt x="18552" y="16328"/>
                  <a:pt x="18603" y="16321"/>
                  <a:pt x="18678" y="16321"/>
                </a:cubicBezTo>
                <a:cubicBezTo>
                  <a:pt x="18678" y="16479"/>
                  <a:pt x="18662" y="16541"/>
                  <a:pt x="18529" y="16644"/>
                </a:cubicBezTo>
                <a:cubicBezTo>
                  <a:pt x="18512" y="16652"/>
                  <a:pt x="18496" y="16661"/>
                  <a:pt x="18479" y="16669"/>
                </a:cubicBezTo>
                <a:cubicBezTo>
                  <a:pt x="18562" y="16669"/>
                  <a:pt x="18645" y="16669"/>
                  <a:pt x="18728" y="16669"/>
                </a:cubicBezTo>
              </a:path>
              <a:path w="2010" h="1936">
                <a:moveTo>
                  <a:pt x="19050" y="16495"/>
                </a:moveTo>
                <a:cubicBezTo>
                  <a:pt x="18983" y="16445"/>
                  <a:pt x="18911" y="16499"/>
                  <a:pt x="18901" y="16594"/>
                </a:cubicBezTo>
                <a:cubicBezTo>
                  <a:pt x="18889" y="16708"/>
                  <a:pt x="18970" y="16711"/>
                  <a:pt x="19050" y="16718"/>
                </a:cubicBezTo>
              </a:path>
              <a:path w="2010" h="1936">
                <a:moveTo>
                  <a:pt x="19174" y="16520"/>
                </a:moveTo>
                <a:cubicBezTo>
                  <a:pt x="19174" y="16578"/>
                  <a:pt x="19174" y="16636"/>
                  <a:pt x="19174" y="16694"/>
                </a:cubicBezTo>
                <a:cubicBezTo>
                  <a:pt x="19174" y="16638"/>
                  <a:pt x="19183" y="16562"/>
                  <a:pt x="19224" y="16520"/>
                </a:cubicBezTo>
                <a:cubicBezTo>
                  <a:pt x="19272" y="16471"/>
                  <a:pt x="19318" y="16596"/>
                  <a:pt x="19323" y="16619"/>
                </a:cubicBezTo>
                <a:cubicBezTo>
                  <a:pt x="19330" y="16599"/>
                  <a:pt x="19341" y="16512"/>
                  <a:pt x="19372" y="16520"/>
                </a:cubicBezTo>
                <a:cubicBezTo>
                  <a:pt x="19448" y="16540"/>
                  <a:pt x="19424" y="16674"/>
                  <a:pt x="19397" y="16718"/>
                </a:cubicBezTo>
                <a:cubicBezTo>
                  <a:pt x="19389" y="16726"/>
                  <a:pt x="19380" y="16735"/>
                  <a:pt x="19372" y="1674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464080" y="3724200"/>
            <a:ext cx="465120" cy="366840"/>
          </a:xfrm>
          <a:custGeom>
            <a:avLst/>
            <a:gdLst/>
            <a:ahLst/>
            <a:rect l="l" t="t" r="r" b="b"/>
            <a:pathLst>
              <a:path w="1291" h="1018">
                <a:moveTo>
                  <a:pt x="15627" y="10641"/>
                </a:moveTo>
                <a:cubicBezTo>
                  <a:pt x="15583" y="10613"/>
                  <a:pt x="15613" y="10565"/>
                  <a:pt x="15652" y="10517"/>
                </a:cubicBezTo>
                <a:cubicBezTo>
                  <a:pt x="15686" y="10476"/>
                  <a:pt x="15792" y="10425"/>
                  <a:pt x="15850" y="10443"/>
                </a:cubicBezTo>
                <a:cubicBezTo>
                  <a:pt x="15899" y="10458"/>
                  <a:pt x="15925" y="10496"/>
                  <a:pt x="15949" y="10542"/>
                </a:cubicBezTo>
                <a:cubicBezTo>
                  <a:pt x="15985" y="10611"/>
                  <a:pt x="15993" y="10662"/>
                  <a:pt x="15925" y="10716"/>
                </a:cubicBezTo>
                <a:cubicBezTo>
                  <a:pt x="15872" y="10759"/>
                  <a:pt x="15806" y="10771"/>
                  <a:pt x="15751" y="10790"/>
                </a:cubicBezTo>
                <a:cubicBezTo>
                  <a:pt x="15666" y="10820"/>
                  <a:pt x="15607" y="10934"/>
                  <a:pt x="15577" y="11013"/>
                </a:cubicBezTo>
                <a:cubicBezTo>
                  <a:pt x="15556" y="11079"/>
                  <a:pt x="15548" y="11094"/>
                  <a:pt x="15553" y="11137"/>
                </a:cubicBezTo>
                <a:cubicBezTo>
                  <a:pt x="15585" y="11126"/>
                  <a:pt x="15616" y="11051"/>
                  <a:pt x="15652" y="11013"/>
                </a:cubicBezTo>
                <a:cubicBezTo>
                  <a:pt x="15672" y="10992"/>
                  <a:pt x="15765" y="10898"/>
                  <a:pt x="15801" y="10914"/>
                </a:cubicBezTo>
                <a:cubicBezTo>
                  <a:pt x="15849" y="10936"/>
                  <a:pt x="15863" y="10972"/>
                  <a:pt x="15900" y="11013"/>
                </a:cubicBezTo>
                <a:cubicBezTo>
                  <a:pt x="15933" y="11050"/>
                  <a:pt x="16043" y="11050"/>
                  <a:pt x="16073" y="11013"/>
                </a:cubicBezTo>
                <a:cubicBezTo>
                  <a:pt x="16088" y="10994"/>
                  <a:pt x="16089" y="10989"/>
                  <a:pt x="16098" y="10964"/>
                </a:cubicBezTo>
              </a:path>
              <a:path w="1291" h="1018">
                <a:moveTo>
                  <a:pt x="15478" y="11237"/>
                </a:moveTo>
                <a:cubicBezTo>
                  <a:pt x="15554" y="11260"/>
                  <a:pt x="15646" y="11302"/>
                  <a:pt x="15726" y="11311"/>
                </a:cubicBezTo>
                <a:cubicBezTo>
                  <a:pt x="15855" y="11325"/>
                  <a:pt x="16055" y="11289"/>
                  <a:pt x="16173" y="11237"/>
                </a:cubicBezTo>
                <a:cubicBezTo>
                  <a:pt x="16268" y="11195"/>
                  <a:pt x="16374" y="11106"/>
                  <a:pt x="16421" y="11013"/>
                </a:cubicBezTo>
                <a:cubicBezTo>
                  <a:pt x="16455" y="10945"/>
                  <a:pt x="16486" y="10843"/>
                  <a:pt x="16470" y="10765"/>
                </a:cubicBezTo>
                <a:cubicBezTo>
                  <a:pt x="16452" y="10677"/>
                  <a:pt x="16411" y="10596"/>
                  <a:pt x="16371" y="10517"/>
                </a:cubicBezTo>
                <a:cubicBezTo>
                  <a:pt x="16335" y="10447"/>
                  <a:pt x="16264" y="10387"/>
                  <a:pt x="16197" y="10368"/>
                </a:cubicBezTo>
                <a:cubicBezTo>
                  <a:pt x="16107" y="10343"/>
                  <a:pt x="16005" y="10344"/>
                  <a:pt x="15900" y="10344"/>
                </a:cubicBezTo>
                <a:cubicBezTo>
                  <a:pt x="15784" y="10344"/>
                  <a:pt x="15583" y="10374"/>
                  <a:pt x="15478" y="10418"/>
                </a:cubicBezTo>
                <a:cubicBezTo>
                  <a:pt x="15374" y="10462"/>
                  <a:pt x="15351" y="10531"/>
                  <a:pt x="15304" y="10616"/>
                </a:cubicBezTo>
                <a:cubicBezTo>
                  <a:pt x="15242" y="10728"/>
                  <a:pt x="15185" y="10782"/>
                  <a:pt x="15180" y="10914"/>
                </a:cubicBezTo>
                <a:cubicBezTo>
                  <a:pt x="15176" y="11016"/>
                  <a:pt x="15208" y="11161"/>
                  <a:pt x="15280" y="11237"/>
                </a:cubicBezTo>
                <a:cubicBezTo>
                  <a:pt x="15311" y="11270"/>
                  <a:pt x="15451" y="11363"/>
                  <a:pt x="15503" y="11361"/>
                </a:cubicBezTo>
                <a:cubicBezTo>
                  <a:pt x="15594" y="11357"/>
                  <a:pt x="15667" y="11312"/>
                  <a:pt x="15751" y="11286"/>
                </a:cubicBezTo>
                <a:cubicBezTo>
                  <a:pt x="15759" y="11286"/>
                  <a:pt x="15768" y="11286"/>
                  <a:pt x="15776" y="1128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562800" y="1901880"/>
            <a:ext cx="455400" cy="554040"/>
          </a:xfrm>
          <a:custGeom>
            <a:avLst/>
            <a:gdLst/>
            <a:ahLst/>
            <a:rect l="l" t="t" r="r" b="b"/>
            <a:pathLst>
              <a:path w="1266" h="1539">
                <a:moveTo>
                  <a:pt x="18479" y="6449"/>
                </a:moveTo>
                <a:cubicBezTo>
                  <a:pt x="18438" y="6503"/>
                  <a:pt x="18378" y="6586"/>
                  <a:pt x="18331" y="6623"/>
                </a:cubicBezTo>
                <a:cubicBezTo>
                  <a:pt x="18274" y="6668"/>
                  <a:pt x="18280" y="6682"/>
                  <a:pt x="18231" y="6747"/>
                </a:cubicBezTo>
              </a:path>
              <a:path w="1266" h="1539">
                <a:moveTo>
                  <a:pt x="18231" y="6449"/>
                </a:moveTo>
                <a:cubicBezTo>
                  <a:pt x="18231" y="6573"/>
                  <a:pt x="18231" y="6697"/>
                  <a:pt x="18231" y="6821"/>
                </a:cubicBezTo>
                <a:cubicBezTo>
                  <a:pt x="18375" y="6802"/>
                  <a:pt x="18496" y="6745"/>
                  <a:pt x="18628" y="6697"/>
                </a:cubicBezTo>
                <a:cubicBezTo>
                  <a:pt x="18636" y="6697"/>
                  <a:pt x="18645" y="6697"/>
                  <a:pt x="18653" y="6697"/>
                </a:cubicBezTo>
              </a:path>
              <a:path w="1266" h="1539">
                <a:moveTo>
                  <a:pt x="19000" y="5556"/>
                </a:moveTo>
                <a:cubicBezTo>
                  <a:pt x="19014" y="5749"/>
                  <a:pt x="19061" y="5934"/>
                  <a:pt x="19075" y="6127"/>
                </a:cubicBezTo>
              </a:path>
              <a:path w="1266" h="1539">
                <a:moveTo>
                  <a:pt x="18728" y="6127"/>
                </a:moveTo>
                <a:cubicBezTo>
                  <a:pt x="18798" y="6198"/>
                  <a:pt x="18876" y="6297"/>
                  <a:pt x="19000" y="6325"/>
                </a:cubicBezTo>
                <a:cubicBezTo>
                  <a:pt x="19197" y="6370"/>
                  <a:pt x="19410" y="6211"/>
                  <a:pt x="19472" y="6028"/>
                </a:cubicBezTo>
                <a:cubicBezTo>
                  <a:pt x="19550" y="5797"/>
                  <a:pt x="19513" y="5540"/>
                  <a:pt x="19323" y="5383"/>
                </a:cubicBezTo>
                <a:cubicBezTo>
                  <a:pt x="19196" y="5278"/>
                  <a:pt x="18938" y="5232"/>
                  <a:pt x="18802" y="5358"/>
                </a:cubicBezTo>
                <a:cubicBezTo>
                  <a:pt x="18574" y="5570"/>
                  <a:pt x="18671" y="5945"/>
                  <a:pt x="18876" y="6127"/>
                </a:cubicBezTo>
                <a:cubicBezTo>
                  <a:pt x="18991" y="6172"/>
                  <a:pt x="19022" y="6186"/>
                  <a:pt x="19100" y="620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43160" y="2259000"/>
            <a:ext cx="465120" cy="590400"/>
          </a:xfrm>
          <a:custGeom>
            <a:avLst/>
            <a:gdLst/>
            <a:ahLst/>
            <a:rect l="l" t="t" r="r" b="b"/>
            <a:pathLst>
              <a:path w="1291" h="1638">
                <a:moveTo>
                  <a:pt x="9699" y="7590"/>
                </a:moveTo>
                <a:cubicBezTo>
                  <a:pt x="9752" y="7699"/>
                  <a:pt x="9764" y="7772"/>
                  <a:pt x="9798" y="7888"/>
                </a:cubicBezTo>
                <a:cubicBezTo>
                  <a:pt x="9798" y="7896"/>
                  <a:pt x="9798" y="7905"/>
                  <a:pt x="9798" y="7913"/>
                </a:cubicBezTo>
              </a:path>
              <a:path w="1291" h="1638">
                <a:moveTo>
                  <a:pt x="9649" y="7764"/>
                </a:moveTo>
                <a:cubicBezTo>
                  <a:pt x="9688" y="7772"/>
                  <a:pt x="9813" y="7847"/>
                  <a:pt x="9847" y="7813"/>
                </a:cubicBezTo>
                <a:cubicBezTo>
                  <a:pt x="9932" y="7728"/>
                  <a:pt x="9901" y="7589"/>
                  <a:pt x="10021" y="7541"/>
                </a:cubicBezTo>
              </a:path>
              <a:path w="1291" h="1638">
                <a:moveTo>
                  <a:pt x="9103" y="6697"/>
                </a:moveTo>
                <a:cubicBezTo>
                  <a:pt x="9073" y="6604"/>
                  <a:pt x="9121" y="6574"/>
                  <a:pt x="9203" y="6524"/>
                </a:cubicBezTo>
                <a:cubicBezTo>
                  <a:pt x="9301" y="6663"/>
                  <a:pt x="9289" y="6741"/>
                  <a:pt x="9227" y="6896"/>
                </a:cubicBezTo>
                <a:cubicBezTo>
                  <a:pt x="9189" y="6973"/>
                  <a:pt x="9190" y="6988"/>
                  <a:pt x="9153" y="7020"/>
                </a:cubicBezTo>
                <a:cubicBezTo>
                  <a:pt x="9171" y="6946"/>
                  <a:pt x="9232" y="6933"/>
                  <a:pt x="9302" y="6896"/>
                </a:cubicBezTo>
                <a:cubicBezTo>
                  <a:pt x="9352" y="6870"/>
                  <a:pt x="9373" y="6871"/>
                  <a:pt x="9426" y="6871"/>
                </a:cubicBezTo>
              </a:path>
              <a:path w="1291" h="1638">
                <a:moveTo>
                  <a:pt x="9004" y="7169"/>
                </a:moveTo>
                <a:cubicBezTo>
                  <a:pt x="9205" y="7197"/>
                  <a:pt x="9370" y="7116"/>
                  <a:pt x="9500" y="6945"/>
                </a:cubicBezTo>
                <a:cubicBezTo>
                  <a:pt x="9603" y="6808"/>
                  <a:pt x="9648" y="6575"/>
                  <a:pt x="9550" y="6424"/>
                </a:cubicBezTo>
                <a:cubicBezTo>
                  <a:pt x="9431" y="6240"/>
                  <a:pt x="9207" y="6247"/>
                  <a:pt x="9029" y="6325"/>
                </a:cubicBezTo>
                <a:cubicBezTo>
                  <a:pt x="8733" y="6454"/>
                  <a:pt x="8682" y="6672"/>
                  <a:pt x="8781" y="6970"/>
                </a:cubicBezTo>
                <a:cubicBezTo>
                  <a:pt x="8864" y="7218"/>
                  <a:pt x="8915" y="7229"/>
                  <a:pt x="9128" y="726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371600" y="380880"/>
            <a:ext cx="525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raw a Net to Find the Surface Area of the Rectangular Pri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685800" y="1143000"/>
            <a:ext cx="3048120" cy="1526400"/>
            <a:chOff x="685800" y="1143000"/>
            <a:chExt cx="3048120" cy="1526400"/>
          </a:xfrm>
        </p:grpSpPr>
        <p:sp>
          <p:nvSpPr>
            <p:cNvPr id="159" name=""/>
            <p:cNvSpPr/>
            <p:nvPr/>
          </p:nvSpPr>
          <p:spPr>
            <a:xfrm>
              <a:off x="685800" y="1676520"/>
              <a:ext cx="1239840" cy="577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914400" y="236232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12 c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048120" y="114300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6 c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90920" y="190512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15 c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962520" y="1219320"/>
            <a:ext cx="4038120" cy="3200400"/>
            <a:chOff x="3962520" y="1219320"/>
            <a:chExt cx="4038120" cy="3200400"/>
          </a:xfrm>
        </p:grpSpPr>
        <p:sp>
          <p:nvSpPr>
            <p:cNvPr id="164" name=""/>
            <p:cNvSpPr/>
            <p:nvPr/>
          </p:nvSpPr>
          <p:spPr>
            <a:xfrm>
              <a:off x="3962520" y="1905120"/>
              <a:ext cx="1295280" cy="1752480"/>
            </a:xfrm>
            <a:prstGeom prst="rect">
              <a:avLst/>
            </a:prstGeom>
            <a:solidFill>
              <a:srgbClr val="f133a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257800" y="1905120"/>
              <a:ext cx="761400" cy="1752480"/>
            </a:xfrm>
            <a:prstGeom prst="rect">
              <a:avLst/>
            </a:prstGeom>
            <a:solidFill>
              <a:srgbClr val="f133a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560" y="1905120"/>
              <a:ext cx="1295280" cy="1752480"/>
            </a:xfrm>
            <a:prstGeom prst="rect">
              <a:avLst/>
            </a:prstGeom>
            <a:solidFill>
              <a:srgbClr val="f133a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315200" y="1905120"/>
              <a:ext cx="685440" cy="1752480"/>
            </a:xfrm>
            <a:prstGeom prst="rect">
              <a:avLst/>
            </a:prstGeom>
            <a:solidFill>
              <a:srgbClr val="f133a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019560" y="1219320"/>
              <a:ext cx="1295280" cy="685800"/>
            </a:xfrm>
            <a:prstGeom prst="rect">
              <a:avLst/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9560" y="3657600"/>
              <a:ext cx="1295280" cy="762120"/>
            </a:xfrm>
            <a:prstGeom prst="rect">
              <a:avLst/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200400" y="251460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5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24480" y="44956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2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952880" y="41148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6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5410080" y="4038480"/>
            <a:ext cx="45720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5257800" y="38095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191120" y="373392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2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696080" y="408924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6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7696080" y="3733920"/>
            <a:ext cx="15264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7391520" y="4114800"/>
            <a:ext cx="30456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4495680"/>
            <a:ext cx="586728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133a0"/>
                </a:solidFill>
                <a:latin typeface="Comic Sans MS"/>
              </a:rPr>
              <a:t>Area of top or Bottom: 15 x 12 = 1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Area of front or back:  12 x 6 = 7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133a0"/>
                </a:solidFill>
                <a:latin typeface="Comic Sans MS"/>
              </a:rPr>
              <a:t>Area of either side:  15 x 6 = 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80 + 180 + 72 + 72 + 90 + 90 =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84 square centi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401920" y="1812960"/>
            <a:ext cx="135000" cy="98280"/>
          </a:xfrm>
          <a:custGeom>
            <a:avLst/>
            <a:gdLst/>
            <a:ahLst/>
            <a:rect l="l" t="t" r="r" b="b"/>
            <a:pathLst>
              <a:path w="374" h="274">
                <a:moveTo>
                  <a:pt x="6672" y="5085"/>
                </a:moveTo>
                <a:cubicBezTo>
                  <a:pt x="6672" y="5159"/>
                  <a:pt x="6672" y="5234"/>
                  <a:pt x="6672" y="5308"/>
                </a:cubicBezTo>
              </a:path>
              <a:path w="374" h="274">
                <a:moveTo>
                  <a:pt x="6747" y="5060"/>
                </a:moveTo>
                <a:cubicBezTo>
                  <a:pt x="6825" y="5060"/>
                  <a:pt x="6925" y="5029"/>
                  <a:pt x="6995" y="5035"/>
                </a:cubicBezTo>
                <a:cubicBezTo>
                  <a:pt x="7012" y="5043"/>
                  <a:pt x="7028" y="5052"/>
                  <a:pt x="7045" y="5060"/>
                </a:cubicBezTo>
                <a:cubicBezTo>
                  <a:pt x="7040" y="5109"/>
                  <a:pt x="7000" y="5309"/>
                  <a:pt x="6896" y="5259"/>
                </a:cubicBezTo>
                <a:cubicBezTo>
                  <a:pt x="6879" y="5234"/>
                  <a:pt x="6863" y="5209"/>
                  <a:pt x="6846" y="5184"/>
                </a:cubicBezTo>
              </a:path>
            </a:pathLst>
          </a:custGeom>
          <a:noFill/>
          <a:ln cap="rnd" w="349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098800" y="2554200"/>
            <a:ext cx="5500440" cy="196920"/>
          </a:xfrm>
          <a:custGeom>
            <a:avLst/>
            <a:gdLst/>
            <a:ahLst/>
            <a:rect l="l" t="t" r="r" b="b"/>
            <a:pathLst>
              <a:path w="15281" h="547">
                <a:moveTo>
                  <a:pt x="18083" y="7640"/>
                </a:moveTo>
                <a:cubicBezTo>
                  <a:pt x="18263" y="7543"/>
                  <a:pt x="18440" y="7471"/>
                  <a:pt x="18628" y="7392"/>
                </a:cubicBezTo>
              </a:path>
              <a:path w="15281" h="547">
                <a:moveTo>
                  <a:pt x="5829" y="7640"/>
                </a:moveTo>
                <a:cubicBezTo>
                  <a:pt x="5854" y="7640"/>
                  <a:pt x="5862" y="7640"/>
                  <a:pt x="5854" y="7615"/>
                </a:cubicBezTo>
              </a:path>
              <a:path w="15281" h="547">
                <a:moveTo>
                  <a:pt x="15528" y="7392"/>
                </a:moveTo>
                <a:lnTo>
                  <a:pt x="15528" y="7392"/>
                </a:lnTo>
                <a:lnTo>
                  <a:pt x="15528" y="7392"/>
                </a:lnTo>
              </a:path>
              <a:path w="15281" h="547">
                <a:moveTo>
                  <a:pt x="15528" y="7392"/>
                </a:moveTo>
                <a:lnTo>
                  <a:pt x="15528" y="7392"/>
                </a:lnTo>
              </a:path>
              <a:path w="15281" h="547">
                <a:moveTo>
                  <a:pt x="21109" y="7119"/>
                </a:moveTo>
                <a:cubicBezTo>
                  <a:pt x="21109" y="7111"/>
                  <a:pt x="21109" y="7102"/>
                  <a:pt x="21109" y="7094"/>
                </a:cubicBezTo>
              </a:path>
              <a:path w="15281" h="547">
                <a:moveTo>
                  <a:pt x="21109" y="7094"/>
                </a:moveTo>
                <a:lnTo>
                  <a:pt x="21109" y="7094"/>
                </a:lnTo>
              </a:path>
            </a:pathLst>
          </a:custGeom>
          <a:noFill/>
          <a:ln cap="rnd" w="349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77920" y="1490760"/>
            <a:ext cx="385920" cy="750960"/>
          </a:xfrm>
          <a:custGeom>
            <a:avLst/>
            <a:gdLst/>
            <a:ahLst/>
            <a:rect l="l" t="t" r="r" b="b"/>
            <a:pathLst>
              <a:path w="1068" h="2085">
                <a:moveTo>
                  <a:pt x="3820" y="4291"/>
                </a:moveTo>
                <a:cubicBezTo>
                  <a:pt x="3820" y="4266"/>
                  <a:pt x="3820" y="4258"/>
                  <a:pt x="3820" y="4242"/>
                </a:cubicBezTo>
                <a:cubicBezTo>
                  <a:pt x="3820" y="4174"/>
                  <a:pt x="3844" y="4363"/>
                  <a:pt x="3845" y="4366"/>
                </a:cubicBezTo>
                <a:cubicBezTo>
                  <a:pt x="3845" y="4390"/>
                  <a:pt x="3845" y="4398"/>
                  <a:pt x="3870" y="4390"/>
                </a:cubicBezTo>
              </a:path>
              <a:path w="1068" h="2085">
                <a:moveTo>
                  <a:pt x="4018" y="4192"/>
                </a:moveTo>
                <a:cubicBezTo>
                  <a:pt x="4059" y="4165"/>
                  <a:pt x="4092" y="4151"/>
                  <a:pt x="4142" y="4142"/>
                </a:cubicBezTo>
                <a:cubicBezTo>
                  <a:pt x="4156" y="4261"/>
                  <a:pt x="4172" y="4341"/>
                  <a:pt x="4093" y="4440"/>
                </a:cubicBezTo>
                <a:cubicBezTo>
                  <a:pt x="4154" y="4440"/>
                  <a:pt x="4185" y="4408"/>
                  <a:pt x="4242" y="4390"/>
                </a:cubicBezTo>
                <a:cubicBezTo>
                  <a:pt x="4279" y="4378"/>
                  <a:pt x="4298" y="4366"/>
                  <a:pt x="4341" y="4366"/>
                </a:cubicBezTo>
              </a:path>
              <a:path w="1068" h="2085">
                <a:moveTo>
                  <a:pt x="3274" y="5928"/>
                </a:moveTo>
                <a:cubicBezTo>
                  <a:pt x="3291" y="6014"/>
                  <a:pt x="3329" y="6152"/>
                  <a:pt x="3373" y="6226"/>
                </a:cubicBezTo>
                <a:cubicBezTo>
                  <a:pt x="3381" y="6226"/>
                  <a:pt x="3390" y="6226"/>
                  <a:pt x="3398" y="6226"/>
                </a:cubicBezTo>
              </a:path>
              <a:path w="1068" h="2085">
                <a:moveTo>
                  <a:pt x="3473" y="5928"/>
                </a:moveTo>
                <a:cubicBezTo>
                  <a:pt x="3556" y="5904"/>
                  <a:pt x="3607" y="5879"/>
                  <a:pt x="3696" y="5879"/>
                </a:cubicBezTo>
                <a:cubicBezTo>
                  <a:pt x="3689" y="6018"/>
                  <a:pt x="3679" y="6102"/>
                  <a:pt x="3621" y="6226"/>
                </a:cubicBezTo>
                <a:cubicBezTo>
                  <a:pt x="3711" y="6213"/>
                  <a:pt x="3786" y="6176"/>
                  <a:pt x="3870" y="6152"/>
                </a:cubicBezTo>
              </a:path>
            </a:pathLst>
          </a:custGeom>
          <a:noFill/>
          <a:ln cap="rnd" w="349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7960" y="1919160"/>
            <a:ext cx="100080" cy="144720"/>
          </a:xfrm>
          <a:custGeom>
            <a:avLst/>
            <a:gdLst/>
            <a:ahLst/>
            <a:rect l="l" t="t" r="r" b="b"/>
            <a:pathLst>
              <a:path w="274" h="398">
                <a:moveTo>
                  <a:pt x="4688" y="5358"/>
                </a:moveTo>
                <a:cubicBezTo>
                  <a:pt x="4688" y="5280"/>
                  <a:pt x="4665" y="5453"/>
                  <a:pt x="4663" y="5531"/>
                </a:cubicBezTo>
                <a:cubicBezTo>
                  <a:pt x="4661" y="5622"/>
                  <a:pt x="4649" y="5665"/>
                  <a:pt x="4688" y="5730"/>
                </a:cubicBezTo>
                <a:cubicBezTo>
                  <a:pt x="4770" y="5720"/>
                  <a:pt x="4853" y="5671"/>
                  <a:pt x="4911" y="5606"/>
                </a:cubicBezTo>
                <a:cubicBezTo>
                  <a:pt x="4919" y="5589"/>
                  <a:pt x="4928" y="5573"/>
                  <a:pt x="4936" y="5556"/>
                </a:cubicBezTo>
                <a:cubicBezTo>
                  <a:pt x="4931" y="5541"/>
                  <a:pt x="4868" y="5479"/>
                  <a:pt x="4837" y="5507"/>
                </a:cubicBezTo>
                <a:cubicBezTo>
                  <a:pt x="4778" y="5560"/>
                  <a:pt x="4806" y="5678"/>
                  <a:pt x="4837" y="5730"/>
                </a:cubicBezTo>
              </a:path>
            </a:pathLst>
          </a:custGeom>
          <a:noFill/>
          <a:ln cap="rnd" w="349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463840" y="1704960"/>
            <a:ext cx="73080" cy="108000"/>
          </a:xfrm>
          <a:custGeom>
            <a:avLst/>
            <a:gdLst/>
            <a:ahLst/>
            <a:rect l="l" t="t" r="r" b="b"/>
            <a:pathLst>
              <a:path w="200" h="298">
                <a:moveTo>
                  <a:pt x="6846" y="5035"/>
                </a:moveTo>
                <a:cubicBezTo>
                  <a:pt x="6917" y="4923"/>
                  <a:pt x="7022" y="4850"/>
                  <a:pt x="7045" y="4738"/>
                </a:cubicBezTo>
              </a:path>
            </a:pathLst>
          </a:custGeom>
          <a:noFill/>
          <a:ln cap="rnd" w="349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714760" y="1465200"/>
            <a:ext cx="107640" cy="106560"/>
          </a:xfrm>
          <a:custGeom>
            <a:avLst/>
            <a:gdLst/>
            <a:ahLst/>
            <a:rect l="l" t="t" r="r" b="b"/>
            <a:pathLst>
              <a:path w="298" h="299">
                <a:moveTo>
                  <a:pt x="7541" y="4068"/>
                </a:moveTo>
                <a:cubicBezTo>
                  <a:pt x="7541" y="4142"/>
                  <a:pt x="7515" y="4229"/>
                  <a:pt x="7565" y="4291"/>
                </a:cubicBezTo>
                <a:cubicBezTo>
                  <a:pt x="7656" y="4403"/>
                  <a:pt x="7797" y="4238"/>
                  <a:pt x="7838" y="4167"/>
                </a:cubicBezTo>
                <a:cubicBezTo>
                  <a:pt x="7838" y="4159"/>
                  <a:pt x="7838" y="4150"/>
                  <a:pt x="7838" y="4142"/>
                </a:cubicBezTo>
                <a:cubicBezTo>
                  <a:pt x="7719" y="4142"/>
                  <a:pt x="7730" y="4162"/>
                  <a:pt x="7714" y="4291"/>
                </a:cubicBezTo>
                <a:cubicBezTo>
                  <a:pt x="7714" y="4333"/>
                  <a:pt x="7714" y="4341"/>
                  <a:pt x="7714" y="4366"/>
                </a:cubicBezTo>
              </a:path>
            </a:pathLst>
          </a:custGeom>
          <a:noFill/>
          <a:ln cap="rnd" w="349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661080" y="2527200"/>
            <a:ext cx="500040" cy="179640"/>
          </a:xfrm>
          <a:custGeom>
            <a:avLst/>
            <a:gdLst/>
            <a:ahLst/>
            <a:rect l="l" t="t" r="r" b="b"/>
            <a:pathLst>
              <a:path w="1390" h="497">
                <a:moveTo>
                  <a:pt x="18653" y="7218"/>
                </a:moveTo>
                <a:cubicBezTo>
                  <a:pt x="18738" y="7292"/>
                  <a:pt x="18749" y="7412"/>
                  <a:pt x="18827" y="7491"/>
                </a:cubicBezTo>
                <a:cubicBezTo>
                  <a:pt x="18928" y="7593"/>
                  <a:pt x="19011" y="7463"/>
                  <a:pt x="19050" y="7392"/>
                </a:cubicBezTo>
              </a:path>
              <a:path w="1390" h="497">
                <a:moveTo>
                  <a:pt x="18504" y="7441"/>
                </a:moveTo>
                <a:cubicBezTo>
                  <a:pt x="18664" y="7378"/>
                  <a:pt x="18813" y="7315"/>
                  <a:pt x="18976" y="7268"/>
                </a:cubicBezTo>
              </a:path>
              <a:path w="1390" h="497">
                <a:moveTo>
                  <a:pt x="19100" y="7218"/>
                </a:moveTo>
                <a:cubicBezTo>
                  <a:pt x="19057" y="7282"/>
                  <a:pt x="19046" y="7339"/>
                  <a:pt x="19025" y="7417"/>
                </a:cubicBezTo>
                <a:cubicBezTo>
                  <a:pt x="19175" y="7484"/>
                  <a:pt x="19239" y="7436"/>
                  <a:pt x="19323" y="7293"/>
                </a:cubicBezTo>
                <a:cubicBezTo>
                  <a:pt x="19240" y="7229"/>
                  <a:pt x="19197" y="7207"/>
                  <a:pt x="19100" y="7169"/>
                </a:cubicBezTo>
              </a:path>
              <a:path w="1390" h="497">
                <a:moveTo>
                  <a:pt x="19372" y="7193"/>
                </a:moveTo>
                <a:cubicBezTo>
                  <a:pt x="19392" y="7234"/>
                  <a:pt x="19401" y="7240"/>
                  <a:pt x="19397" y="7268"/>
                </a:cubicBezTo>
                <a:cubicBezTo>
                  <a:pt x="19385" y="7198"/>
                  <a:pt x="19343" y="7128"/>
                  <a:pt x="19422" y="7094"/>
                </a:cubicBezTo>
                <a:cubicBezTo>
                  <a:pt x="19515" y="7054"/>
                  <a:pt x="19510" y="7083"/>
                  <a:pt x="19571" y="7144"/>
                </a:cubicBezTo>
                <a:cubicBezTo>
                  <a:pt x="19634" y="7068"/>
                  <a:pt x="19650" y="6973"/>
                  <a:pt x="19769" y="7045"/>
                </a:cubicBezTo>
                <a:cubicBezTo>
                  <a:pt x="19833" y="7084"/>
                  <a:pt x="19872" y="7154"/>
                  <a:pt x="19893" y="7218"/>
                </a:cubicBezTo>
              </a:path>
            </a:pathLst>
          </a:custGeom>
          <a:noFill/>
          <a:ln cap="rnd" w="349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412040" y="2500200"/>
            <a:ext cx="438120" cy="438120"/>
          </a:xfrm>
          <a:custGeom>
            <a:avLst/>
            <a:gdLst/>
            <a:ahLst/>
            <a:rect l="l" t="t" r="r" b="b"/>
            <a:pathLst>
              <a:path w="1216" h="1217">
                <a:moveTo>
                  <a:pt x="20786" y="7193"/>
                </a:moveTo>
                <a:cubicBezTo>
                  <a:pt x="20671" y="7184"/>
                  <a:pt x="20619" y="7197"/>
                  <a:pt x="20588" y="7317"/>
                </a:cubicBezTo>
                <a:cubicBezTo>
                  <a:pt x="20701" y="7323"/>
                  <a:pt x="20800" y="7337"/>
                  <a:pt x="20910" y="7367"/>
                </a:cubicBezTo>
                <a:cubicBezTo>
                  <a:pt x="20882" y="7463"/>
                  <a:pt x="20802" y="7605"/>
                  <a:pt x="20662" y="7541"/>
                </a:cubicBezTo>
                <a:cubicBezTo>
                  <a:pt x="20638" y="7491"/>
                  <a:pt x="20630" y="7474"/>
                  <a:pt x="20662" y="7441"/>
                </a:cubicBezTo>
              </a:path>
              <a:path w="1216" h="1217">
                <a:moveTo>
                  <a:pt x="21084" y="7243"/>
                </a:moveTo>
                <a:cubicBezTo>
                  <a:pt x="21126" y="7338"/>
                  <a:pt x="21158" y="7491"/>
                  <a:pt x="21158" y="7491"/>
                </a:cubicBezTo>
              </a:path>
              <a:path w="1216" h="1217">
                <a:moveTo>
                  <a:pt x="21481" y="7218"/>
                </a:moveTo>
                <a:cubicBezTo>
                  <a:pt x="21436" y="7151"/>
                  <a:pt x="21286" y="7182"/>
                  <a:pt x="21258" y="7293"/>
                </a:cubicBezTo>
                <a:cubicBezTo>
                  <a:pt x="21281" y="7388"/>
                  <a:pt x="21286" y="7419"/>
                  <a:pt x="21357" y="7441"/>
                </a:cubicBezTo>
                <a:cubicBezTo>
                  <a:pt x="21479" y="7356"/>
                  <a:pt x="21453" y="7319"/>
                  <a:pt x="21481" y="7144"/>
                </a:cubicBezTo>
              </a:path>
              <a:path w="1216" h="1217">
                <a:moveTo>
                  <a:pt x="21406" y="6970"/>
                </a:moveTo>
                <a:cubicBezTo>
                  <a:pt x="21435" y="6941"/>
                  <a:pt x="21536" y="7221"/>
                  <a:pt x="21555" y="7293"/>
                </a:cubicBezTo>
                <a:cubicBezTo>
                  <a:pt x="21555" y="7309"/>
                  <a:pt x="21555" y="7326"/>
                  <a:pt x="21555" y="7342"/>
                </a:cubicBezTo>
              </a:path>
              <a:path w="1216" h="1217">
                <a:moveTo>
                  <a:pt x="21654" y="7144"/>
                </a:moveTo>
                <a:cubicBezTo>
                  <a:pt x="21695" y="7110"/>
                  <a:pt x="21738" y="7079"/>
                  <a:pt x="21779" y="7045"/>
                </a:cubicBezTo>
                <a:cubicBezTo>
                  <a:pt x="21692" y="7045"/>
                  <a:pt x="21563" y="7089"/>
                  <a:pt x="21630" y="7218"/>
                </a:cubicBezTo>
                <a:cubicBezTo>
                  <a:pt x="21667" y="7289"/>
                  <a:pt x="21758" y="7283"/>
                  <a:pt x="21803" y="7268"/>
                </a:cubicBezTo>
              </a:path>
              <a:path w="1216" h="1217">
                <a:moveTo>
                  <a:pt x="21059" y="7838"/>
                </a:moveTo>
                <a:cubicBezTo>
                  <a:pt x="21112" y="7734"/>
                  <a:pt x="21149" y="7710"/>
                  <a:pt x="21258" y="7665"/>
                </a:cubicBezTo>
                <a:cubicBezTo>
                  <a:pt x="21325" y="7783"/>
                  <a:pt x="21302" y="7890"/>
                  <a:pt x="21233" y="8012"/>
                </a:cubicBezTo>
                <a:cubicBezTo>
                  <a:pt x="21169" y="8097"/>
                  <a:pt x="21157" y="8117"/>
                  <a:pt x="21109" y="8161"/>
                </a:cubicBezTo>
                <a:cubicBezTo>
                  <a:pt x="21141" y="8138"/>
                  <a:pt x="21232" y="8035"/>
                  <a:pt x="21282" y="8062"/>
                </a:cubicBezTo>
                <a:cubicBezTo>
                  <a:pt x="21372" y="8111"/>
                  <a:pt x="21469" y="8041"/>
                  <a:pt x="21555" y="7987"/>
                </a:cubicBezTo>
                <a:cubicBezTo>
                  <a:pt x="21593" y="7964"/>
                  <a:pt x="21584" y="7962"/>
                  <a:pt x="21630" y="7962"/>
                </a:cubicBezTo>
              </a:path>
            </a:pathLst>
          </a:custGeom>
          <a:noFill/>
          <a:ln cap="rnd" w="349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170080" y="1241280"/>
            <a:ext cx="135000" cy="214560"/>
          </a:xfrm>
          <a:custGeom>
            <a:avLst/>
            <a:gdLst/>
            <a:ahLst/>
            <a:rect l="l" t="t" r="r" b="b"/>
            <a:pathLst>
              <a:path w="373" h="596">
                <a:moveTo>
                  <a:pt x="6028" y="3746"/>
                </a:moveTo>
                <a:cubicBezTo>
                  <a:pt x="6045" y="3798"/>
                  <a:pt x="6067" y="3909"/>
                  <a:pt x="6077" y="3994"/>
                </a:cubicBezTo>
                <a:cubicBezTo>
                  <a:pt x="6077" y="4010"/>
                  <a:pt x="6077" y="4027"/>
                  <a:pt x="6077" y="4043"/>
                </a:cubicBezTo>
              </a:path>
              <a:path w="373" h="596">
                <a:moveTo>
                  <a:pt x="6201" y="3671"/>
                </a:moveTo>
                <a:cubicBezTo>
                  <a:pt x="6156" y="3686"/>
                  <a:pt x="6174" y="3710"/>
                  <a:pt x="6201" y="3746"/>
                </a:cubicBezTo>
                <a:cubicBezTo>
                  <a:pt x="6238" y="3733"/>
                  <a:pt x="6364" y="3638"/>
                  <a:pt x="6375" y="3721"/>
                </a:cubicBezTo>
                <a:cubicBezTo>
                  <a:pt x="6389" y="3830"/>
                  <a:pt x="6364" y="3847"/>
                  <a:pt x="6300" y="3919"/>
                </a:cubicBezTo>
              </a:path>
              <a:path w="373" h="596">
                <a:moveTo>
                  <a:pt x="6201" y="3646"/>
                </a:moveTo>
                <a:cubicBezTo>
                  <a:pt x="6250" y="3560"/>
                  <a:pt x="6326" y="3530"/>
                  <a:pt x="6375" y="3473"/>
                </a:cubicBezTo>
                <a:cubicBezTo>
                  <a:pt x="6375" y="3448"/>
                  <a:pt x="6375" y="3440"/>
                  <a:pt x="6400" y="3448"/>
                </a:cubicBezTo>
              </a:path>
            </a:pathLst>
          </a:custGeom>
          <a:noFill/>
          <a:ln cap="rnd" w="349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37080" y="2705040"/>
            <a:ext cx="285840" cy="169920"/>
          </a:xfrm>
          <a:custGeom>
            <a:avLst/>
            <a:gdLst/>
            <a:ahLst/>
            <a:rect l="l" t="t" r="r" b="b"/>
            <a:pathLst>
              <a:path w="795" h="472">
                <a:moveTo>
                  <a:pt x="12601" y="7516"/>
                </a:moveTo>
                <a:cubicBezTo>
                  <a:pt x="12656" y="7643"/>
                  <a:pt x="12659" y="7799"/>
                  <a:pt x="12675" y="7938"/>
                </a:cubicBezTo>
                <a:cubicBezTo>
                  <a:pt x="12675" y="7954"/>
                  <a:pt x="12675" y="7971"/>
                  <a:pt x="12675" y="7987"/>
                </a:cubicBezTo>
              </a:path>
              <a:path w="795" h="472">
                <a:moveTo>
                  <a:pt x="12948" y="7565"/>
                </a:moveTo>
                <a:cubicBezTo>
                  <a:pt x="12927" y="7649"/>
                  <a:pt x="12905" y="7741"/>
                  <a:pt x="12898" y="7838"/>
                </a:cubicBezTo>
                <a:cubicBezTo>
                  <a:pt x="13007" y="7822"/>
                  <a:pt x="13177" y="7767"/>
                  <a:pt x="13122" y="7615"/>
                </a:cubicBezTo>
                <a:cubicBezTo>
                  <a:pt x="13084" y="7510"/>
                  <a:pt x="13010" y="7535"/>
                  <a:pt x="12948" y="7565"/>
                </a:cubicBezTo>
              </a:path>
              <a:path w="795" h="472">
                <a:moveTo>
                  <a:pt x="13246" y="7640"/>
                </a:moveTo>
                <a:cubicBezTo>
                  <a:pt x="13281" y="7727"/>
                  <a:pt x="13317" y="7918"/>
                  <a:pt x="13370" y="7987"/>
                </a:cubicBezTo>
                <a:cubicBezTo>
                  <a:pt x="13378" y="7987"/>
                  <a:pt x="13387" y="7987"/>
                  <a:pt x="13395" y="7987"/>
                </a:cubicBezTo>
              </a:path>
            </a:pathLst>
          </a:custGeom>
          <a:noFill/>
          <a:ln cap="rnd" w="349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402080" y="2652840"/>
            <a:ext cx="465120" cy="133200"/>
          </a:xfrm>
          <a:custGeom>
            <a:avLst/>
            <a:gdLst/>
            <a:ahLst/>
            <a:rect l="l" t="t" r="r" b="b"/>
            <a:pathLst>
              <a:path w="1291" h="373">
                <a:moveTo>
                  <a:pt x="12229" y="7714"/>
                </a:moveTo>
                <a:cubicBezTo>
                  <a:pt x="12406" y="7560"/>
                  <a:pt x="12567" y="7433"/>
                  <a:pt x="12799" y="7367"/>
                </a:cubicBezTo>
                <a:cubicBezTo>
                  <a:pt x="12807" y="7367"/>
                  <a:pt x="12816" y="7367"/>
                  <a:pt x="12824" y="7367"/>
                </a:cubicBezTo>
              </a:path>
              <a:path w="1291" h="373">
                <a:moveTo>
                  <a:pt x="13171" y="7516"/>
                </a:moveTo>
                <a:cubicBezTo>
                  <a:pt x="13236" y="7483"/>
                  <a:pt x="13532" y="7333"/>
                  <a:pt x="13519" y="7516"/>
                </a:cubicBezTo>
                <a:cubicBezTo>
                  <a:pt x="13512" y="7611"/>
                  <a:pt x="13409" y="7689"/>
                  <a:pt x="13345" y="7739"/>
                </a:cubicBezTo>
              </a:path>
            </a:pathLst>
          </a:custGeom>
          <a:noFill/>
          <a:ln cap="rnd" w="349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276960" y="2633760"/>
            <a:ext cx="474840" cy="241200"/>
          </a:xfrm>
          <a:custGeom>
            <a:avLst/>
            <a:gdLst/>
            <a:ahLst/>
            <a:rect l="l" t="t" r="r" b="b"/>
            <a:pathLst>
              <a:path w="1315" h="671">
                <a:moveTo>
                  <a:pt x="17537" y="7541"/>
                </a:moveTo>
                <a:cubicBezTo>
                  <a:pt x="17590" y="7679"/>
                  <a:pt x="17635" y="7822"/>
                  <a:pt x="17686" y="7962"/>
                </a:cubicBezTo>
              </a:path>
              <a:path w="1315" h="671">
                <a:moveTo>
                  <a:pt x="17438" y="7565"/>
                </a:moveTo>
                <a:cubicBezTo>
                  <a:pt x="17522" y="7500"/>
                  <a:pt x="17755" y="7304"/>
                  <a:pt x="17859" y="7466"/>
                </a:cubicBezTo>
                <a:cubicBezTo>
                  <a:pt x="17930" y="7576"/>
                  <a:pt x="17771" y="7683"/>
                  <a:pt x="17711" y="7739"/>
                </a:cubicBezTo>
                <a:cubicBezTo>
                  <a:pt x="17837" y="7611"/>
                  <a:pt x="18106" y="7642"/>
                  <a:pt x="17959" y="7863"/>
                </a:cubicBezTo>
                <a:cubicBezTo>
                  <a:pt x="17890" y="7967"/>
                  <a:pt x="17795" y="7972"/>
                  <a:pt x="17686" y="7987"/>
                </a:cubicBezTo>
              </a:path>
              <a:path w="1315" h="671">
                <a:moveTo>
                  <a:pt x="18182" y="7565"/>
                </a:moveTo>
                <a:cubicBezTo>
                  <a:pt x="18126" y="7694"/>
                  <a:pt x="18126" y="7709"/>
                  <a:pt x="18182" y="7838"/>
                </a:cubicBezTo>
                <a:cubicBezTo>
                  <a:pt x="18271" y="7838"/>
                  <a:pt x="18505" y="7734"/>
                  <a:pt x="18355" y="7590"/>
                </a:cubicBezTo>
                <a:cubicBezTo>
                  <a:pt x="18247" y="7487"/>
                  <a:pt x="18203" y="7645"/>
                  <a:pt x="18182" y="7516"/>
                </a:cubicBezTo>
              </a:path>
              <a:path w="1315" h="671">
                <a:moveTo>
                  <a:pt x="18331" y="7317"/>
                </a:moveTo>
                <a:cubicBezTo>
                  <a:pt x="18405" y="7428"/>
                  <a:pt x="18466" y="7640"/>
                  <a:pt x="18579" y="7714"/>
                </a:cubicBezTo>
                <a:cubicBezTo>
                  <a:pt x="18678" y="7779"/>
                  <a:pt x="18703" y="7683"/>
                  <a:pt x="18752" y="7615"/>
                </a:cubicBezTo>
              </a:path>
            </a:pathLst>
          </a:custGeom>
          <a:noFill/>
          <a:ln cap="rnd" w="349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52840" y="4419720"/>
            <a:ext cx="1401480" cy="447480"/>
          </a:xfrm>
          <a:custGeom>
            <a:avLst/>
            <a:gdLst/>
            <a:ahLst/>
            <a:rect l="l" t="t" r="r" b="b"/>
            <a:pathLst>
              <a:path w="3895" h="1242">
                <a:moveTo>
                  <a:pt x="7367" y="13395"/>
                </a:moveTo>
                <a:cubicBezTo>
                  <a:pt x="7420" y="13401"/>
                  <a:pt x="7462" y="13417"/>
                  <a:pt x="7516" y="13419"/>
                </a:cubicBezTo>
                <a:cubicBezTo>
                  <a:pt x="7607" y="13423"/>
                  <a:pt x="7677" y="13465"/>
                  <a:pt x="7764" y="13469"/>
                </a:cubicBezTo>
                <a:cubicBezTo>
                  <a:pt x="7893" y="13475"/>
                  <a:pt x="8010" y="13457"/>
                  <a:pt x="8136" y="13444"/>
                </a:cubicBezTo>
                <a:cubicBezTo>
                  <a:pt x="8226" y="13435"/>
                  <a:pt x="8299" y="13409"/>
                  <a:pt x="8384" y="13395"/>
                </a:cubicBezTo>
                <a:cubicBezTo>
                  <a:pt x="8486" y="13378"/>
                  <a:pt x="8580" y="13339"/>
                  <a:pt x="8682" y="13320"/>
                </a:cubicBezTo>
                <a:cubicBezTo>
                  <a:pt x="8753" y="13307"/>
                  <a:pt x="8835" y="13313"/>
                  <a:pt x="8905" y="13295"/>
                </a:cubicBezTo>
                <a:cubicBezTo>
                  <a:pt x="8955" y="13282"/>
                  <a:pt x="9027" y="13239"/>
                  <a:pt x="9079" y="13246"/>
                </a:cubicBezTo>
                <a:cubicBezTo>
                  <a:pt x="9125" y="13252"/>
                  <a:pt x="9245" y="13267"/>
                  <a:pt x="9203" y="13246"/>
                </a:cubicBezTo>
                <a:cubicBezTo>
                  <a:pt x="9092" y="13191"/>
                  <a:pt x="8847" y="13249"/>
                  <a:pt x="8731" y="13271"/>
                </a:cubicBezTo>
                <a:cubicBezTo>
                  <a:pt x="8607" y="13294"/>
                  <a:pt x="8480" y="13297"/>
                  <a:pt x="8359" y="13320"/>
                </a:cubicBezTo>
                <a:cubicBezTo>
                  <a:pt x="8256" y="13339"/>
                  <a:pt x="8145" y="13364"/>
                  <a:pt x="8037" y="13345"/>
                </a:cubicBezTo>
                <a:cubicBezTo>
                  <a:pt x="7921" y="13324"/>
                  <a:pt x="7851" y="13340"/>
                  <a:pt x="7739" y="13345"/>
                </a:cubicBezTo>
                <a:cubicBezTo>
                  <a:pt x="7668" y="13348"/>
                  <a:pt x="7573" y="13370"/>
                  <a:pt x="7590" y="13320"/>
                </a:cubicBezTo>
              </a:path>
              <a:path w="3895" h="1242">
                <a:moveTo>
                  <a:pt x="9723" y="13419"/>
                </a:moveTo>
                <a:cubicBezTo>
                  <a:pt x="9872" y="13440"/>
                  <a:pt x="10016" y="13507"/>
                  <a:pt x="10170" y="13519"/>
                </a:cubicBezTo>
                <a:cubicBezTo>
                  <a:pt x="10369" y="13535"/>
                  <a:pt x="10604" y="13486"/>
                  <a:pt x="10790" y="13419"/>
                </a:cubicBezTo>
                <a:cubicBezTo>
                  <a:pt x="10902" y="13379"/>
                  <a:pt x="11087" y="13290"/>
                  <a:pt x="11162" y="13196"/>
                </a:cubicBezTo>
                <a:cubicBezTo>
                  <a:pt x="11248" y="13088"/>
                  <a:pt x="11297" y="12909"/>
                  <a:pt x="11261" y="12774"/>
                </a:cubicBezTo>
                <a:cubicBezTo>
                  <a:pt x="11216" y="12606"/>
                  <a:pt x="11095" y="12525"/>
                  <a:pt x="10964" y="12427"/>
                </a:cubicBezTo>
                <a:cubicBezTo>
                  <a:pt x="10807" y="12310"/>
                  <a:pt x="10711" y="12273"/>
                  <a:pt x="10517" y="12303"/>
                </a:cubicBezTo>
                <a:cubicBezTo>
                  <a:pt x="10300" y="12337"/>
                  <a:pt x="10064" y="12418"/>
                  <a:pt x="9872" y="12526"/>
                </a:cubicBezTo>
                <a:cubicBezTo>
                  <a:pt x="9742" y="12599"/>
                  <a:pt x="9671" y="12738"/>
                  <a:pt x="9624" y="12874"/>
                </a:cubicBezTo>
                <a:cubicBezTo>
                  <a:pt x="9567" y="13040"/>
                  <a:pt x="9587" y="13251"/>
                  <a:pt x="9723" y="13370"/>
                </a:cubicBezTo>
                <a:cubicBezTo>
                  <a:pt x="9799" y="13436"/>
                  <a:pt x="9858" y="13462"/>
                  <a:pt x="9947" y="13494"/>
                </a:cubicBezTo>
              </a:path>
            </a:pathLst>
          </a:custGeom>
          <a:noFill/>
          <a:ln cap="rnd" w="349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66840" y="5919840"/>
            <a:ext cx="963360" cy="339840"/>
          </a:xfrm>
          <a:custGeom>
            <a:avLst/>
            <a:gdLst/>
            <a:ahLst/>
            <a:rect l="l" t="t" r="r" b="b"/>
            <a:pathLst>
              <a:path w="2680" h="943">
                <a:moveTo>
                  <a:pt x="1017" y="16545"/>
                </a:moveTo>
                <a:cubicBezTo>
                  <a:pt x="1129" y="16545"/>
                  <a:pt x="1229" y="16530"/>
                  <a:pt x="1339" y="16520"/>
                </a:cubicBezTo>
                <a:cubicBezTo>
                  <a:pt x="1487" y="16506"/>
                  <a:pt x="1639" y="16507"/>
                  <a:pt x="1786" y="16495"/>
                </a:cubicBezTo>
                <a:cubicBezTo>
                  <a:pt x="1874" y="16488"/>
                  <a:pt x="2055" y="16436"/>
                  <a:pt x="2133" y="16446"/>
                </a:cubicBezTo>
                <a:cubicBezTo>
                  <a:pt x="2125" y="16454"/>
                  <a:pt x="2116" y="16462"/>
                  <a:pt x="2108" y="16470"/>
                </a:cubicBezTo>
                <a:cubicBezTo>
                  <a:pt x="1921" y="16479"/>
                  <a:pt x="1745" y="16508"/>
                  <a:pt x="1563" y="16495"/>
                </a:cubicBezTo>
                <a:cubicBezTo>
                  <a:pt x="1501" y="16491"/>
                  <a:pt x="1470" y="16499"/>
                  <a:pt x="1414" y="16520"/>
                </a:cubicBezTo>
              </a:path>
              <a:path w="2680" h="943">
                <a:moveTo>
                  <a:pt x="2803" y="16446"/>
                </a:moveTo>
                <a:cubicBezTo>
                  <a:pt x="3076" y="16457"/>
                  <a:pt x="3349" y="16478"/>
                  <a:pt x="3621" y="16495"/>
                </a:cubicBezTo>
                <a:cubicBezTo>
                  <a:pt x="3770" y="16504"/>
                  <a:pt x="3473" y="16495"/>
                  <a:pt x="3324" y="16495"/>
                </a:cubicBezTo>
                <a:cubicBezTo>
                  <a:pt x="3068" y="16495"/>
                  <a:pt x="2993" y="16495"/>
                  <a:pt x="2828" y="16495"/>
                </a:cubicBezTo>
                <a:cubicBezTo>
                  <a:pt x="2787" y="16495"/>
                  <a:pt x="2745" y="16495"/>
                  <a:pt x="2704" y="16495"/>
                </a:cubicBezTo>
                <a:cubicBezTo>
                  <a:pt x="2735" y="16495"/>
                  <a:pt x="3115" y="16475"/>
                  <a:pt x="3225" y="16470"/>
                </a:cubicBezTo>
                <a:cubicBezTo>
                  <a:pt x="3315" y="16466"/>
                  <a:pt x="3489" y="16427"/>
                  <a:pt x="3398" y="16495"/>
                </a:cubicBezTo>
              </a:path>
              <a:path w="2680" h="943">
                <a:moveTo>
                  <a:pt x="1290" y="16768"/>
                </a:moveTo>
                <a:cubicBezTo>
                  <a:pt x="1290" y="16917"/>
                  <a:pt x="1290" y="17065"/>
                  <a:pt x="1290" y="17214"/>
                </a:cubicBezTo>
              </a:path>
              <a:path w="2680" h="943">
                <a:moveTo>
                  <a:pt x="1017" y="17041"/>
                </a:moveTo>
                <a:cubicBezTo>
                  <a:pt x="1183" y="16996"/>
                  <a:pt x="1349" y="16957"/>
                  <a:pt x="1513" y="16917"/>
                </a:cubicBezTo>
                <a:cubicBezTo>
                  <a:pt x="1463" y="16917"/>
                  <a:pt x="1414" y="16917"/>
                  <a:pt x="1364" y="16917"/>
                </a:cubicBezTo>
              </a:path>
              <a:path w="2680" h="943">
                <a:moveTo>
                  <a:pt x="2952" y="16793"/>
                </a:moveTo>
                <a:cubicBezTo>
                  <a:pt x="2952" y="16684"/>
                  <a:pt x="2992" y="16957"/>
                  <a:pt x="3001" y="17066"/>
                </a:cubicBezTo>
                <a:cubicBezTo>
                  <a:pt x="3016" y="17238"/>
                  <a:pt x="3009" y="17178"/>
                  <a:pt x="2977" y="17090"/>
                </a:cubicBezTo>
              </a:path>
              <a:path w="2680" h="943">
                <a:moveTo>
                  <a:pt x="2853" y="16743"/>
                </a:moveTo>
                <a:cubicBezTo>
                  <a:pt x="2957" y="16628"/>
                  <a:pt x="3075" y="16549"/>
                  <a:pt x="3225" y="16669"/>
                </a:cubicBezTo>
                <a:cubicBezTo>
                  <a:pt x="3302" y="16731"/>
                  <a:pt x="3143" y="16824"/>
                  <a:pt x="3101" y="16867"/>
                </a:cubicBezTo>
                <a:cubicBezTo>
                  <a:pt x="3233" y="16874"/>
                  <a:pt x="3291" y="16873"/>
                  <a:pt x="3398" y="16942"/>
                </a:cubicBezTo>
                <a:cubicBezTo>
                  <a:pt x="3306" y="17099"/>
                  <a:pt x="3209" y="17124"/>
                  <a:pt x="3026" y="17140"/>
                </a:cubicBezTo>
                <a:cubicBezTo>
                  <a:pt x="2998" y="17140"/>
                  <a:pt x="2992" y="17142"/>
                  <a:pt x="3026" y="17165"/>
                </a:cubicBezTo>
              </a:path>
              <a:path w="2680" h="943">
                <a:moveTo>
                  <a:pt x="1215" y="16594"/>
                </a:moveTo>
                <a:cubicBezTo>
                  <a:pt x="1237" y="16681"/>
                  <a:pt x="1240" y="16765"/>
                  <a:pt x="1240" y="16867"/>
                </a:cubicBezTo>
                <a:cubicBezTo>
                  <a:pt x="1240" y="16981"/>
                  <a:pt x="1163" y="17403"/>
                  <a:pt x="1339" y="17388"/>
                </a:cubicBezTo>
                <a:cubicBezTo>
                  <a:pt x="1380" y="17371"/>
                  <a:pt x="1422" y="17355"/>
                  <a:pt x="1463" y="17338"/>
                </a:cubicBezTo>
              </a:path>
            </a:pathLst>
          </a:custGeom>
          <a:noFill/>
          <a:ln cap="rnd" w="349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912000" y="3919680"/>
            <a:ext cx="160200" cy="63360"/>
          </a:xfrm>
          <a:custGeom>
            <a:avLst/>
            <a:gdLst/>
            <a:ahLst/>
            <a:rect l="l" t="t" r="r" b="b"/>
            <a:pathLst>
              <a:path w="447" h="175">
                <a:moveTo>
                  <a:pt x="19199" y="11063"/>
                </a:moveTo>
                <a:cubicBezTo>
                  <a:pt x="19430" y="10971"/>
                  <a:pt x="19495" y="10944"/>
                  <a:pt x="19645" y="10889"/>
                </a:cubicBezTo>
              </a:path>
            </a:pathLst>
          </a:custGeom>
          <a:noFill/>
          <a:ln cap="rnd" w="349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10240" y="3884760"/>
            <a:ext cx="571680" cy="250560"/>
          </a:xfrm>
          <a:custGeom>
            <a:avLst/>
            <a:gdLst/>
            <a:ahLst/>
            <a:rect l="l" t="t" r="r" b="b"/>
            <a:pathLst>
              <a:path w="1588" h="696">
                <a:moveTo>
                  <a:pt x="18182" y="10964"/>
                </a:moveTo>
                <a:cubicBezTo>
                  <a:pt x="18182" y="10921"/>
                  <a:pt x="18182" y="11342"/>
                  <a:pt x="18182" y="11361"/>
                </a:cubicBezTo>
                <a:cubicBezTo>
                  <a:pt x="18182" y="11402"/>
                  <a:pt x="18182" y="11444"/>
                  <a:pt x="18182" y="11485"/>
                </a:cubicBezTo>
                <a:cubicBezTo>
                  <a:pt x="18149" y="11321"/>
                  <a:pt x="18117" y="11155"/>
                  <a:pt x="18107" y="10988"/>
                </a:cubicBezTo>
                <a:cubicBezTo>
                  <a:pt x="18107" y="10980"/>
                  <a:pt x="18107" y="10972"/>
                  <a:pt x="18107" y="10964"/>
                </a:cubicBezTo>
                <a:cubicBezTo>
                  <a:pt x="18181" y="10964"/>
                  <a:pt x="18290" y="10940"/>
                  <a:pt x="18355" y="10914"/>
                </a:cubicBezTo>
                <a:cubicBezTo>
                  <a:pt x="18456" y="10874"/>
                  <a:pt x="18514" y="10801"/>
                  <a:pt x="18579" y="10864"/>
                </a:cubicBezTo>
              </a:path>
              <a:path w="1588" h="696">
                <a:moveTo>
                  <a:pt x="18083" y="11336"/>
                </a:moveTo>
                <a:cubicBezTo>
                  <a:pt x="18220" y="11272"/>
                  <a:pt x="18362" y="11188"/>
                  <a:pt x="18504" y="11137"/>
                </a:cubicBezTo>
                <a:cubicBezTo>
                  <a:pt x="18512" y="11137"/>
                  <a:pt x="18521" y="11137"/>
                  <a:pt x="18529" y="11137"/>
                </a:cubicBezTo>
              </a:path>
              <a:path w="1588" h="696">
                <a:moveTo>
                  <a:pt x="18529" y="11311"/>
                </a:moveTo>
                <a:cubicBezTo>
                  <a:pt x="18550" y="11393"/>
                  <a:pt x="18558" y="11409"/>
                  <a:pt x="18554" y="11460"/>
                </a:cubicBezTo>
                <a:cubicBezTo>
                  <a:pt x="18577" y="11291"/>
                  <a:pt x="18616" y="11155"/>
                  <a:pt x="18777" y="11063"/>
                </a:cubicBezTo>
                <a:cubicBezTo>
                  <a:pt x="18802" y="11055"/>
                  <a:pt x="18827" y="11046"/>
                  <a:pt x="18852" y="11038"/>
                </a:cubicBezTo>
              </a:path>
              <a:path w="1588" h="696">
                <a:moveTo>
                  <a:pt x="18901" y="11063"/>
                </a:moveTo>
                <a:cubicBezTo>
                  <a:pt x="18808" y="11132"/>
                  <a:pt x="18821" y="11271"/>
                  <a:pt x="18827" y="11385"/>
                </a:cubicBezTo>
                <a:cubicBezTo>
                  <a:pt x="18956" y="11399"/>
                  <a:pt x="19094" y="11296"/>
                  <a:pt x="19000" y="11137"/>
                </a:cubicBezTo>
                <a:cubicBezTo>
                  <a:pt x="18929" y="11090"/>
                  <a:pt x="18908" y="11075"/>
                  <a:pt x="18852" y="11063"/>
                </a:cubicBezTo>
              </a:path>
              <a:path w="1588" h="696">
                <a:moveTo>
                  <a:pt x="19050" y="11162"/>
                </a:moveTo>
                <a:cubicBezTo>
                  <a:pt x="19072" y="11229"/>
                  <a:pt x="19084" y="11247"/>
                  <a:pt x="19050" y="11286"/>
                </a:cubicBezTo>
                <a:cubicBezTo>
                  <a:pt x="19050" y="11204"/>
                  <a:pt x="19024" y="11084"/>
                  <a:pt x="19075" y="11013"/>
                </a:cubicBezTo>
                <a:cubicBezTo>
                  <a:pt x="19091" y="11005"/>
                  <a:pt x="19108" y="10996"/>
                  <a:pt x="19124" y="10988"/>
                </a:cubicBezTo>
                <a:cubicBezTo>
                  <a:pt x="19241" y="11076"/>
                  <a:pt x="19207" y="11162"/>
                  <a:pt x="19273" y="11286"/>
                </a:cubicBezTo>
                <a:cubicBezTo>
                  <a:pt x="19329" y="11342"/>
                  <a:pt x="19357" y="11311"/>
                  <a:pt x="19372" y="11162"/>
                </a:cubicBezTo>
              </a:path>
              <a:path w="1588" h="696">
                <a:moveTo>
                  <a:pt x="19348" y="10790"/>
                </a:moveTo>
                <a:cubicBezTo>
                  <a:pt x="19402" y="10934"/>
                  <a:pt x="19410" y="11098"/>
                  <a:pt x="19472" y="11237"/>
                </a:cubicBezTo>
                <a:cubicBezTo>
                  <a:pt x="19526" y="11358"/>
                  <a:pt x="19656" y="11151"/>
                  <a:pt x="19670" y="11137"/>
                </a:cubicBezTo>
              </a:path>
            </a:pathLst>
          </a:custGeom>
          <a:noFill/>
          <a:ln cap="rnd" w="349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259680" y="1465200"/>
            <a:ext cx="661680" cy="266760"/>
          </a:xfrm>
          <a:custGeom>
            <a:avLst/>
            <a:gdLst/>
            <a:ahLst/>
            <a:rect l="l" t="t" r="r" b="b"/>
            <a:pathLst>
              <a:path w="1837" h="745">
                <a:moveTo>
                  <a:pt x="17611" y="4242"/>
                </a:moveTo>
                <a:cubicBezTo>
                  <a:pt x="17629" y="4382"/>
                  <a:pt x="17692" y="4548"/>
                  <a:pt x="17686" y="4688"/>
                </a:cubicBezTo>
                <a:cubicBezTo>
                  <a:pt x="17678" y="4688"/>
                  <a:pt x="17669" y="4688"/>
                  <a:pt x="17661" y="4688"/>
                </a:cubicBezTo>
              </a:path>
              <a:path w="1837" h="745">
                <a:moveTo>
                  <a:pt x="17388" y="4316"/>
                </a:moveTo>
                <a:cubicBezTo>
                  <a:pt x="17474" y="4273"/>
                  <a:pt x="17834" y="4057"/>
                  <a:pt x="17810" y="4316"/>
                </a:cubicBezTo>
                <a:cubicBezTo>
                  <a:pt x="17804" y="4376"/>
                  <a:pt x="17730" y="4458"/>
                  <a:pt x="17711" y="4514"/>
                </a:cubicBezTo>
                <a:cubicBezTo>
                  <a:pt x="17793" y="4442"/>
                  <a:pt x="18006" y="4397"/>
                  <a:pt x="17959" y="4614"/>
                </a:cubicBezTo>
                <a:cubicBezTo>
                  <a:pt x="17921" y="4789"/>
                  <a:pt x="17723" y="4876"/>
                  <a:pt x="17587" y="4762"/>
                </a:cubicBezTo>
                <a:cubicBezTo>
                  <a:pt x="17579" y="4746"/>
                  <a:pt x="17570" y="4729"/>
                  <a:pt x="17562" y="4713"/>
                </a:cubicBezTo>
              </a:path>
              <a:path w="1837" h="745">
                <a:moveTo>
                  <a:pt x="18256" y="4415"/>
                </a:moveTo>
                <a:cubicBezTo>
                  <a:pt x="18058" y="4475"/>
                  <a:pt x="18074" y="4577"/>
                  <a:pt x="18083" y="4762"/>
                </a:cubicBezTo>
                <a:cubicBezTo>
                  <a:pt x="18238" y="4750"/>
                  <a:pt x="18330" y="4651"/>
                  <a:pt x="18256" y="4465"/>
                </a:cubicBezTo>
                <a:cubicBezTo>
                  <a:pt x="18217" y="4366"/>
                  <a:pt x="18380" y="4589"/>
                  <a:pt x="18455" y="4514"/>
                </a:cubicBezTo>
              </a:path>
              <a:path w="1837" h="745">
                <a:moveTo>
                  <a:pt x="18579" y="4316"/>
                </a:moveTo>
                <a:cubicBezTo>
                  <a:pt x="18554" y="4299"/>
                  <a:pt x="18529" y="4283"/>
                  <a:pt x="18504" y="4266"/>
                </a:cubicBezTo>
                <a:cubicBezTo>
                  <a:pt x="18441" y="4336"/>
                  <a:pt x="18293" y="4561"/>
                  <a:pt x="18479" y="4614"/>
                </a:cubicBezTo>
                <a:cubicBezTo>
                  <a:pt x="18717" y="4682"/>
                  <a:pt x="18749" y="4471"/>
                  <a:pt x="18827" y="4316"/>
                </a:cubicBezTo>
              </a:path>
              <a:path w="1837" h="745">
                <a:moveTo>
                  <a:pt x="18728" y="4068"/>
                </a:moveTo>
                <a:cubicBezTo>
                  <a:pt x="18760" y="4223"/>
                  <a:pt x="18790" y="4400"/>
                  <a:pt x="18852" y="4539"/>
                </a:cubicBezTo>
              </a:path>
              <a:path w="1837" h="745">
                <a:moveTo>
                  <a:pt x="19050" y="4093"/>
                </a:moveTo>
                <a:cubicBezTo>
                  <a:pt x="19003" y="4144"/>
                  <a:pt x="18766" y="4349"/>
                  <a:pt x="18852" y="4440"/>
                </a:cubicBezTo>
                <a:cubicBezTo>
                  <a:pt x="18949" y="4543"/>
                  <a:pt x="19110" y="4481"/>
                  <a:pt x="19224" y="4465"/>
                </a:cubicBezTo>
              </a:path>
            </a:pathLst>
          </a:custGeom>
          <a:noFill/>
          <a:ln cap="rnd" w="349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17760" y="5911920"/>
            <a:ext cx="669960" cy="303120"/>
          </a:xfrm>
          <a:custGeom>
            <a:avLst/>
            <a:gdLst/>
            <a:ahLst/>
            <a:rect l="l" t="t" r="r" b="b"/>
            <a:pathLst>
              <a:path w="1861" h="844">
                <a:moveTo>
                  <a:pt x="4242" y="16644"/>
                </a:moveTo>
                <a:cubicBezTo>
                  <a:pt x="4159" y="16644"/>
                  <a:pt x="4357" y="16624"/>
                  <a:pt x="4440" y="16619"/>
                </a:cubicBezTo>
                <a:cubicBezTo>
                  <a:pt x="4565" y="16619"/>
                  <a:pt x="4593" y="16627"/>
                  <a:pt x="4663" y="16594"/>
                </a:cubicBezTo>
                <a:cubicBezTo>
                  <a:pt x="4524" y="16594"/>
                  <a:pt x="4375" y="16599"/>
                  <a:pt x="4242" y="16644"/>
                </a:cubicBezTo>
                <a:cubicBezTo>
                  <a:pt x="4200" y="16658"/>
                  <a:pt x="4537" y="16647"/>
                  <a:pt x="4614" y="16644"/>
                </a:cubicBezTo>
                <a:cubicBezTo>
                  <a:pt x="4642" y="16644"/>
                  <a:pt x="4652" y="16647"/>
                  <a:pt x="4663" y="16669"/>
                </a:cubicBezTo>
              </a:path>
              <a:path w="1861" h="844">
                <a:moveTo>
                  <a:pt x="4390" y="16966"/>
                </a:moveTo>
                <a:cubicBezTo>
                  <a:pt x="4404" y="17061"/>
                  <a:pt x="4433" y="17158"/>
                  <a:pt x="4440" y="17264"/>
                </a:cubicBezTo>
                <a:cubicBezTo>
                  <a:pt x="4440" y="17148"/>
                  <a:pt x="4440" y="17033"/>
                  <a:pt x="4440" y="16917"/>
                </a:cubicBezTo>
                <a:cubicBezTo>
                  <a:pt x="4565" y="16899"/>
                  <a:pt x="4684" y="16873"/>
                  <a:pt x="4812" y="16867"/>
                </a:cubicBezTo>
                <a:cubicBezTo>
                  <a:pt x="4837" y="16867"/>
                  <a:pt x="4845" y="16867"/>
                  <a:pt x="4862" y="16867"/>
                </a:cubicBezTo>
              </a:path>
              <a:path w="1861" h="844">
                <a:moveTo>
                  <a:pt x="4465" y="17140"/>
                </a:moveTo>
                <a:cubicBezTo>
                  <a:pt x="4571" y="17113"/>
                  <a:pt x="4679" y="17081"/>
                  <a:pt x="4787" y="17066"/>
                </a:cubicBezTo>
              </a:path>
              <a:path w="1861" h="844">
                <a:moveTo>
                  <a:pt x="5358" y="16446"/>
                </a:moveTo>
                <a:cubicBezTo>
                  <a:pt x="5493" y="16446"/>
                  <a:pt x="5621" y="16428"/>
                  <a:pt x="5755" y="16421"/>
                </a:cubicBezTo>
                <a:cubicBezTo>
                  <a:pt x="5861" y="16416"/>
                  <a:pt x="5971" y="16421"/>
                  <a:pt x="6077" y="16421"/>
                </a:cubicBezTo>
              </a:path>
              <a:path w="1861" h="844">
                <a:moveTo>
                  <a:pt x="5680" y="16818"/>
                </a:moveTo>
                <a:cubicBezTo>
                  <a:pt x="5688" y="16935"/>
                  <a:pt x="5705" y="17047"/>
                  <a:pt x="5705" y="17165"/>
                </a:cubicBezTo>
              </a:path>
              <a:path w="1861" h="844">
                <a:moveTo>
                  <a:pt x="5556" y="16768"/>
                </a:moveTo>
                <a:cubicBezTo>
                  <a:pt x="5681" y="16732"/>
                  <a:pt x="5825" y="16664"/>
                  <a:pt x="5928" y="16768"/>
                </a:cubicBezTo>
                <a:cubicBezTo>
                  <a:pt x="6006" y="16847"/>
                  <a:pt x="5875" y="16904"/>
                  <a:pt x="5829" y="16942"/>
                </a:cubicBezTo>
                <a:cubicBezTo>
                  <a:pt x="5821" y="16950"/>
                  <a:pt x="5812" y="16958"/>
                  <a:pt x="5804" y="16966"/>
                </a:cubicBezTo>
                <a:cubicBezTo>
                  <a:pt x="5903" y="16911"/>
                  <a:pt x="5953" y="16910"/>
                  <a:pt x="6052" y="16966"/>
                </a:cubicBezTo>
                <a:cubicBezTo>
                  <a:pt x="5995" y="17112"/>
                  <a:pt x="5951" y="17154"/>
                  <a:pt x="5804" y="17214"/>
                </a:cubicBezTo>
              </a:path>
            </a:pathLst>
          </a:custGeom>
          <a:noFill/>
          <a:ln cap="rnd" w="349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732040" y="4714920"/>
            <a:ext cx="1090800" cy="482400"/>
          </a:xfrm>
          <a:custGeom>
            <a:avLst/>
            <a:gdLst/>
            <a:ahLst/>
            <a:rect l="l" t="t" r="r" b="b"/>
            <a:pathLst>
              <a:path w="3027" h="1340">
                <a:moveTo>
                  <a:pt x="7590" y="14436"/>
                </a:moveTo>
                <a:cubicBezTo>
                  <a:pt x="7748" y="14414"/>
                  <a:pt x="7902" y="14423"/>
                  <a:pt x="8062" y="14412"/>
                </a:cubicBezTo>
                <a:cubicBezTo>
                  <a:pt x="8320" y="14394"/>
                  <a:pt x="8572" y="14343"/>
                  <a:pt x="8830" y="14337"/>
                </a:cubicBezTo>
                <a:cubicBezTo>
                  <a:pt x="8855" y="14337"/>
                  <a:pt x="8880" y="14337"/>
                  <a:pt x="8905" y="14337"/>
                </a:cubicBezTo>
              </a:path>
              <a:path w="3027" h="1340">
                <a:moveTo>
                  <a:pt x="9674" y="14238"/>
                </a:moveTo>
                <a:cubicBezTo>
                  <a:pt x="9703" y="14296"/>
                  <a:pt x="9713" y="14311"/>
                  <a:pt x="9773" y="14337"/>
                </a:cubicBezTo>
                <a:cubicBezTo>
                  <a:pt x="9916" y="14399"/>
                  <a:pt x="10059" y="14356"/>
                  <a:pt x="10195" y="14312"/>
                </a:cubicBezTo>
                <a:cubicBezTo>
                  <a:pt x="10324" y="14270"/>
                  <a:pt x="10525" y="14229"/>
                  <a:pt x="10592" y="14089"/>
                </a:cubicBezTo>
                <a:cubicBezTo>
                  <a:pt x="10648" y="13972"/>
                  <a:pt x="10620" y="13838"/>
                  <a:pt x="10542" y="13742"/>
                </a:cubicBezTo>
                <a:cubicBezTo>
                  <a:pt x="10435" y="13610"/>
                  <a:pt x="10225" y="13617"/>
                  <a:pt x="10071" y="13593"/>
                </a:cubicBezTo>
                <a:cubicBezTo>
                  <a:pt x="9931" y="13571"/>
                  <a:pt x="9782" y="13542"/>
                  <a:pt x="9649" y="13618"/>
                </a:cubicBezTo>
                <a:cubicBezTo>
                  <a:pt x="9497" y="13706"/>
                  <a:pt x="9403" y="13822"/>
                  <a:pt x="9351" y="13990"/>
                </a:cubicBezTo>
                <a:cubicBezTo>
                  <a:pt x="9309" y="14127"/>
                  <a:pt x="9370" y="14322"/>
                  <a:pt x="9525" y="14362"/>
                </a:cubicBezTo>
                <a:cubicBezTo>
                  <a:pt x="9613" y="14385"/>
                  <a:pt x="9711" y="14346"/>
                  <a:pt x="9798" y="14337"/>
                </a:cubicBezTo>
              </a:path>
              <a:path w="3027" h="1340">
                <a:moveTo>
                  <a:pt x="8434" y="13940"/>
                </a:moveTo>
                <a:cubicBezTo>
                  <a:pt x="8536" y="13940"/>
                  <a:pt x="8555" y="13924"/>
                  <a:pt x="8682" y="13891"/>
                </a:cubicBezTo>
              </a:path>
              <a:path w="3027" h="1340">
                <a:moveTo>
                  <a:pt x="9451" y="13097"/>
                </a:moveTo>
                <a:cubicBezTo>
                  <a:pt x="9605" y="13148"/>
                  <a:pt x="9661" y="13165"/>
                  <a:pt x="9773" y="13171"/>
                </a:cubicBezTo>
              </a:path>
            </a:pathLst>
          </a:custGeom>
          <a:noFill/>
          <a:ln cap="rnd" w="349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517760" y="6375240"/>
            <a:ext cx="214200" cy="196920"/>
          </a:xfrm>
          <a:custGeom>
            <a:avLst/>
            <a:gdLst/>
            <a:ahLst/>
            <a:rect l="l" t="t" r="r" b="b"/>
            <a:pathLst>
              <a:path w="596" h="546">
                <a:moveTo>
                  <a:pt x="4217" y="17785"/>
                </a:moveTo>
                <a:cubicBezTo>
                  <a:pt x="4303" y="17763"/>
                  <a:pt x="4412" y="17695"/>
                  <a:pt x="4514" y="17711"/>
                </a:cubicBezTo>
                <a:cubicBezTo>
                  <a:pt x="4722" y="17744"/>
                  <a:pt x="4491" y="18075"/>
                  <a:pt x="4440" y="18132"/>
                </a:cubicBezTo>
                <a:cubicBezTo>
                  <a:pt x="4365" y="18189"/>
                  <a:pt x="4353" y="18193"/>
                  <a:pt x="4316" y="18231"/>
                </a:cubicBezTo>
                <a:cubicBezTo>
                  <a:pt x="4454" y="18259"/>
                  <a:pt x="4595" y="18177"/>
                  <a:pt x="4738" y="18182"/>
                </a:cubicBezTo>
                <a:cubicBezTo>
                  <a:pt x="4781" y="18204"/>
                  <a:pt x="4793" y="18217"/>
                  <a:pt x="4812" y="18182"/>
                </a:cubicBezTo>
              </a:path>
            </a:pathLst>
          </a:custGeom>
          <a:noFill/>
          <a:ln cap="rnd" w="349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741320" y="6170760"/>
            <a:ext cx="1401840" cy="446040"/>
          </a:xfrm>
          <a:custGeom>
            <a:avLst/>
            <a:gdLst/>
            <a:ahLst/>
            <a:rect l="l" t="t" r="r" b="b"/>
            <a:pathLst>
              <a:path w="3895" h="1241">
                <a:moveTo>
                  <a:pt x="8458" y="17239"/>
                </a:moveTo>
                <a:cubicBezTo>
                  <a:pt x="8504" y="17224"/>
                  <a:pt x="8556" y="17157"/>
                  <a:pt x="8632" y="17140"/>
                </a:cubicBezTo>
                <a:cubicBezTo>
                  <a:pt x="8684" y="17140"/>
                  <a:pt x="8702" y="17141"/>
                  <a:pt x="8731" y="17165"/>
                </a:cubicBezTo>
              </a:path>
              <a:path w="3895" h="1241">
                <a:moveTo>
                  <a:pt x="5085" y="17388"/>
                </a:moveTo>
                <a:cubicBezTo>
                  <a:pt x="4938" y="17598"/>
                  <a:pt x="4844" y="17796"/>
                  <a:pt x="4837" y="18058"/>
                </a:cubicBezTo>
                <a:cubicBezTo>
                  <a:pt x="4831" y="18274"/>
                  <a:pt x="4925" y="18356"/>
                  <a:pt x="5110" y="18380"/>
                </a:cubicBezTo>
              </a:path>
              <a:path w="3895" h="1241">
                <a:moveTo>
                  <a:pt x="5085" y="17686"/>
                </a:moveTo>
                <a:cubicBezTo>
                  <a:pt x="5117" y="17862"/>
                  <a:pt x="5136" y="18030"/>
                  <a:pt x="5159" y="18207"/>
                </a:cubicBezTo>
              </a:path>
              <a:path w="3895" h="1241">
                <a:moveTo>
                  <a:pt x="5581" y="17661"/>
                </a:moveTo>
                <a:cubicBezTo>
                  <a:pt x="5496" y="17725"/>
                  <a:pt x="5422" y="17778"/>
                  <a:pt x="5358" y="17859"/>
                </a:cubicBezTo>
                <a:cubicBezTo>
                  <a:pt x="5516" y="17891"/>
                  <a:pt x="5703" y="17929"/>
                  <a:pt x="5631" y="18132"/>
                </a:cubicBezTo>
                <a:cubicBezTo>
                  <a:pt x="5586" y="18177"/>
                  <a:pt x="5576" y="18194"/>
                  <a:pt x="5531" y="18182"/>
                </a:cubicBezTo>
                <a:cubicBezTo>
                  <a:pt x="5545" y="18007"/>
                  <a:pt x="5543" y="17849"/>
                  <a:pt x="5680" y="17735"/>
                </a:cubicBezTo>
              </a:path>
            </a:pathLst>
          </a:custGeom>
          <a:noFill/>
          <a:ln cap="rnd" w="349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90840" y="5857920"/>
            <a:ext cx="706320" cy="411120"/>
          </a:xfrm>
          <a:custGeom>
            <a:avLst/>
            <a:gdLst/>
            <a:ahLst/>
            <a:rect l="l" t="t" r="r" b="b"/>
            <a:pathLst>
              <a:path w="1960" h="1142">
                <a:moveTo>
                  <a:pt x="6970" y="16346"/>
                </a:moveTo>
                <a:cubicBezTo>
                  <a:pt x="7077" y="16373"/>
                  <a:pt x="7171" y="16376"/>
                  <a:pt x="7293" y="16346"/>
                </a:cubicBezTo>
                <a:cubicBezTo>
                  <a:pt x="7390" y="16322"/>
                  <a:pt x="7468" y="16286"/>
                  <a:pt x="7565" y="16272"/>
                </a:cubicBezTo>
                <a:cubicBezTo>
                  <a:pt x="7402" y="16362"/>
                  <a:pt x="7247" y="16414"/>
                  <a:pt x="7069" y="16470"/>
                </a:cubicBezTo>
                <a:cubicBezTo>
                  <a:pt x="7054" y="16454"/>
                  <a:pt x="7276" y="16384"/>
                  <a:pt x="7342" y="16371"/>
                </a:cubicBezTo>
                <a:cubicBezTo>
                  <a:pt x="7367" y="16371"/>
                  <a:pt x="7392" y="16371"/>
                  <a:pt x="7417" y="16371"/>
                </a:cubicBezTo>
              </a:path>
              <a:path w="1960" h="1142">
                <a:moveTo>
                  <a:pt x="7119" y="16718"/>
                </a:moveTo>
                <a:cubicBezTo>
                  <a:pt x="7065" y="16708"/>
                  <a:pt x="6915" y="16691"/>
                  <a:pt x="6921" y="16793"/>
                </a:cubicBezTo>
                <a:cubicBezTo>
                  <a:pt x="6931" y="16955"/>
                  <a:pt x="7161" y="16862"/>
                  <a:pt x="7243" y="16892"/>
                </a:cubicBezTo>
                <a:cubicBezTo>
                  <a:pt x="7260" y="16909"/>
                  <a:pt x="7276" y="16925"/>
                  <a:pt x="7293" y="16942"/>
                </a:cubicBezTo>
                <a:cubicBezTo>
                  <a:pt x="7199" y="17056"/>
                  <a:pt x="7146" y="17082"/>
                  <a:pt x="6995" y="17090"/>
                </a:cubicBezTo>
                <a:cubicBezTo>
                  <a:pt x="6987" y="17090"/>
                  <a:pt x="6978" y="17090"/>
                  <a:pt x="6970" y="17090"/>
                </a:cubicBezTo>
              </a:path>
              <a:path w="1960" h="1142">
                <a:moveTo>
                  <a:pt x="7516" y="16942"/>
                </a:moveTo>
                <a:cubicBezTo>
                  <a:pt x="7539" y="17052"/>
                  <a:pt x="7551" y="17124"/>
                  <a:pt x="7541" y="17239"/>
                </a:cubicBezTo>
                <a:cubicBezTo>
                  <a:pt x="7541" y="17264"/>
                  <a:pt x="7541" y="17272"/>
                  <a:pt x="7541" y="17289"/>
                </a:cubicBezTo>
              </a:path>
              <a:path w="1960" h="1142">
                <a:moveTo>
                  <a:pt x="8136" y="16346"/>
                </a:moveTo>
                <a:cubicBezTo>
                  <a:pt x="8304" y="16374"/>
                  <a:pt x="8415" y="16317"/>
                  <a:pt x="8582" y="16297"/>
                </a:cubicBezTo>
                <a:cubicBezTo>
                  <a:pt x="8628" y="16291"/>
                  <a:pt x="8764" y="16272"/>
                  <a:pt x="8781" y="16321"/>
                </a:cubicBezTo>
              </a:path>
              <a:path w="1960" h="1142">
                <a:moveTo>
                  <a:pt x="8434" y="16594"/>
                </a:moveTo>
                <a:cubicBezTo>
                  <a:pt x="8317" y="16560"/>
                  <a:pt x="8243" y="16564"/>
                  <a:pt x="8161" y="16669"/>
                </a:cubicBezTo>
                <a:cubicBezTo>
                  <a:pt x="8124" y="16716"/>
                  <a:pt x="8118" y="16763"/>
                  <a:pt x="8111" y="16818"/>
                </a:cubicBezTo>
                <a:cubicBezTo>
                  <a:pt x="8236" y="16834"/>
                  <a:pt x="8368" y="16801"/>
                  <a:pt x="8483" y="16842"/>
                </a:cubicBezTo>
                <a:cubicBezTo>
                  <a:pt x="8445" y="17047"/>
                  <a:pt x="8391" y="17075"/>
                  <a:pt x="8186" y="17066"/>
                </a:cubicBezTo>
                <a:cubicBezTo>
                  <a:pt x="8161" y="17066"/>
                  <a:pt x="8153" y="17066"/>
                  <a:pt x="8136" y="17066"/>
                </a:cubicBezTo>
              </a:path>
              <a:path w="1960" h="1142">
                <a:moveTo>
                  <a:pt x="8682" y="17066"/>
                </a:moveTo>
                <a:cubicBezTo>
                  <a:pt x="8775" y="17066"/>
                  <a:pt x="8730" y="17173"/>
                  <a:pt x="8706" y="17239"/>
                </a:cubicBezTo>
                <a:cubicBezTo>
                  <a:pt x="8672" y="17331"/>
                  <a:pt x="8621" y="17348"/>
                  <a:pt x="8582" y="17413"/>
                </a:cubicBezTo>
                <a:cubicBezTo>
                  <a:pt x="8689" y="17398"/>
                  <a:pt x="8781" y="17358"/>
                  <a:pt x="8880" y="17314"/>
                </a:cubicBezTo>
              </a:path>
            </a:pathLst>
          </a:custGeom>
          <a:noFill/>
          <a:ln cap="rnd" w="349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071800" y="6232680"/>
            <a:ext cx="2527200" cy="393480"/>
          </a:xfrm>
          <a:custGeom>
            <a:avLst/>
            <a:gdLst/>
            <a:ahLst/>
            <a:rect l="l" t="t" r="r" b="b"/>
            <a:pathLst>
              <a:path w="7020" h="1092">
                <a:moveTo>
                  <a:pt x="5854" y="17661"/>
                </a:moveTo>
                <a:cubicBezTo>
                  <a:pt x="5786" y="17810"/>
                  <a:pt x="5759" y="17869"/>
                  <a:pt x="5779" y="18033"/>
                </a:cubicBezTo>
                <a:cubicBezTo>
                  <a:pt x="5917" y="18033"/>
                  <a:pt x="6146" y="17916"/>
                  <a:pt x="6052" y="17711"/>
                </a:cubicBezTo>
                <a:cubicBezTo>
                  <a:pt x="5970" y="17683"/>
                  <a:pt x="5938" y="17673"/>
                  <a:pt x="5879" y="17661"/>
                </a:cubicBezTo>
              </a:path>
              <a:path w="7020" h="1092">
                <a:moveTo>
                  <a:pt x="5904" y="17314"/>
                </a:moveTo>
                <a:cubicBezTo>
                  <a:pt x="6135" y="17498"/>
                  <a:pt x="6371" y="17716"/>
                  <a:pt x="6276" y="18058"/>
                </a:cubicBezTo>
                <a:cubicBezTo>
                  <a:pt x="6228" y="18232"/>
                  <a:pt x="6085" y="18311"/>
                  <a:pt x="5953" y="18405"/>
                </a:cubicBezTo>
              </a:path>
              <a:path w="7020" h="1092">
                <a:moveTo>
                  <a:pt x="6722" y="17785"/>
                </a:moveTo>
                <a:cubicBezTo>
                  <a:pt x="6769" y="17785"/>
                  <a:pt x="6832" y="17962"/>
                  <a:pt x="6846" y="18058"/>
                </a:cubicBezTo>
                <a:cubicBezTo>
                  <a:pt x="6846" y="18083"/>
                  <a:pt x="6846" y="18107"/>
                  <a:pt x="6846" y="18132"/>
                </a:cubicBezTo>
              </a:path>
              <a:path w="7020" h="1092">
                <a:moveTo>
                  <a:pt x="6672" y="17959"/>
                </a:moveTo>
                <a:cubicBezTo>
                  <a:pt x="6822" y="17929"/>
                  <a:pt x="6970" y="17893"/>
                  <a:pt x="7119" y="17859"/>
                </a:cubicBezTo>
              </a:path>
              <a:path w="7020" h="1092">
                <a:moveTo>
                  <a:pt x="9079" y="17338"/>
                </a:moveTo>
                <a:cubicBezTo>
                  <a:pt x="9272" y="17548"/>
                  <a:pt x="9542" y="17774"/>
                  <a:pt x="9327" y="18083"/>
                </a:cubicBezTo>
                <a:cubicBezTo>
                  <a:pt x="9230" y="18222"/>
                  <a:pt x="9116" y="18268"/>
                  <a:pt x="8979" y="18256"/>
                </a:cubicBezTo>
              </a:path>
              <a:path w="7020" h="1092">
                <a:moveTo>
                  <a:pt x="11782" y="17363"/>
                </a:moveTo>
                <a:cubicBezTo>
                  <a:pt x="11958" y="17647"/>
                  <a:pt x="12064" y="17818"/>
                  <a:pt x="11881" y="18132"/>
                </a:cubicBezTo>
                <a:cubicBezTo>
                  <a:pt x="11805" y="18262"/>
                  <a:pt x="11764" y="18342"/>
                  <a:pt x="11733" y="18231"/>
                </a:cubicBezTo>
              </a:path>
              <a:path w="7020" h="1092">
                <a:moveTo>
                  <a:pt x="12254" y="17735"/>
                </a:moveTo>
                <a:cubicBezTo>
                  <a:pt x="12378" y="17708"/>
                  <a:pt x="12488" y="17669"/>
                  <a:pt x="12626" y="17661"/>
                </a:cubicBezTo>
              </a:path>
              <a:path w="7020" h="1092">
                <a:moveTo>
                  <a:pt x="12328" y="17884"/>
                </a:moveTo>
                <a:cubicBezTo>
                  <a:pt x="12477" y="17847"/>
                  <a:pt x="12624" y="17817"/>
                  <a:pt x="12774" y="17785"/>
                </a:cubicBezTo>
              </a:path>
            </a:pathLst>
          </a:custGeom>
          <a:noFill/>
          <a:ln cap="rnd" w="349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678040" y="6249960"/>
            <a:ext cx="573120" cy="287280"/>
          </a:xfrm>
          <a:custGeom>
            <a:avLst/>
            <a:gdLst/>
            <a:ahLst/>
            <a:rect l="l" t="t" r="r" b="b"/>
            <a:pathLst>
              <a:path w="1589" h="795">
                <a:moveTo>
                  <a:pt x="7615" y="17636"/>
                </a:moveTo>
                <a:cubicBezTo>
                  <a:pt x="7785" y="17726"/>
                  <a:pt x="7797" y="17731"/>
                  <a:pt x="7863" y="17909"/>
                </a:cubicBezTo>
                <a:cubicBezTo>
                  <a:pt x="7701" y="18017"/>
                  <a:pt x="7548" y="18144"/>
                  <a:pt x="7441" y="17983"/>
                </a:cubicBezTo>
                <a:cubicBezTo>
                  <a:pt x="7632" y="17860"/>
                  <a:pt x="7681" y="17869"/>
                  <a:pt x="7888" y="17934"/>
                </a:cubicBezTo>
                <a:cubicBezTo>
                  <a:pt x="7896" y="17934"/>
                  <a:pt x="7905" y="17934"/>
                  <a:pt x="7913" y="17934"/>
                </a:cubicBezTo>
              </a:path>
              <a:path w="1589" h="795">
                <a:moveTo>
                  <a:pt x="8136" y="17363"/>
                </a:moveTo>
                <a:cubicBezTo>
                  <a:pt x="8063" y="17545"/>
                  <a:pt x="7901" y="17767"/>
                  <a:pt x="7938" y="17983"/>
                </a:cubicBezTo>
                <a:cubicBezTo>
                  <a:pt x="7961" y="18119"/>
                  <a:pt x="8139" y="18132"/>
                  <a:pt x="8235" y="18157"/>
                </a:cubicBezTo>
              </a:path>
              <a:path w="1589" h="795">
                <a:moveTo>
                  <a:pt x="8235" y="17735"/>
                </a:moveTo>
                <a:cubicBezTo>
                  <a:pt x="8330" y="17673"/>
                  <a:pt x="8421" y="17686"/>
                  <a:pt x="8533" y="17686"/>
                </a:cubicBezTo>
                <a:cubicBezTo>
                  <a:pt x="8541" y="17686"/>
                  <a:pt x="8550" y="17686"/>
                  <a:pt x="8558" y="17686"/>
                </a:cubicBezTo>
                <a:cubicBezTo>
                  <a:pt x="8558" y="17794"/>
                  <a:pt x="8504" y="17905"/>
                  <a:pt x="8508" y="18008"/>
                </a:cubicBezTo>
                <a:cubicBezTo>
                  <a:pt x="8516" y="18025"/>
                  <a:pt x="8525" y="18041"/>
                  <a:pt x="8533" y="18058"/>
                </a:cubicBezTo>
              </a:path>
              <a:path w="1589" h="795">
                <a:moveTo>
                  <a:pt x="8706" y="17636"/>
                </a:moveTo>
                <a:cubicBezTo>
                  <a:pt x="8817" y="17628"/>
                  <a:pt x="8865" y="17620"/>
                  <a:pt x="8954" y="17661"/>
                </a:cubicBezTo>
                <a:cubicBezTo>
                  <a:pt x="8894" y="17808"/>
                  <a:pt x="8821" y="17893"/>
                  <a:pt x="8706" y="18008"/>
                </a:cubicBezTo>
                <a:cubicBezTo>
                  <a:pt x="8826" y="18008"/>
                  <a:pt x="8893" y="17968"/>
                  <a:pt x="9004" y="17934"/>
                </a:cubicBezTo>
                <a:cubicBezTo>
                  <a:pt x="9012" y="17934"/>
                  <a:pt x="9021" y="17934"/>
                  <a:pt x="9029" y="17934"/>
                </a:cubicBezTo>
              </a:path>
            </a:pathLst>
          </a:custGeom>
          <a:noFill/>
          <a:ln cap="rnd" w="349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00280" y="6224760"/>
            <a:ext cx="723960" cy="312480"/>
          </a:xfrm>
          <a:custGeom>
            <a:avLst/>
            <a:gdLst/>
            <a:ahLst/>
            <a:rect l="l" t="t" r="r" b="b"/>
            <a:pathLst>
              <a:path w="2011" h="869">
                <a:moveTo>
                  <a:pt x="9823" y="17636"/>
                </a:moveTo>
                <a:cubicBezTo>
                  <a:pt x="9836" y="17746"/>
                  <a:pt x="9847" y="17847"/>
                  <a:pt x="9847" y="17959"/>
                </a:cubicBezTo>
              </a:path>
              <a:path w="2011" h="869">
                <a:moveTo>
                  <a:pt x="9723" y="17835"/>
                </a:moveTo>
                <a:cubicBezTo>
                  <a:pt x="9825" y="17776"/>
                  <a:pt x="9929" y="17750"/>
                  <a:pt x="10046" y="17735"/>
                </a:cubicBezTo>
              </a:path>
              <a:path w="2011" h="869">
                <a:moveTo>
                  <a:pt x="10393" y="17562"/>
                </a:moveTo>
                <a:cubicBezTo>
                  <a:pt x="10464" y="17526"/>
                  <a:pt x="10623" y="17609"/>
                  <a:pt x="10641" y="17735"/>
                </a:cubicBezTo>
                <a:cubicBezTo>
                  <a:pt x="10671" y="17950"/>
                  <a:pt x="10415" y="17923"/>
                  <a:pt x="10294" y="17909"/>
                </a:cubicBezTo>
                <a:cubicBezTo>
                  <a:pt x="10345" y="17772"/>
                  <a:pt x="10463" y="17771"/>
                  <a:pt x="10592" y="17835"/>
                </a:cubicBezTo>
                <a:cubicBezTo>
                  <a:pt x="10648" y="17872"/>
                  <a:pt x="10652" y="17889"/>
                  <a:pt x="10691" y="17884"/>
                </a:cubicBezTo>
              </a:path>
              <a:path w="2011" h="869">
                <a:moveTo>
                  <a:pt x="10988" y="17289"/>
                </a:moveTo>
                <a:cubicBezTo>
                  <a:pt x="10885" y="17467"/>
                  <a:pt x="10638" y="17732"/>
                  <a:pt x="10691" y="17959"/>
                </a:cubicBezTo>
                <a:cubicBezTo>
                  <a:pt x="10731" y="18128"/>
                  <a:pt x="10844" y="18131"/>
                  <a:pt x="10939" y="18107"/>
                </a:cubicBezTo>
              </a:path>
              <a:path w="2011" h="869">
                <a:moveTo>
                  <a:pt x="11286" y="17636"/>
                </a:moveTo>
                <a:cubicBezTo>
                  <a:pt x="11286" y="17521"/>
                  <a:pt x="11178" y="17478"/>
                  <a:pt x="11063" y="17512"/>
                </a:cubicBezTo>
                <a:cubicBezTo>
                  <a:pt x="10897" y="17562"/>
                  <a:pt x="10905" y="17655"/>
                  <a:pt x="10914" y="17785"/>
                </a:cubicBezTo>
                <a:cubicBezTo>
                  <a:pt x="11104" y="17767"/>
                  <a:pt x="11153" y="17766"/>
                  <a:pt x="11261" y="17611"/>
                </a:cubicBezTo>
                <a:cubicBezTo>
                  <a:pt x="11261" y="17724"/>
                  <a:pt x="11274" y="17832"/>
                  <a:pt x="11261" y="17934"/>
                </a:cubicBezTo>
                <a:cubicBezTo>
                  <a:pt x="11261" y="17942"/>
                  <a:pt x="11261" y="17951"/>
                  <a:pt x="11261" y="17959"/>
                </a:cubicBezTo>
              </a:path>
              <a:path w="2011" h="869">
                <a:moveTo>
                  <a:pt x="11584" y="17562"/>
                </a:moveTo>
                <a:cubicBezTo>
                  <a:pt x="11519" y="17713"/>
                  <a:pt x="11462" y="17795"/>
                  <a:pt x="11485" y="17959"/>
                </a:cubicBezTo>
                <a:cubicBezTo>
                  <a:pt x="11602" y="17941"/>
                  <a:pt x="11806" y="17881"/>
                  <a:pt x="11708" y="17711"/>
                </a:cubicBezTo>
                <a:cubicBezTo>
                  <a:pt x="11626" y="17571"/>
                  <a:pt x="11539" y="17740"/>
                  <a:pt x="11584" y="17587"/>
                </a:cubicBezTo>
              </a:path>
            </a:pathLst>
          </a:custGeom>
          <a:noFill/>
          <a:ln cap="rnd" w="349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786200" y="6143760"/>
            <a:ext cx="517680" cy="322200"/>
          </a:xfrm>
          <a:custGeom>
            <a:avLst/>
            <a:gdLst/>
            <a:ahLst/>
            <a:rect l="l" t="t" r="r" b="b"/>
            <a:pathLst>
              <a:path w="1440" h="894">
                <a:moveTo>
                  <a:pt x="13469" y="17314"/>
                </a:moveTo>
                <a:cubicBezTo>
                  <a:pt x="13422" y="17453"/>
                  <a:pt x="13307" y="17575"/>
                  <a:pt x="13295" y="17735"/>
                </a:cubicBezTo>
                <a:cubicBezTo>
                  <a:pt x="13275" y="17998"/>
                  <a:pt x="13584" y="17960"/>
                  <a:pt x="13717" y="17835"/>
                </a:cubicBezTo>
                <a:cubicBezTo>
                  <a:pt x="13734" y="17802"/>
                  <a:pt x="13750" y="17768"/>
                  <a:pt x="13767" y="17735"/>
                </a:cubicBezTo>
                <a:cubicBezTo>
                  <a:pt x="13750" y="17710"/>
                  <a:pt x="13734" y="17686"/>
                  <a:pt x="13717" y="17661"/>
                </a:cubicBezTo>
                <a:cubicBezTo>
                  <a:pt x="13665" y="17674"/>
                  <a:pt x="13273" y="17937"/>
                  <a:pt x="13494" y="17959"/>
                </a:cubicBezTo>
                <a:cubicBezTo>
                  <a:pt x="13535" y="17942"/>
                  <a:pt x="13577" y="17926"/>
                  <a:pt x="13618" y="17909"/>
                </a:cubicBezTo>
              </a:path>
              <a:path w="1440" h="894">
                <a:moveTo>
                  <a:pt x="14064" y="17289"/>
                </a:moveTo>
                <a:cubicBezTo>
                  <a:pt x="13897" y="17437"/>
                  <a:pt x="13780" y="17497"/>
                  <a:pt x="14015" y="17636"/>
                </a:cubicBezTo>
                <a:cubicBezTo>
                  <a:pt x="14130" y="17694"/>
                  <a:pt x="14163" y="17686"/>
                  <a:pt x="14188" y="17760"/>
                </a:cubicBezTo>
                <a:cubicBezTo>
                  <a:pt x="14069" y="17840"/>
                  <a:pt x="14019" y="17799"/>
                  <a:pt x="13866" y="17760"/>
                </a:cubicBezTo>
                <a:cubicBezTo>
                  <a:pt x="13952" y="17558"/>
                  <a:pt x="14154" y="17507"/>
                  <a:pt x="14238" y="17338"/>
                </a:cubicBezTo>
                <a:cubicBezTo>
                  <a:pt x="14197" y="17338"/>
                  <a:pt x="14172" y="17338"/>
                  <a:pt x="14139" y="17338"/>
                </a:cubicBezTo>
              </a:path>
              <a:path w="1440" h="894">
                <a:moveTo>
                  <a:pt x="14461" y="17239"/>
                </a:moveTo>
                <a:cubicBezTo>
                  <a:pt x="14438" y="17345"/>
                  <a:pt x="14369" y="17533"/>
                  <a:pt x="14511" y="17562"/>
                </a:cubicBezTo>
                <a:cubicBezTo>
                  <a:pt x="14641" y="17562"/>
                  <a:pt x="14686" y="17558"/>
                  <a:pt x="14734" y="17462"/>
                </a:cubicBezTo>
              </a:path>
              <a:path w="1440" h="894">
                <a:moveTo>
                  <a:pt x="14709" y="17066"/>
                </a:moveTo>
                <a:cubicBezTo>
                  <a:pt x="14684" y="17292"/>
                  <a:pt x="14722" y="17538"/>
                  <a:pt x="14684" y="17760"/>
                </a:cubicBezTo>
                <a:cubicBezTo>
                  <a:pt x="14660" y="17785"/>
                  <a:pt x="14652" y="17794"/>
                  <a:pt x="14635" y="17810"/>
                </a:cubicBezTo>
              </a:path>
            </a:pathLst>
          </a:custGeom>
          <a:noFill/>
          <a:ln cap="rnd" w="349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419800" y="2589120"/>
            <a:ext cx="438120" cy="474840"/>
          </a:xfrm>
          <a:custGeom>
            <a:avLst/>
            <a:gdLst/>
            <a:ahLst/>
            <a:rect l="l" t="t" r="r" b="b"/>
            <a:pathLst>
              <a:path w="1217" h="1316">
                <a:moveTo>
                  <a:pt x="15404" y="7417"/>
                </a:moveTo>
                <a:cubicBezTo>
                  <a:pt x="15404" y="7344"/>
                  <a:pt x="15375" y="7314"/>
                  <a:pt x="15280" y="7317"/>
                </a:cubicBezTo>
                <a:cubicBezTo>
                  <a:pt x="15117" y="7322"/>
                  <a:pt x="15076" y="7461"/>
                  <a:pt x="15056" y="7590"/>
                </a:cubicBezTo>
                <a:cubicBezTo>
                  <a:pt x="15163" y="7622"/>
                  <a:pt x="15323" y="7573"/>
                  <a:pt x="15404" y="7665"/>
                </a:cubicBezTo>
                <a:cubicBezTo>
                  <a:pt x="15509" y="7784"/>
                  <a:pt x="15229" y="7856"/>
                  <a:pt x="15180" y="7863"/>
                </a:cubicBezTo>
                <a:cubicBezTo>
                  <a:pt x="15147" y="7863"/>
                  <a:pt x="15139" y="7854"/>
                  <a:pt x="15156" y="7813"/>
                </a:cubicBezTo>
              </a:path>
              <a:path w="1217" h="1316">
                <a:moveTo>
                  <a:pt x="15553" y="7516"/>
                </a:moveTo>
                <a:cubicBezTo>
                  <a:pt x="15563" y="7625"/>
                  <a:pt x="15599" y="7717"/>
                  <a:pt x="15528" y="7789"/>
                </a:cubicBezTo>
              </a:path>
              <a:path w="1217" h="1316">
                <a:moveTo>
                  <a:pt x="15850" y="7491"/>
                </a:moveTo>
                <a:cubicBezTo>
                  <a:pt x="15794" y="7377"/>
                  <a:pt x="15675" y="7499"/>
                  <a:pt x="15652" y="7590"/>
                </a:cubicBezTo>
                <a:cubicBezTo>
                  <a:pt x="15652" y="7702"/>
                  <a:pt x="15642" y="7737"/>
                  <a:pt x="15726" y="7764"/>
                </a:cubicBezTo>
                <a:cubicBezTo>
                  <a:pt x="15891" y="7665"/>
                  <a:pt x="15875" y="7640"/>
                  <a:pt x="15900" y="7441"/>
                </a:cubicBezTo>
              </a:path>
              <a:path w="1217" h="1316">
                <a:moveTo>
                  <a:pt x="15776" y="7193"/>
                </a:moveTo>
                <a:cubicBezTo>
                  <a:pt x="15805" y="7353"/>
                  <a:pt x="15881" y="7506"/>
                  <a:pt x="15925" y="7665"/>
                </a:cubicBezTo>
              </a:path>
              <a:path w="1217" h="1316">
                <a:moveTo>
                  <a:pt x="16049" y="7491"/>
                </a:moveTo>
                <a:cubicBezTo>
                  <a:pt x="16121" y="7448"/>
                  <a:pt x="16202" y="7395"/>
                  <a:pt x="16272" y="7367"/>
                </a:cubicBezTo>
                <a:cubicBezTo>
                  <a:pt x="16263" y="7304"/>
                  <a:pt x="16180" y="7210"/>
                  <a:pt x="16098" y="7268"/>
                </a:cubicBezTo>
                <a:cubicBezTo>
                  <a:pt x="15939" y="7380"/>
                  <a:pt x="15967" y="7621"/>
                  <a:pt x="16173" y="7615"/>
                </a:cubicBezTo>
                <a:cubicBezTo>
                  <a:pt x="16206" y="7607"/>
                  <a:pt x="16239" y="7598"/>
                  <a:pt x="16272" y="7590"/>
                </a:cubicBezTo>
              </a:path>
              <a:path w="1217" h="1316">
                <a:moveTo>
                  <a:pt x="15726" y="8136"/>
                </a:moveTo>
                <a:cubicBezTo>
                  <a:pt x="15726" y="8229"/>
                  <a:pt x="15749" y="8314"/>
                  <a:pt x="15751" y="8409"/>
                </a:cubicBezTo>
                <a:cubicBezTo>
                  <a:pt x="15751" y="8442"/>
                  <a:pt x="15751" y="8475"/>
                  <a:pt x="15751" y="8508"/>
                </a:cubicBezTo>
              </a:path>
            </a:pathLst>
          </a:custGeom>
          <a:noFill/>
          <a:ln cap="rnd" w="349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330720" y="5527800"/>
            <a:ext cx="2760480" cy="490320"/>
          </a:xfrm>
          <a:custGeom>
            <a:avLst/>
            <a:gdLst/>
            <a:ahLst/>
            <a:rect l="l" t="t" r="r" b="b"/>
            <a:pathLst>
              <a:path w="7666" h="1365">
                <a:moveTo>
                  <a:pt x="9351" y="16446"/>
                </a:moveTo>
                <a:cubicBezTo>
                  <a:pt x="9392" y="16470"/>
                  <a:pt x="9457" y="16524"/>
                  <a:pt x="9500" y="16545"/>
                </a:cubicBezTo>
                <a:cubicBezTo>
                  <a:pt x="9626" y="16605"/>
                  <a:pt x="9736" y="16620"/>
                  <a:pt x="9872" y="16644"/>
                </a:cubicBezTo>
                <a:cubicBezTo>
                  <a:pt x="10006" y="16667"/>
                  <a:pt x="10109" y="16638"/>
                  <a:pt x="10244" y="16644"/>
                </a:cubicBezTo>
                <a:cubicBezTo>
                  <a:pt x="10360" y="16649"/>
                  <a:pt x="10475" y="16658"/>
                  <a:pt x="10592" y="16669"/>
                </a:cubicBezTo>
                <a:cubicBezTo>
                  <a:pt x="10733" y="16683"/>
                  <a:pt x="10868" y="16704"/>
                  <a:pt x="11013" y="16694"/>
                </a:cubicBezTo>
                <a:cubicBezTo>
                  <a:pt x="11162" y="16684"/>
                  <a:pt x="11307" y="16662"/>
                  <a:pt x="11460" y="16669"/>
                </a:cubicBezTo>
                <a:cubicBezTo>
                  <a:pt x="11657" y="16678"/>
                  <a:pt x="11857" y="16723"/>
                  <a:pt x="12055" y="16718"/>
                </a:cubicBezTo>
                <a:cubicBezTo>
                  <a:pt x="12141" y="16716"/>
                  <a:pt x="12218" y="16698"/>
                  <a:pt x="12303" y="16694"/>
                </a:cubicBezTo>
                <a:cubicBezTo>
                  <a:pt x="12646" y="16677"/>
                  <a:pt x="12981" y="16689"/>
                  <a:pt x="13320" y="16644"/>
                </a:cubicBezTo>
                <a:cubicBezTo>
                  <a:pt x="13431" y="16629"/>
                  <a:pt x="13558" y="16616"/>
                  <a:pt x="13667" y="16594"/>
                </a:cubicBezTo>
                <a:cubicBezTo>
                  <a:pt x="13801" y="16567"/>
                  <a:pt x="13929" y="16539"/>
                  <a:pt x="14064" y="16520"/>
                </a:cubicBezTo>
                <a:cubicBezTo>
                  <a:pt x="14207" y="16500"/>
                  <a:pt x="14341" y="16478"/>
                  <a:pt x="14486" y="16470"/>
                </a:cubicBezTo>
                <a:cubicBezTo>
                  <a:pt x="14923" y="16446"/>
                  <a:pt x="15368" y="16477"/>
                  <a:pt x="15801" y="16495"/>
                </a:cubicBezTo>
                <a:cubicBezTo>
                  <a:pt x="16103" y="16508"/>
                  <a:pt x="16535" y="16557"/>
                  <a:pt x="16793" y="16371"/>
                </a:cubicBezTo>
                <a:cubicBezTo>
                  <a:pt x="16873" y="16313"/>
                  <a:pt x="16897" y="16251"/>
                  <a:pt x="16917" y="16148"/>
                </a:cubicBezTo>
                <a:cubicBezTo>
                  <a:pt x="16934" y="16060"/>
                  <a:pt x="16909" y="15980"/>
                  <a:pt x="16892" y="15900"/>
                </a:cubicBezTo>
                <a:cubicBezTo>
                  <a:pt x="16879" y="15838"/>
                  <a:pt x="16865" y="15753"/>
                  <a:pt x="16818" y="15701"/>
                </a:cubicBezTo>
                <a:cubicBezTo>
                  <a:pt x="16770" y="15648"/>
                  <a:pt x="16710" y="15628"/>
                  <a:pt x="16644" y="15602"/>
                </a:cubicBezTo>
                <a:cubicBezTo>
                  <a:pt x="16315" y="15473"/>
                  <a:pt x="15900" y="15437"/>
                  <a:pt x="15553" y="15379"/>
                </a:cubicBezTo>
                <a:cubicBezTo>
                  <a:pt x="15339" y="15343"/>
                  <a:pt x="15147" y="15376"/>
                  <a:pt x="14932" y="15379"/>
                </a:cubicBezTo>
                <a:cubicBezTo>
                  <a:pt x="14698" y="15383"/>
                  <a:pt x="14470" y="15421"/>
                  <a:pt x="14238" y="15453"/>
                </a:cubicBezTo>
                <a:cubicBezTo>
                  <a:pt x="13973" y="15490"/>
                  <a:pt x="13708" y="15521"/>
                  <a:pt x="13444" y="15553"/>
                </a:cubicBezTo>
                <a:cubicBezTo>
                  <a:pt x="13242" y="15578"/>
                  <a:pt x="13029" y="15615"/>
                  <a:pt x="12824" y="15602"/>
                </a:cubicBezTo>
                <a:cubicBezTo>
                  <a:pt x="12633" y="15590"/>
                  <a:pt x="12445" y="15563"/>
                  <a:pt x="12254" y="15553"/>
                </a:cubicBezTo>
                <a:cubicBezTo>
                  <a:pt x="12056" y="15543"/>
                  <a:pt x="11853" y="15536"/>
                  <a:pt x="11658" y="15528"/>
                </a:cubicBezTo>
                <a:cubicBezTo>
                  <a:pt x="11040" y="15502"/>
                  <a:pt x="10356" y="15473"/>
                  <a:pt x="9748" y="15553"/>
                </a:cubicBezTo>
                <a:cubicBezTo>
                  <a:pt x="9675" y="15563"/>
                  <a:pt x="9596" y="15574"/>
                  <a:pt x="9525" y="15602"/>
                </a:cubicBezTo>
                <a:cubicBezTo>
                  <a:pt x="9472" y="15623"/>
                  <a:pt x="9336" y="15706"/>
                  <a:pt x="9302" y="15751"/>
                </a:cubicBezTo>
                <a:cubicBezTo>
                  <a:pt x="9258" y="15809"/>
                  <a:pt x="9262" y="15907"/>
                  <a:pt x="9252" y="15974"/>
                </a:cubicBezTo>
                <a:cubicBezTo>
                  <a:pt x="9242" y="16044"/>
                  <a:pt x="9270" y="16094"/>
                  <a:pt x="9277" y="16148"/>
                </a:cubicBezTo>
                <a:cubicBezTo>
                  <a:pt x="9283" y="16200"/>
                  <a:pt x="9293" y="16245"/>
                  <a:pt x="9302" y="16297"/>
                </a:cubicBezTo>
                <a:cubicBezTo>
                  <a:pt x="9310" y="16349"/>
                  <a:pt x="9323" y="16503"/>
                  <a:pt x="9351" y="16520"/>
                </a:cubicBezTo>
                <a:cubicBezTo>
                  <a:pt x="9396" y="16548"/>
                  <a:pt x="9453" y="16507"/>
                  <a:pt x="9500" y="16520"/>
                </a:cubicBezTo>
              </a:path>
            </a:pathLst>
          </a:custGeom>
          <a:noFill/>
          <a:ln cap="rnd" w="349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urface Area of Triangular Pris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638320" y="1219320"/>
            <a:ext cx="3213720" cy="3733560"/>
            <a:chOff x="5638320" y="1219320"/>
            <a:chExt cx="3213720" cy="3733560"/>
          </a:xfrm>
        </p:grpSpPr>
        <mc:AlternateContent>
          <mc:Choice xmlns:a14="http://schemas.microsoft.com/office/drawing/2010/main" Requires="a14">
            <p:sp>
              <p:nvSpPr>
                <p:cNvPr id="210" name=""/>
                <p:cNvSpPr txBox="1"/>
                <p:nvPr/>
              </p:nvSpPr>
              <p:spPr>
                <a:xfrm>
                  <a:off x="7175520" y="1219320"/>
                  <a:ext cx="40788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1" name=""/>
                <p:cNvSpPr txBox="1"/>
                <p:nvPr/>
              </p:nvSpPr>
              <p:spPr>
                <a:xfrm>
                  <a:off x="7327800" y="3124080"/>
                  <a:ext cx="47160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12" name=""/>
            <p:cNvSpPr/>
            <p:nvPr/>
          </p:nvSpPr>
          <p:spPr>
            <a:xfrm>
              <a:off x="6413400" y="1676520"/>
              <a:ext cx="533520" cy="6858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413400" y="2362320"/>
              <a:ext cx="533520" cy="11430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413400" y="3505320"/>
              <a:ext cx="533520" cy="1447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 rot="10799400">
              <a:off x="6946560" y="2361960"/>
              <a:ext cx="765000" cy="1143000"/>
            </a:xfrm>
            <a:prstGeom prst="rtTriangl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10800000">
              <a:off x="5638320" y="2361960"/>
              <a:ext cx="762120" cy="1143000"/>
            </a:xfrm>
            <a:prstGeom prst="rtTriangl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7" name=""/>
                <p:cNvSpPr txBox="1"/>
                <p:nvPr/>
              </p:nvSpPr>
              <p:spPr>
                <a:xfrm>
                  <a:off x="7251840" y="3962520"/>
                  <a:ext cx="4744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18" name=""/>
            <p:cNvSpPr/>
            <p:nvPr/>
          </p:nvSpPr>
          <p:spPr>
            <a:xfrm flipH="1" flipV="1">
              <a:off x="6794280" y="3200040"/>
              <a:ext cx="6094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6794280" y="1676520"/>
              <a:ext cx="53316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 flipV="1">
              <a:off x="6717960" y="4038480"/>
              <a:ext cx="60948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785000" y="26668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Base 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7175520" y="2666880"/>
              <a:ext cx="53352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6184440" y="2666520"/>
              <a:ext cx="16002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2057400" y="1295280"/>
            <a:ext cx="2819160" cy="2324160"/>
            <a:chOff x="2057400" y="1295280"/>
            <a:chExt cx="2819160" cy="2324160"/>
          </a:xfrm>
        </p:grpSpPr>
        <p:grpSp>
          <p:nvGrpSpPr>
            <p:cNvPr id="225" name=""/>
            <p:cNvGrpSpPr/>
            <p:nvPr/>
          </p:nvGrpSpPr>
          <p:grpSpPr>
            <a:xfrm>
              <a:off x="2057400" y="1295280"/>
              <a:ext cx="2819160" cy="2324160"/>
              <a:chOff x="2057400" y="1295280"/>
              <a:chExt cx="2819160" cy="2324160"/>
            </a:xfrm>
          </p:grpSpPr>
          <p:sp>
            <p:nvSpPr>
              <p:cNvPr id="226" name=""/>
              <p:cNvSpPr/>
              <p:nvPr/>
            </p:nvSpPr>
            <p:spPr>
              <a:xfrm>
                <a:off x="2362320" y="2895480"/>
                <a:ext cx="609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8 f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7" name=""/>
              <p:cNvGrpSpPr/>
              <p:nvPr/>
            </p:nvGrpSpPr>
            <p:grpSpPr>
              <a:xfrm>
                <a:off x="2057400" y="1295280"/>
                <a:ext cx="2819160" cy="2324160"/>
                <a:chOff x="2057400" y="1295280"/>
                <a:chExt cx="2819160" cy="232416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2057400" y="1698480"/>
                  <a:ext cx="2063160" cy="1747800"/>
                </a:xfrm>
                <a:prstGeom prst="rtTriangle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2744640" y="1295280"/>
                  <a:ext cx="550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6 ft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3501360" y="3312360"/>
                  <a:ext cx="6872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4 ft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4257720" y="2034720"/>
                  <a:ext cx="6188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10 ft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2" name=""/>
            <p:cNvSpPr/>
            <p:nvPr/>
          </p:nvSpPr>
          <p:spPr>
            <a:xfrm>
              <a:off x="3886200" y="167616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3809880" y="190476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380880" y="3809880"/>
            <a:ext cx="5105520" cy="31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find the surface area of the triangular prism, find the area of each f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rea of the b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rea of face 1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rea of fac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rea of face 3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d the area of all the f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surface of the triangular prism is: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2095560" y="4317840"/>
                <a:ext cx="18288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8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2082960" y="4978440"/>
                <a:ext cx="137160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2057400" y="5295960"/>
                <a:ext cx="137160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2082960" y="4673520"/>
                <a:ext cx="129528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3429000" y="5638680"/>
                <a:ext cx="198108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5638680" y="5638680"/>
                <a:ext cx="2971800" cy="3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5029200" y="6095880"/>
                <a:ext cx="10666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9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2973240" y="1071720"/>
            <a:ext cx="3733920" cy="3357360"/>
          </a:xfrm>
          <a:custGeom>
            <a:avLst/>
            <a:gdLst/>
            <a:ahLst/>
            <a:rect l="l" t="t" r="r" b="b"/>
            <a:pathLst>
              <a:path w="10369" h="9327">
                <a:moveTo>
                  <a:pt x="8285" y="12303"/>
                </a:moveTo>
                <a:cubicBezTo>
                  <a:pt x="8277" y="12303"/>
                  <a:pt x="8268" y="12303"/>
                  <a:pt x="8260" y="12303"/>
                </a:cubicBezTo>
              </a:path>
              <a:path w="10369" h="9327">
                <a:moveTo>
                  <a:pt x="18604" y="2977"/>
                </a:moveTo>
                <a:cubicBezTo>
                  <a:pt x="18628" y="2977"/>
                  <a:pt x="18636" y="2977"/>
                  <a:pt x="18628" y="3001"/>
                </a:cubicBezTo>
              </a:path>
            </a:pathLst>
          </a:custGeom>
          <a:noFill/>
          <a:ln cap="rnd" w="349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61000" y="2901960"/>
            <a:ext cx="214200" cy="135000"/>
          </a:xfrm>
          <a:custGeom>
            <a:avLst/>
            <a:gdLst/>
            <a:ahLst/>
            <a:rect l="l" t="t" r="r" b="b"/>
            <a:pathLst>
              <a:path w="596" h="373">
                <a:moveTo>
                  <a:pt x="15726" y="8062"/>
                </a:moveTo>
                <a:lnTo>
                  <a:pt x="15726" y="8062"/>
                </a:lnTo>
              </a:path>
              <a:path w="596" h="373">
                <a:moveTo>
                  <a:pt x="15949" y="8434"/>
                </a:moveTo>
                <a:cubicBezTo>
                  <a:pt x="16071" y="8403"/>
                  <a:pt x="16197" y="8367"/>
                  <a:pt x="16321" y="8334"/>
                </a:cubicBezTo>
              </a:path>
            </a:pathLst>
          </a:custGeom>
          <a:noFill/>
          <a:ln cap="rnd" w="349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214960" y="2455920"/>
            <a:ext cx="1019160" cy="687240"/>
          </a:xfrm>
          <a:custGeom>
            <a:avLst/>
            <a:gdLst/>
            <a:ahLst/>
            <a:rect l="l" t="t" r="r" b="b"/>
            <a:pathLst>
              <a:path w="2829" h="1911">
                <a:moveTo>
                  <a:pt x="15081" y="8086"/>
                </a:moveTo>
                <a:cubicBezTo>
                  <a:pt x="15077" y="8238"/>
                  <a:pt x="15061" y="8416"/>
                  <a:pt x="15081" y="8558"/>
                </a:cubicBezTo>
              </a:path>
              <a:path w="2829" h="1911">
                <a:moveTo>
                  <a:pt x="14486" y="8210"/>
                </a:moveTo>
                <a:cubicBezTo>
                  <a:pt x="14756" y="8121"/>
                  <a:pt x="15067" y="8054"/>
                  <a:pt x="15354" y="8012"/>
                </a:cubicBezTo>
                <a:cubicBezTo>
                  <a:pt x="15387" y="8012"/>
                  <a:pt x="15420" y="8012"/>
                  <a:pt x="15453" y="8012"/>
                </a:cubicBezTo>
              </a:path>
              <a:path w="2829" h="1911">
                <a:moveTo>
                  <a:pt x="15255" y="8235"/>
                </a:moveTo>
                <a:cubicBezTo>
                  <a:pt x="15255" y="8318"/>
                  <a:pt x="15236" y="8400"/>
                  <a:pt x="15230" y="8483"/>
                </a:cubicBezTo>
                <a:cubicBezTo>
                  <a:pt x="15230" y="8338"/>
                  <a:pt x="15270" y="8214"/>
                  <a:pt x="15379" y="8111"/>
                </a:cubicBezTo>
                <a:cubicBezTo>
                  <a:pt x="15461" y="8070"/>
                  <a:pt x="15486" y="8037"/>
                  <a:pt x="15503" y="8111"/>
                </a:cubicBezTo>
              </a:path>
              <a:path w="2829" h="1911">
                <a:moveTo>
                  <a:pt x="15577" y="8235"/>
                </a:moveTo>
                <a:cubicBezTo>
                  <a:pt x="15585" y="8335"/>
                  <a:pt x="15602" y="8633"/>
                  <a:pt x="15602" y="8533"/>
                </a:cubicBezTo>
                <a:cubicBezTo>
                  <a:pt x="15602" y="8516"/>
                  <a:pt x="15602" y="8500"/>
                  <a:pt x="15602" y="8483"/>
                </a:cubicBezTo>
              </a:path>
              <a:path w="2829" h="1911">
                <a:moveTo>
                  <a:pt x="16098" y="8161"/>
                </a:moveTo>
                <a:cubicBezTo>
                  <a:pt x="16241" y="8192"/>
                  <a:pt x="16368" y="8241"/>
                  <a:pt x="16495" y="8310"/>
                </a:cubicBezTo>
                <a:cubicBezTo>
                  <a:pt x="16384" y="8447"/>
                  <a:pt x="16265" y="8558"/>
                  <a:pt x="16222" y="8731"/>
                </a:cubicBezTo>
              </a:path>
              <a:path w="2829" h="1911">
                <a:moveTo>
                  <a:pt x="16793" y="7020"/>
                </a:moveTo>
                <a:cubicBezTo>
                  <a:pt x="16793" y="6947"/>
                  <a:pt x="16745" y="7235"/>
                  <a:pt x="16743" y="7243"/>
                </a:cubicBezTo>
                <a:cubicBezTo>
                  <a:pt x="16735" y="7268"/>
                  <a:pt x="16726" y="7292"/>
                  <a:pt x="16718" y="7317"/>
                </a:cubicBezTo>
                <a:cubicBezTo>
                  <a:pt x="16718" y="7201"/>
                  <a:pt x="16703" y="7077"/>
                  <a:pt x="16743" y="6970"/>
                </a:cubicBezTo>
                <a:cubicBezTo>
                  <a:pt x="16743" y="7086"/>
                  <a:pt x="16743" y="7201"/>
                  <a:pt x="16743" y="7317"/>
                </a:cubicBezTo>
              </a:path>
              <a:path w="2829" h="1911">
                <a:moveTo>
                  <a:pt x="16371" y="7243"/>
                </a:moveTo>
                <a:cubicBezTo>
                  <a:pt x="16513" y="7497"/>
                  <a:pt x="16650" y="7734"/>
                  <a:pt x="16991" y="7640"/>
                </a:cubicBezTo>
                <a:cubicBezTo>
                  <a:pt x="17296" y="7556"/>
                  <a:pt x="17470" y="7124"/>
                  <a:pt x="17165" y="6921"/>
                </a:cubicBezTo>
                <a:cubicBezTo>
                  <a:pt x="16821" y="6691"/>
                  <a:pt x="16309" y="6871"/>
                  <a:pt x="16297" y="7317"/>
                </a:cubicBezTo>
                <a:cubicBezTo>
                  <a:pt x="16286" y="7733"/>
                  <a:pt x="16682" y="7674"/>
                  <a:pt x="16892" y="7565"/>
                </a:cubicBezTo>
              </a:path>
            </a:pathLst>
          </a:custGeom>
          <a:noFill/>
          <a:ln cap="rnd" w="349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518160" y="1839960"/>
            <a:ext cx="393840" cy="411120"/>
          </a:xfrm>
          <a:custGeom>
            <a:avLst/>
            <a:gdLst/>
            <a:ahLst/>
            <a:rect l="l" t="t" r="r" b="b"/>
            <a:pathLst>
              <a:path w="1093" h="1142">
                <a:moveTo>
                  <a:pt x="18479" y="5457"/>
                </a:moveTo>
                <a:cubicBezTo>
                  <a:pt x="18526" y="5379"/>
                  <a:pt x="18681" y="5340"/>
                  <a:pt x="18777" y="5383"/>
                </a:cubicBezTo>
                <a:cubicBezTo>
                  <a:pt x="18785" y="5399"/>
                  <a:pt x="18794" y="5416"/>
                  <a:pt x="18802" y="5432"/>
                </a:cubicBezTo>
                <a:cubicBezTo>
                  <a:pt x="18751" y="5542"/>
                  <a:pt x="18733" y="5609"/>
                  <a:pt x="18604" y="5631"/>
                </a:cubicBezTo>
                <a:cubicBezTo>
                  <a:pt x="18715" y="5701"/>
                  <a:pt x="18713" y="5698"/>
                  <a:pt x="18703" y="5829"/>
                </a:cubicBezTo>
                <a:cubicBezTo>
                  <a:pt x="18608" y="5872"/>
                  <a:pt x="18507" y="5882"/>
                  <a:pt x="18430" y="5804"/>
                </a:cubicBezTo>
              </a:path>
              <a:path w="1093" h="1142">
                <a:moveTo>
                  <a:pt x="18107" y="5804"/>
                </a:moveTo>
                <a:cubicBezTo>
                  <a:pt x="18124" y="5971"/>
                  <a:pt x="18219" y="6123"/>
                  <a:pt x="18380" y="6201"/>
                </a:cubicBezTo>
                <a:cubicBezTo>
                  <a:pt x="18578" y="6297"/>
                  <a:pt x="18861" y="6278"/>
                  <a:pt x="19025" y="6127"/>
                </a:cubicBezTo>
                <a:cubicBezTo>
                  <a:pt x="19166" y="5997"/>
                  <a:pt x="19195" y="5812"/>
                  <a:pt x="19199" y="5631"/>
                </a:cubicBezTo>
                <a:cubicBezTo>
                  <a:pt x="19201" y="5543"/>
                  <a:pt x="19170" y="5378"/>
                  <a:pt x="19100" y="5308"/>
                </a:cubicBezTo>
                <a:cubicBezTo>
                  <a:pt x="19034" y="5242"/>
                  <a:pt x="18868" y="5131"/>
                  <a:pt x="18777" y="5110"/>
                </a:cubicBezTo>
                <a:cubicBezTo>
                  <a:pt x="18625" y="5075"/>
                  <a:pt x="18475" y="5151"/>
                  <a:pt x="18355" y="5234"/>
                </a:cubicBezTo>
                <a:cubicBezTo>
                  <a:pt x="18149" y="5376"/>
                  <a:pt x="18074" y="5637"/>
                  <a:pt x="18157" y="5879"/>
                </a:cubicBezTo>
                <a:cubicBezTo>
                  <a:pt x="18199" y="6003"/>
                  <a:pt x="18376" y="6193"/>
                  <a:pt x="18529" y="6152"/>
                </a:cubicBezTo>
                <a:cubicBezTo>
                  <a:pt x="18568" y="6142"/>
                  <a:pt x="18552" y="6134"/>
                  <a:pt x="18604" y="6127"/>
                </a:cubicBezTo>
              </a:path>
            </a:pathLst>
          </a:custGeom>
          <a:noFill/>
          <a:ln cap="rnd" w="349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081920" y="2313000"/>
            <a:ext cx="374400" cy="312840"/>
          </a:xfrm>
          <a:custGeom>
            <a:avLst/>
            <a:gdLst/>
            <a:ahLst/>
            <a:rect l="l" t="t" r="r" b="b"/>
            <a:pathLst>
              <a:path w="1043" h="870">
                <a:moveTo>
                  <a:pt x="20191" y="6672"/>
                </a:moveTo>
                <a:cubicBezTo>
                  <a:pt x="20191" y="6581"/>
                  <a:pt x="20173" y="6805"/>
                  <a:pt x="20166" y="6896"/>
                </a:cubicBezTo>
                <a:cubicBezTo>
                  <a:pt x="20166" y="6921"/>
                  <a:pt x="20166" y="6945"/>
                  <a:pt x="20166" y="6970"/>
                </a:cubicBezTo>
                <a:cubicBezTo>
                  <a:pt x="20171" y="6872"/>
                  <a:pt x="20191" y="6617"/>
                  <a:pt x="20191" y="6623"/>
                </a:cubicBezTo>
                <a:cubicBezTo>
                  <a:pt x="20191" y="6733"/>
                  <a:pt x="20207" y="6836"/>
                  <a:pt x="20216" y="6945"/>
                </a:cubicBezTo>
              </a:path>
              <a:path w="1043" h="870">
                <a:moveTo>
                  <a:pt x="19918" y="7020"/>
                </a:moveTo>
                <a:cubicBezTo>
                  <a:pt x="20044" y="7181"/>
                  <a:pt x="20182" y="7312"/>
                  <a:pt x="20414" y="7218"/>
                </a:cubicBezTo>
                <a:cubicBezTo>
                  <a:pt x="20661" y="7118"/>
                  <a:pt x="20838" y="6833"/>
                  <a:pt x="20613" y="6598"/>
                </a:cubicBezTo>
                <a:cubicBezTo>
                  <a:pt x="20275" y="6245"/>
                  <a:pt x="19887" y="6432"/>
                  <a:pt x="19720" y="6821"/>
                </a:cubicBezTo>
                <a:cubicBezTo>
                  <a:pt x="19563" y="7187"/>
                  <a:pt x="19748" y="7274"/>
                  <a:pt x="20042" y="7243"/>
                </a:cubicBezTo>
              </a:path>
            </a:pathLst>
          </a:custGeom>
          <a:noFill/>
          <a:ln cap="rnd" w="349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18160" y="2768760"/>
            <a:ext cx="411120" cy="357120"/>
          </a:xfrm>
          <a:custGeom>
            <a:avLst/>
            <a:gdLst/>
            <a:ahLst/>
            <a:rect l="l" t="t" r="r" b="b"/>
            <a:pathLst>
              <a:path w="1142" h="994">
                <a:moveTo>
                  <a:pt x="18554" y="7888"/>
                </a:moveTo>
                <a:cubicBezTo>
                  <a:pt x="18663" y="7872"/>
                  <a:pt x="18747" y="7844"/>
                  <a:pt x="18852" y="7863"/>
                </a:cubicBezTo>
                <a:cubicBezTo>
                  <a:pt x="18744" y="8039"/>
                  <a:pt x="18614" y="8140"/>
                  <a:pt x="18479" y="8285"/>
                </a:cubicBezTo>
                <a:cubicBezTo>
                  <a:pt x="18597" y="8316"/>
                  <a:pt x="18915" y="8255"/>
                  <a:pt x="18777" y="8310"/>
                </a:cubicBezTo>
              </a:path>
              <a:path w="1142" h="994">
                <a:moveTo>
                  <a:pt x="18107" y="8384"/>
                </a:moveTo>
                <a:cubicBezTo>
                  <a:pt x="18371" y="8572"/>
                  <a:pt x="18690" y="8659"/>
                  <a:pt x="19000" y="8458"/>
                </a:cubicBezTo>
                <a:cubicBezTo>
                  <a:pt x="19293" y="8268"/>
                  <a:pt x="19217" y="8089"/>
                  <a:pt x="19149" y="7838"/>
                </a:cubicBezTo>
                <a:cubicBezTo>
                  <a:pt x="18749" y="7692"/>
                  <a:pt x="18300" y="7706"/>
                  <a:pt x="18157" y="8260"/>
                </a:cubicBezTo>
                <a:cubicBezTo>
                  <a:pt x="18084" y="8541"/>
                  <a:pt x="18299" y="8591"/>
                  <a:pt x="18479" y="8682"/>
                </a:cubicBezTo>
              </a:path>
            </a:pathLst>
          </a:custGeom>
          <a:noFill/>
          <a:ln cap="rnd" w="349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518160" y="3938760"/>
            <a:ext cx="411120" cy="411120"/>
          </a:xfrm>
          <a:custGeom>
            <a:avLst/>
            <a:gdLst/>
            <a:ahLst/>
            <a:rect l="l" t="t" r="r" b="b"/>
            <a:pathLst>
              <a:path w="1142" h="1142">
                <a:moveTo>
                  <a:pt x="18504" y="11286"/>
                </a:moveTo>
                <a:cubicBezTo>
                  <a:pt x="18594" y="11268"/>
                  <a:pt x="18680" y="11261"/>
                  <a:pt x="18777" y="11261"/>
                </a:cubicBezTo>
                <a:cubicBezTo>
                  <a:pt x="18778" y="11515"/>
                  <a:pt x="18583" y="11535"/>
                  <a:pt x="18405" y="11683"/>
                </a:cubicBezTo>
                <a:cubicBezTo>
                  <a:pt x="18397" y="11700"/>
                  <a:pt x="18388" y="11716"/>
                  <a:pt x="18380" y="11733"/>
                </a:cubicBezTo>
                <a:cubicBezTo>
                  <a:pt x="18551" y="11770"/>
                  <a:pt x="18676" y="11765"/>
                  <a:pt x="18852" y="11757"/>
                </a:cubicBezTo>
              </a:path>
              <a:path w="1142" h="1142">
                <a:moveTo>
                  <a:pt x="18256" y="12005"/>
                </a:moveTo>
                <a:cubicBezTo>
                  <a:pt x="18536" y="12103"/>
                  <a:pt x="18767" y="12125"/>
                  <a:pt x="19025" y="11931"/>
                </a:cubicBezTo>
                <a:cubicBezTo>
                  <a:pt x="19323" y="11707"/>
                  <a:pt x="19318" y="11287"/>
                  <a:pt x="19000" y="11063"/>
                </a:cubicBezTo>
                <a:cubicBezTo>
                  <a:pt x="18548" y="10745"/>
                  <a:pt x="18097" y="11103"/>
                  <a:pt x="18107" y="11609"/>
                </a:cubicBezTo>
                <a:cubicBezTo>
                  <a:pt x="18114" y="11988"/>
                  <a:pt x="18513" y="12132"/>
                  <a:pt x="18827" y="12080"/>
                </a:cubicBezTo>
                <a:cubicBezTo>
                  <a:pt x="18873" y="12072"/>
                  <a:pt x="18863" y="12056"/>
                  <a:pt x="18901" y="12030"/>
                </a:cubicBezTo>
              </a:path>
            </a:pathLst>
          </a:custGeom>
          <a:noFill/>
          <a:ln cap="rnd" w="349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8T15:28:44Z</dcterms:created>
  <dc:creator>paander</dc:creator>
  <dc:description/>
  <dc:language>en-US</dc:language>
  <cp:lastModifiedBy>demcgra</cp:lastModifiedBy>
  <dcterms:modified xsi:type="dcterms:W3CDTF">2012-05-25T15:30:18Z</dcterms:modified>
  <cp:revision>9</cp:revision>
  <dc:subject/>
  <dc:title>Surface Area of Rectangular Prisms</dc:title>
</cp:coreProperties>
</file>